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8.jpeg" ContentType="image/jpeg"/>
  <Override PartName="/ppt/media/TYPE.WAV" ContentType="audio/x-wav"/>
  <Override PartName="/ppt/media/image4.png" ContentType="image/png"/>
  <Override PartName="/ppt/media/image3.wmf" ContentType="image/x-wmf"/>
  <Override PartName="/ppt/media/image5.png" ContentType="image/png"/>
  <Override PartName="/ppt/media/image10.png" ContentType="image/png"/>
  <Override PartName="/ppt/media/image27.jpeg" ContentType="image/jpeg"/>
  <Override PartName="/ppt/media/image20.jpeg" ContentType="image/jpe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29.png" ContentType="image/png"/>
  <Override PartName="/ppt/media/image2.png" ContentType="image/png"/>
  <Override PartName="/ppt/media/image25.png" ContentType="image/png"/>
  <Override PartName="/ppt/media/image8.png" ContentType="image/png"/>
  <Override PartName="/ppt/media/image16.wmf" ContentType="image/x-wmf"/>
  <Override PartName="/ppt/media/image1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8.wmf" ContentType="image/x-wmf"/>
  <Override PartName="/ppt/media/image26.jpeg" ContentType="image/jpeg"/>
  <Override PartName="/ppt/media/image19.wmf" ContentType="image/x-wmf"/>
  <Override PartName="/ppt/media/image21.png" ContentType="image/pn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2D19-BC67-446A-AB73-0964ABA5F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224-D807-4269-B1E2-BEDB14CD2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2383-6E30-4115-BEC5-BF2EE0490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that give rise to the fluorescenc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a repeated for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of the atom on 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ole selectio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hole final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alk I will focus on Kbeta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A7C-A03A-42D8-8B51-CB1C21F4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C28-F8A5-4403-BD3B-F8592BB5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DD8-2303-4133-AA53-30083DBB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B30-523B-49D9-B719-68D9D2DD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33B-D4E8-482D-A4AF-FFE322EA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45A-744E-4421-B5B9-AB3DF636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565-39E2-455D-8A0D-0AD8EF07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D0D-55B4-41A7-9540-C304BA50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DBD-2BCE-4870-AB04-C268B209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503-950F-4E83-A8F4-77E7E431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681-1BB4-469B-A64A-04A1134D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B6F-C41B-4527-ADA6-CE2601B6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B96F-DCE2-4628-938B-30FE3DC3608B}" type="datetime2">
              <a:rPr b="0" lang="en-US" sz="1000" spc="-1" strike="noStrike">
                <a:solidFill>
                  <a:srgbClr val="cccc00"/>
                </a:solidFill>
                <a:latin typeface="Arial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F072-6C0C-4F49-BEF2-99A93584626B}" type="slidenum">
              <a:rPr b="0" lang="en-US" sz="1000" spc="-1" strike="noStrike">
                <a:solidFill>
                  <a:srgbClr val="cc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cc33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cc33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57135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135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3760" y="1676520"/>
            <a:ext cx="33526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ngle Particle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s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rd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Multiplets: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2p, 3s, 3p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Soft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47920" y="1142640"/>
            <a:ext cx="0" cy="48006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62485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91120" y="2057040"/>
            <a:ext cx="0" cy="39625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54fe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676520"/>
            <a:ext cx="11430000" cy="3448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31  (^S0+   1-  S1- 0) (7*45)  DIM :2:3:4   ACTOR LEFT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--- MATRIX ----      PRINTTRANS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  8266.38   8267.11   8267.20   8267.69   8268.08   8268.54   8268.92   8269.48   8270.05   8270.33   8270.84   8271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---------------------------------------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-2.56114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0.000002  0.001663  0.017063  0.000084  0.041320  0.001037  0.171345  0.010649  0.032435  0.048425  0.007387  0.00673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7156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3400" y="365760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7480" y="35812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763120" cy="6208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2120" y="685800"/>
            <a:ext cx="198108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eng94a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 of Mn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6045" r="0" b="34215"/>
          <a:stretch/>
        </p:blipFill>
        <p:spPr>
          <a:xfrm>
            <a:off x="171360" y="1612800"/>
            <a:ext cx="9671040" cy="4383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emical Dependence of K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Emiss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93720" y="1309680"/>
            <a:ext cx="20196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37120" y="1309680"/>
            <a:ext cx="20196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l center-of-gravity energies used in calcula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Valence shifts in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247920" cy="6019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726080" y="457200"/>
            <a:ext cx="4110120" cy="6095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28600" y="1523880"/>
            <a:ext cx="1676520" cy="15940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82" name=""/>
          <p:cNvSpPr/>
          <p:nvPr/>
        </p:nvSpPr>
        <p:spPr>
          <a:xfrm flipV="1">
            <a:off x="2438280" y="4495320"/>
            <a:ext cx="312444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43200" y="2971440"/>
            <a:ext cx="2819520" cy="15238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267080"/>
            <a:ext cx="152280" cy="160020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4267080"/>
            <a:ext cx="152640" cy="16002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Valence selective 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28720" y="5638680"/>
            <a:ext cx="23324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Inorg. C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41, 3121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3004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600200" y="1523880"/>
                <a:ext cx="56386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3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086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523880" y="2930400"/>
                <a:ext cx="65534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ε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wes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8004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066680" y="5029200"/>
                <a:ext cx="76964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ε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P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pectrum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L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907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1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Charge transfer (ioni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Effect of excitation (1s XPS spectral shap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4000" cy="6477120"/>
            <a:chOff x="0" y="0"/>
            <a:chExt cx="9144000" cy="6477120"/>
          </a:xfrm>
        </p:grpSpPr>
        <p:sp>
          <p:nvSpPr>
            <p:cNvPr id="197" name=""/>
            <p:cNvSpPr/>
            <p:nvPr/>
          </p:nvSpPr>
          <p:spPr>
            <a:xfrm>
              <a:off x="0" y="0"/>
              <a:ext cx="9144000" cy="647712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840" y="60948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1s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840" y="300996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1s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54520" y="609480"/>
              <a:ext cx="216540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p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66960" y="570240"/>
              <a:ext cx="2526480" cy="45720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66960" y="3009960"/>
              <a:ext cx="2526480" cy="45720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54520" y="3009960"/>
              <a:ext cx="198540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p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720" y="137160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74160" y="129528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0720" y="365760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94760" y="3772080"/>
              <a:ext cx="2165400" cy="160020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99960 h 1600200"/>
                <a:gd name="textAreaBottom" fmla="*/ 12002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1080" y="548640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1s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87560" y="5486400"/>
              <a:ext cx="2526480" cy="45720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75120" y="5486400"/>
              <a:ext cx="1985040" cy="45720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p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18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kbct.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676520"/>
            <a:ext cx="9144000" cy="4362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MUL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CONF 3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2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3 1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2 = -5.5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2 = -5.5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3 = -3.7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3 = -3.7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MIX 2    2.0 -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4   1 1 2   1 2 3   2 1 2   2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HAM 2  1.0  1.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6   1 1   1 2   1 3   2 1   2 2   2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  3    1 1    2 2    3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kbct.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676520"/>
            <a:ext cx="9144000" cy="37530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and       nikbct.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spectrum istate ^S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istate S1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istate S1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istate ^S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DIF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istate S1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istate ^S0+ scale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7156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37339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7480" y="35812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ing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71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05920" cy="611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280" y="5562720"/>
            <a:ext cx="441972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Buto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 110, 213 (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54fe"/>
                </a:solidFill>
                <a:latin typeface="Arial"/>
              </a:rPr>
              <a:t>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861080" cy="5867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09920" y="5410080"/>
            <a:ext cx="22136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degroot94c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8588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0" y="685800"/>
                <a:ext cx="914400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/>
                                  <m:e>
                                    <m:f>
                                      <m:num>
                                        <m:r>
                                          <m:t xml:space="preserve">⟨</m:t>
                                        </m:r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⟩</m:t>
                                        </m:r>
                                        <m:r>
                                          <m:t xml:space="preserve">⟨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g</m:t>
                                        </m:r>
                                        <m:r>
                                          <m:t xml:space="preserve">⟩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g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i</m:t>
                                        </m:r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Γ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3" name="" descr=""/>
          <p:cNvPicPr/>
          <p:nvPr/>
        </p:nvPicPr>
        <p:blipFill>
          <a:blip r:embed="rId1"/>
          <a:srcRect l="61859" t="16428" r="0" b="7301"/>
          <a:stretch/>
        </p:blipFill>
        <p:spPr>
          <a:xfrm>
            <a:off x="0" y="2190600"/>
            <a:ext cx="316692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533520" y="609480"/>
            <a:ext cx="7239240" cy="5905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552720" y="1752480"/>
            <a:ext cx="25909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 edg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 to 4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91520" y="548640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8, 13452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7242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1600200"/>
            <a:ext cx="1562040" cy="2844720"/>
          </a:xfrm>
          <a:custGeom>
            <a:avLst/>
            <a:gdLst/>
            <a:ahLst/>
            <a:rect l="l" t="t" r="r" b="b"/>
            <a:pathLst>
              <a:path w="984" h="1792">
                <a:moveTo>
                  <a:pt x="0" y="1792"/>
                </a:moveTo>
                <a:cubicBezTo>
                  <a:pt x="12" y="1727"/>
                  <a:pt x="13" y="1632"/>
                  <a:pt x="72" y="1592"/>
                </a:cubicBezTo>
                <a:cubicBezTo>
                  <a:pt x="111" y="1534"/>
                  <a:pt x="113" y="1451"/>
                  <a:pt x="128" y="1384"/>
                </a:cubicBezTo>
                <a:cubicBezTo>
                  <a:pt x="159" y="1251"/>
                  <a:pt x="181" y="1118"/>
                  <a:pt x="208" y="984"/>
                </a:cubicBezTo>
                <a:cubicBezTo>
                  <a:pt x="216" y="943"/>
                  <a:pt x="227" y="814"/>
                  <a:pt x="264" y="784"/>
                </a:cubicBezTo>
                <a:cubicBezTo>
                  <a:pt x="293" y="761"/>
                  <a:pt x="349" y="750"/>
                  <a:pt x="384" y="744"/>
                </a:cubicBezTo>
                <a:cubicBezTo>
                  <a:pt x="441" y="687"/>
                  <a:pt x="455" y="603"/>
                  <a:pt x="480" y="528"/>
                </a:cubicBezTo>
                <a:cubicBezTo>
                  <a:pt x="489" y="502"/>
                  <a:pt x="503" y="482"/>
                  <a:pt x="512" y="456"/>
                </a:cubicBezTo>
                <a:cubicBezTo>
                  <a:pt x="520" y="395"/>
                  <a:pt x="526" y="331"/>
                  <a:pt x="544" y="272"/>
                </a:cubicBezTo>
                <a:cubicBezTo>
                  <a:pt x="556" y="233"/>
                  <a:pt x="576" y="192"/>
                  <a:pt x="584" y="152"/>
                </a:cubicBezTo>
                <a:cubicBezTo>
                  <a:pt x="596" y="91"/>
                  <a:pt x="598" y="22"/>
                  <a:pt x="664" y="0"/>
                </a:cubicBezTo>
                <a:cubicBezTo>
                  <a:pt x="675" y="3"/>
                  <a:pt x="687" y="2"/>
                  <a:pt x="696" y="8"/>
                </a:cubicBezTo>
                <a:cubicBezTo>
                  <a:pt x="726" y="28"/>
                  <a:pt x="718" y="77"/>
                  <a:pt x="736" y="104"/>
                </a:cubicBezTo>
                <a:cubicBezTo>
                  <a:pt x="741" y="112"/>
                  <a:pt x="748" y="119"/>
                  <a:pt x="752" y="128"/>
                </a:cubicBezTo>
                <a:cubicBezTo>
                  <a:pt x="756" y="136"/>
                  <a:pt x="756" y="145"/>
                  <a:pt x="760" y="152"/>
                </a:cubicBezTo>
                <a:cubicBezTo>
                  <a:pt x="774" y="177"/>
                  <a:pt x="799" y="197"/>
                  <a:pt x="808" y="224"/>
                </a:cubicBezTo>
                <a:cubicBezTo>
                  <a:pt x="834" y="303"/>
                  <a:pt x="897" y="368"/>
                  <a:pt x="984" y="368"/>
                </a:cubicBezTo>
              </a:path>
            </a:pathLst>
          </a:custGeom>
          <a:solidFill>
            <a:srgbClr val="ff3300"/>
          </a:solidFill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3800" y="33526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Pre-edge: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s to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838080"/>
            <a:ext cx="236232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31560" y="879840"/>
            <a:ext cx="315432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 XAS 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48320" y="2057400"/>
            <a:ext cx="449568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uadrupole to 3d-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ipole to 4p-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cay of 2p-electron into 1s-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648320" cy="4557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400800" y="838080"/>
            <a:ext cx="236232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5455440"/>
            <a:ext cx="5867640" cy="58140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nal state identical to 2p 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86680" y="879840"/>
            <a:ext cx="374076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2p RIXS 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410080" y="3962520"/>
            <a:ext cx="373392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oft x-ray spect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ith hard x-ray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5502240" cy="5943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5800" y="963360"/>
            <a:ext cx="1905120" cy="4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s2p RIX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914400"/>
            <a:ext cx="1562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p-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42240" y="541008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8, 13452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86680" y="879840"/>
            <a:ext cx="374076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2p RIXS 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876920" y="2189160"/>
            <a:ext cx="4647960" cy="40813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38000" y="636840"/>
            <a:ext cx="2236680" cy="113616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s3p RIX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Fe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80" y="609480"/>
            <a:ext cx="5557680" cy="5850720"/>
            <a:chOff x="4680" y="609480"/>
            <a:chExt cx="5557680" cy="5850720"/>
          </a:xfrm>
        </p:grpSpPr>
        <p:sp>
          <p:nvSpPr>
            <p:cNvPr id="260" name=""/>
            <p:cNvSpPr/>
            <p:nvPr/>
          </p:nvSpPr>
          <p:spPr>
            <a:xfrm>
              <a:off x="560160" y="676800"/>
              <a:ext cx="4999680" cy="529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0160" y="5970600"/>
              <a:ext cx="499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0160" y="676800"/>
              <a:ext cx="499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6016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56020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0160" y="5970600"/>
              <a:ext cx="499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6016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24344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4344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5156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97640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7640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69280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9280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9876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2792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792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3208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14432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4432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4812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877280" y="5910480"/>
              <a:ext cx="180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77280" y="676800"/>
              <a:ext cx="18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81080" y="60213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1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0160" y="594036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493600" y="594036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520" y="5840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0160" y="527904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493600" y="527904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7520" y="517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0160" y="463248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493600" y="463248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7520" y="4532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0160" y="397116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493600" y="397116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520" y="38714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0160" y="332244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493600" y="332244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7520" y="3224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0160" y="267624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493600" y="267624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7520" y="25783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0160" y="201456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493600" y="201456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7520" y="1917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0160" y="1368360"/>
              <a:ext cx="6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493600" y="1368360"/>
              <a:ext cx="66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7520" y="1270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0160" y="707040"/>
              <a:ext cx="6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493600" y="707040"/>
              <a:ext cx="66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7520" y="609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0160" y="676800"/>
              <a:ext cx="499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2817"/>
                  </a:moveTo>
                  <a:lnTo>
                    <a:pt x="2401" y="2817"/>
                  </a:lnTo>
                  <a:lnTo>
                    <a:pt x="240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60160" y="676440"/>
              <a:ext cx="2160" cy="52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0160" y="676800"/>
              <a:ext cx="4999680" cy="5293800"/>
            </a:xfrm>
            <a:custGeom>
              <a:avLst/>
              <a:gdLst/>
              <a:ahLst/>
              <a:rect l="l" t="t" r="r" b="b"/>
              <a:pathLst>
                <a:path w="2401" h="2817">
                  <a:moveTo>
                    <a:pt x="0" y="0"/>
                  </a:moveTo>
                  <a:lnTo>
                    <a:pt x="56" y="0"/>
                  </a:lnTo>
                  <a:lnTo>
                    <a:pt x="104" y="0"/>
                  </a:lnTo>
                  <a:lnTo>
                    <a:pt x="160" y="0"/>
                  </a:lnTo>
                  <a:lnTo>
                    <a:pt x="208" y="0"/>
                  </a:lnTo>
                  <a:lnTo>
                    <a:pt x="264" y="0"/>
                  </a:lnTo>
                  <a:lnTo>
                    <a:pt x="312" y="0"/>
                  </a:lnTo>
                  <a:lnTo>
                    <a:pt x="368" y="0"/>
                  </a:lnTo>
                  <a:lnTo>
                    <a:pt x="416" y="0"/>
                  </a:lnTo>
                  <a:lnTo>
                    <a:pt x="472" y="0"/>
                  </a:lnTo>
                  <a:lnTo>
                    <a:pt x="520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37"/>
                  </a:lnTo>
                  <a:lnTo>
                    <a:pt x="2401" y="2193"/>
                  </a:lnTo>
                  <a:lnTo>
                    <a:pt x="2401" y="2241"/>
                  </a:lnTo>
                  <a:lnTo>
                    <a:pt x="2401" y="2297"/>
                  </a:lnTo>
                  <a:lnTo>
                    <a:pt x="2401" y="2345"/>
                  </a:lnTo>
                  <a:lnTo>
                    <a:pt x="2401" y="2401"/>
                  </a:lnTo>
                  <a:lnTo>
                    <a:pt x="2401" y="2449"/>
                  </a:lnTo>
                  <a:lnTo>
                    <a:pt x="2401" y="2505"/>
                  </a:lnTo>
                  <a:lnTo>
                    <a:pt x="2401" y="2553"/>
                  </a:lnTo>
                  <a:lnTo>
                    <a:pt x="2401" y="2609"/>
                  </a:lnTo>
                  <a:lnTo>
                    <a:pt x="2401" y="2657"/>
                  </a:lnTo>
                  <a:lnTo>
                    <a:pt x="2401" y="2713"/>
                  </a:lnTo>
                  <a:lnTo>
                    <a:pt x="2401" y="2761"/>
                  </a:lnTo>
                  <a:lnTo>
                    <a:pt x="2401" y="2817"/>
                  </a:lnTo>
                  <a:lnTo>
                    <a:pt x="2401" y="2817"/>
                  </a:lnTo>
                  <a:lnTo>
                    <a:pt x="2345" y="2817"/>
                  </a:lnTo>
                  <a:lnTo>
                    <a:pt x="2297" y="2817"/>
                  </a:lnTo>
                  <a:lnTo>
                    <a:pt x="2241" y="2817"/>
                  </a:lnTo>
                  <a:lnTo>
                    <a:pt x="2193" y="2817"/>
                  </a:lnTo>
                  <a:lnTo>
                    <a:pt x="2137" y="2817"/>
                  </a:lnTo>
                  <a:lnTo>
                    <a:pt x="2089" y="2817"/>
                  </a:lnTo>
                  <a:lnTo>
                    <a:pt x="2033" y="2817"/>
                  </a:lnTo>
                  <a:lnTo>
                    <a:pt x="1985" y="2817"/>
                  </a:lnTo>
                  <a:lnTo>
                    <a:pt x="1929" y="2817"/>
                  </a:lnTo>
                  <a:lnTo>
                    <a:pt x="1881" y="2817"/>
                  </a:lnTo>
                  <a:lnTo>
                    <a:pt x="1825" y="2817"/>
                  </a:lnTo>
                  <a:lnTo>
                    <a:pt x="1777" y="2817"/>
                  </a:lnTo>
                  <a:lnTo>
                    <a:pt x="1721" y="2817"/>
                  </a:lnTo>
                  <a:lnTo>
                    <a:pt x="1673" y="2817"/>
                  </a:lnTo>
                  <a:lnTo>
                    <a:pt x="1617" y="2817"/>
                  </a:lnTo>
                  <a:lnTo>
                    <a:pt x="1569" y="2817"/>
                  </a:lnTo>
                  <a:lnTo>
                    <a:pt x="1513" y="2817"/>
                  </a:lnTo>
                  <a:lnTo>
                    <a:pt x="1465" y="2817"/>
                  </a:lnTo>
                  <a:lnTo>
                    <a:pt x="1409" y="2817"/>
                  </a:lnTo>
                  <a:lnTo>
                    <a:pt x="1361" y="2817"/>
                  </a:lnTo>
                  <a:lnTo>
                    <a:pt x="1305" y="2817"/>
                  </a:lnTo>
                  <a:lnTo>
                    <a:pt x="1257" y="2817"/>
                  </a:lnTo>
                  <a:lnTo>
                    <a:pt x="1201" y="2817"/>
                  </a:lnTo>
                  <a:lnTo>
                    <a:pt x="1145" y="2817"/>
                  </a:lnTo>
                  <a:lnTo>
                    <a:pt x="1096" y="2817"/>
                  </a:lnTo>
                  <a:lnTo>
                    <a:pt x="1040" y="2817"/>
                  </a:lnTo>
                  <a:lnTo>
                    <a:pt x="992" y="2817"/>
                  </a:lnTo>
                  <a:lnTo>
                    <a:pt x="936" y="2817"/>
                  </a:lnTo>
                  <a:lnTo>
                    <a:pt x="888" y="2817"/>
                  </a:lnTo>
                  <a:lnTo>
                    <a:pt x="832" y="2817"/>
                  </a:lnTo>
                  <a:lnTo>
                    <a:pt x="784" y="2817"/>
                  </a:lnTo>
                  <a:lnTo>
                    <a:pt x="728" y="2817"/>
                  </a:lnTo>
                  <a:lnTo>
                    <a:pt x="680" y="2817"/>
                  </a:lnTo>
                  <a:lnTo>
                    <a:pt x="624" y="2817"/>
                  </a:lnTo>
                  <a:lnTo>
                    <a:pt x="576" y="2817"/>
                  </a:lnTo>
                  <a:lnTo>
                    <a:pt x="520" y="2817"/>
                  </a:lnTo>
                  <a:lnTo>
                    <a:pt x="472" y="2817"/>
                  </a:lnTo>
                  <a:lnTo>
                    <a:pt x="416" y="2817"/>
                  </a:lnTo>
                  <a:lnTo>
                    <a:pt x="368" y="2817"/>
                  </a:lnTo>
                  <a:lnTo>
                    <a:pt x="312" y="2817"/>
                  </a:lnTo>
                  <a:lnTo>
                    <a:pt x="264" y="2817"/>
                  </a:lnTo>
                  <a:lnTo>
                    <a:pt x="208" y="2817"/>
                  </a:lnTo>
                  <a:lnTo>
                    <a:pt x="160" y="2817"/>
                  </a:lnTo>
                  <a:lnTo>
                    <a:pt x="104" y="2817"/>
                  </a:lnTo>
                  <a:lnTo>
                    <a:pt x="56" y="2817"/>
                  </a:lnTo>
                  <a:lnTo>
                    <a:pt x="0" y="2817"/>
                  </a:lnTo>
                  <a:lnTo>
                    <a:pt x="0" y="2817"/>
                  </a:lnTo>
                  <a:lnTo>
                    <a:pt x="0" y="2761"/>
                  </a:lnTo>
                  <a:lnTo>
                    <a:pt x="0" y="2713"/>
                  </a:lnTo>
                  <a:lnTo>
                    <a:pt x="0" y="2657"/>
                  </a:lnTo>
                  <a:lnTo>
                    <a:pt x="0" y="2609"/>
                  </a:lnTo>
                  <a:lnTo>
                    <a:pt x="0" y="2553"/>
                  </a:lnTo>
                  <a:lnTo>
                    <a:pt x="0" y="2505"/>
                  </a:lnTo>
                  <a:lnTo>
                    <a:pt x="0" y="2449"/>
                  </a:lnTo>
                  <a:lnTo>
                    <a:pt x="0" y="2401"/>
                  </a:lnTo>
                  <a:lnTo>
                    <a:pt x="0" y="2345"/>
                  </a:lnTo>
                  <a:lnTo>
                    <a:pt x="0" y="2297"/>
                  </a:lnTo>
                  <a:lnTo>
                    <a:pt x="0" y="2241"/>
                  </a:lnTo>
                  <a:lnTo>
                    <a:pt x="0" y="2193"/>
                  </a:lnTo>
                  <a:lnTo>
                    <a:pt x="0" y="2137"/>
                  </a:lnTo>
                  <a:lnTo>
                    <a:pt x="0" y="2089"/>
                  </a:lnTo>
                  <a:lnTo>
                    <a:pt x="0" y="2033"/>
                  </a:lnTo>
                  <a:lnTo>
                    <a:pt x="0" y="1985"/>
                  </a:lnTo>
                  <a:lnTo>
                    <a:pt x="0" y="1929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92"/>
                  </a:lnTo>
                  <a:lnTo>
                    <a:pt x="0" y="936"/>
                  </a:lnTo>
                  <a:lnTo>
                    <a:pt x="0" y="888"/>
                  </a:lnTo>
                  <a:lnTo>
                    <a:pt x="0" y="832"/>
                  </a:lnTo>
                  <a:lnTo>
                    <a:pt x="0" y="784"/>
                  </a:lnTo>
                  <a:lnTo>
                    <a:pt x="0" y="728"/>
                  </a:lnTo>
                  <a:lnTo>
                    <a:pt x="0" y="680"/>
                  </a:lnTo>
                  <a:lnTo>
                    <a:pt x="0" y="624"/>
                  </a:lnTo>
                  <a:lnTo>
                    <a:pt x="0" y="576"/>
                  </a:lnTo>
                  <a:lnTo>
                    <a:pt x="0" y="520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6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0" y="208"/>
                  </a:lnTo>
                  <a:lnTo>
                    <a:pt x="0" y="160"/>
                  </a:lnTo>
                  <a:lnTo>
                    <a:pt x="0" y="10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0160" y="676800"/>
              <a:ext cx="4999680" cy="5218200"/>
            </a:xfrm>
            <a:custGeom>
              <a:avLst/>
              <a:gdLst/>
              <a:ahLst/>
              <a:rect l="l" t="t" r="r" b="b"/>
              <a:pathLst>
                <a:path w="2401" h="2777">
                  <a:moveTo>
                    <a:pt x="0" y="1064"/>
                  </a:moveTo>
                  <a:lnTo>
                    <a:pt x="24" y="1040"/>
                  </a:lnTo>
                  <a:lnTo>
                    <a:pt x="56" y="1024"/>
                  </a:lnTo>
                  <a:lnTo>
                    <a:pt x="64" y="992"/>
                  </a:lnTo>
                  <a:lnTo>
                    <a:pt x="88" y="936"/>
                  </a:lnTo>
                  <a:lnTo>
                    <a:pt x="96" y="888"/>
                  </a:lnTo>
                  <a:lnTo>
                    <a:pt x="104" y="840"/>
                  </a:lnTo>
                  <a:lnTo>
                    <a:pt x="120" y="888"/>
                  </a:lnTo>
                  <a:lnTo>
                    <a:pt x="160" y="936"/>
                  </a:lnTo>
                  <a:lnTo>
                    <a:pt x="168" y="888"/>
                  </a:lnTo>
                  <a:lnTo>
                    <a:pt x="184" y="832"/>
                  </a:lnTo>
                  <a:lnTo>
                    <a:pt x="200" y="784"/>
                  </a:lnTo>
                  <a:lnTo>
                    <a:pt x="208" y="752"/>
                  </a:lnTo>
                  <a:lnTo>
                    <a:pt x="224" y="728"/>
                  </a:lnTo>
                  <a:lnTo>
                    <a:pt x="208" y="712"/>
                  </a:lnTo>
                  <a:lnTo>
                    <a:pt x="200" y="680"/>
                  </a:lnTo>
                  <a:lnTo>
                    <a:pt x="208" y="648"/>
                  </a:lnTo>
                  <a:lnTo>
                    <a:pt x="224" y="624"/>
                  </a:lnTo>
                  <a:lnTo>
                    <a:pt x="248" y="576"/>
                  </a:lnTo>
                  <a:lnTo>
                    <a:pt x="264" y="552"/>
                  </a:lnTo>
                  <a:lnTo>
                    <a:pt x="312" y="560"/>
                  </a:lnTo>
                  <a:lnTo>
                    <a:pt x="336" y="520"/>
                  </a:lnTo>
                  <a:lnTo>
                    <a:pt x="360" y="472"/>
                  </a:lnTo>
                  <a:lnTo>
                    <a:pt x="368" y="456"/>
                  </a:lnTo>
                  <a:lnTo>
                    <a:pt x="400" y="416"/>
                  </a:lnTo>
                  <a:lnTo>
                    <a:pt x="416" y="400"/>
                  </a:lnTo>
                  <a:lnTo>
                    <a:pt x="432" y="368"/>
                  </a:lnTo>
                  <a:lnTo>
                    <a:pt x="440" y="312"/>
                  </a:lnTo>
                  <a:lnTo>
                    <a:pt x="440" y="264"/>
                  </a:lnTo>
                  <a:lnTo>
                    <a:pt x="448" y="208"/>
                  </a:lnTo>
                  <a:lnTo>
                    <a:pt x="472" y="160"/>
                  </a:lnTo>
                  <a:lnTo>
                    <a:pt x="520" y="208"/>
                  </a:lnTo>
                  <a:lnTo>
                    <a:pt x="520" y="216"/>
                  </a:lnTo>
                  <a:lnTo>
                    <a:pt x="528" y="208"/>
                  </a:lnTo>
                  <a:lnTo>
                    <a:pt x="552" y="160"/>
                  </a:lnTo>
                  <a:lnTo>
                    <a:pt x="520" y="144"/>
                  </a:lnTo>
                  <a:lnTo>
                    <a:pt x="480" y="104"/>
                  </a:lnTo>
                  <a:lnTo>
                    <a:pt x="520" y="64"/>
                  </a:lnTo>
                  <a:lnTo>
                    <a:pt x="528" y="56"/>
                  </a:lnTo>
                  <a:lnTo>
                    <a:pt x="544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21"/>
                  </a:lnTo>
                  <a:lnTo>
                    <a:pt x="2377" y="2137"/>
                  </a:lnTo>
                  <a:lnTo>
                    <a:pt x="2361" y="2193"/>
                  </a:lnTo>
                  <a:lnTo>
                    <a:pt x="2345" y="2201"/>
                  </a:lnTo>
                  <a:lnTo>
                    <a:pt x="2337" y="2193"/>
                  </a:lnTo>
                  <a:lnTo>
                    <a:pt x="2297" y="2185"/>
                  </a:lnTo>
                  <a:lnTo>
                    <a:pt x="2241" y="2177"/>
                  </a:lnTo>
                  <a:lnTo>
                    <a:pt x="2241" y="2193"/>
                  </a:lnTo>
                  <a:lnTo>
                    <a:pt x="2193" y="2233"/>
                  </a:lnTo>
                  <a:lnTo>
                    <a:pt x="2137" y="2209"/>
                  </a:lnTo>
                  <a:lnTo>
                    <a:pt x="2097" y="2241"/>
                  </a:lnTo>
                  <a:lnTo>
                    <a:pt x="2089" y="2265"/>
                  </a:lnTo>
                  <a:lnTo>
                    <a:pt x="2033" y="2289"/>
                  </a:lnTo>
                  <a:lnTo>
                    <a:pt x="2017" y="2297"/>
                  </a:lnTo>
                  <a:lnTo>
                    <a:pt x="1985" y="2305"/>
                  </a:lnTo>
                  <a:lnTo>
                    <a:pt x="1929" y="2337"/>
                  </a:lnTo>
                  <a:lnTo>
                    <a:pt x="1913" y="2345"/>
                  </a:lnTo>
                  <a:lnTo>
                    <a:pt x="1897" y="2401"/>
                  </a:lnTo>
                  <a:lnTo>
                    <a:pt x="1897" y="2449"/>
                  </a:lnTo>
                  <a:lnTo>
                    <a:pt x="1881" y="2473"/>
                  </a:lnTo>
                  <a:lnTo>
                    <a:pt x="1841" y="2449"/>
                  </a:lnTo>
                  <a:lnTo>
                    <a:pt x="1825" y="2441"/>
                  </a:lnTo>
                  <a:lnTo>
                    <a:pt x="1777" y="2449"/>
                  </a:lnTo>
                  <a:lnTo>
                    <a:pt x="1769" y="2449"/>
                  </a:lnTo>
                  <a:lnTo>
                    <a:pt x="1745" y="2505"/>
                  </a:lnTo>
                  <a:lnTo>
                    <a:pt x="1721" y="2553"/>
                  </a:lnTo>
                  <a:lnTo>
                    <a:pt x="1721" y="2553"/>
                  </a:lnTo>
                  <a:lnTo>
                    <a:pt x="1673" y="2609"/>
                  </a:lnTo>
                  <a:lnTo>
                    <a:pt x="1665" y="2609"/>
                  </a:lnTo>
                  <a:lnTo>
                    <a:pt x="1617" y="2633"/>
                  </a:lnTo>
                  <a:lnTo>
                    <a:pt x="1577" y="2657"/>
                  </a:lnTo>
                  <a:lnTo>
                    <a:pt x="1569" y="2681"/>
                  </a:lnTo>
                  <a:lnTo>
                    <a:pt x="1513" y="2705"/>
                  </a:lnTo>
                  <a:lnTo>
                    <a:pt x="1497" y="2713"/>
                  </a:lnTo>
                  <a:lnTo>
                    <a:pt x="1513" y="2737"/>
                  </a:lnTo>
                  <a:lnTo>
                    <a:pt x="1545" y="2761"/>
                  </a:lnTo>
                  <a:lnTo>
                    <a:pt x="1513" y="2777"/>
                  </a:lnTo>
                  <a:lnTo>
                    <a:pt x="1465" y="2777"/>
                  </a:lnTo>
                  <a:lnTo>
                    <a:pt x="1441" y="2761"/>
                  </a:lnTo>
                  <a:lnTo>
                    <a:pt x="1409" y="2753"/>
                  </a:lnTo>
                  <a:lnTo>
                    <a:pt x="1361" y="2753"/>
                  </a:lnTo>
                  <a:lnTo>
                    <a:pt x="1305" y="2737"/>
                  </a:lnTo>
                  <a:lnTo>
                    <a:pt x="1265" y="2713"/>
                  </a:lnTo>
                  <a:lnTo>
                    <a:pt x="1257" y="2705"/>
                  </a:lnTo>
                  <a:lnTo>
                    <a:pt x="1241" y="2713"/>
                  </a:lnTo>
                  <a:lnTo>
                    <a:pt x="1201" y="2729"/>
                  </a:lnTo>
                  <a:lnTo>
                    <a:pt x="1145" y="2745"/>
                  </a:lnTo>
                  <a:lnTo>
                    <a:pt x="1096" y="2729"/>
                  </a:lnTo>
                  <a:lnTo>
                    <a:pt x="1040" y="2729"/>
                  </a:lnTo>
                  <a:lnTo>
                    <a:pt x="992" y="2737"/>
                  </a:lnTo>
                  <a:lnTo>
                    <a:pt x="960" y="2713"/>
                  </a:lnTo>
                  <a:lnTo>
                    <a:pt x="936" y="2697"/>
                  </a:lnTo>
                  <a:lnTo>
                    <a:pt x="928" y="2657"/>
                  </a:lnTo>
                  <a:lnTo>
                    <a:pt x="912" y="2609"/>
                  </a:lnTo>
                  <a:lnTo>
                    <a:pt x="888" y="2577"/>
                  </a:lnTo>
                  <a:lnTo>
                    <a:pt x="864" y="2553"/>
                  </a:lnTo>
                  <a:lnTo>
                    <a:pt x="840" y="2505"/>
                  </a:lnTo>
                  <a:lnTo>
                    <a:pt x="832" y="2497"/>
                  </a:lnTo>
                  <a:lnTo>
                    <a:pt x="816" y="2449"/>
                  </a:lnTo>
                  <a:lnTo>
                    <a:pt x="784" y="2417"/>
                  </a:lnTo>
                  <a:lnTo>
                    <a:pt x="752" y="2401"/>
                  </a:lnTo>
                  <a:lnTo>
                    <a:pt x="728" y="2385"/>
                  </a:lnTo>
                  <a:lnTo>
                    <a:pt x="680" y="2393"/>
                  </a:lnTo>
                  <a:lnTo>
                    <a:pt x="648" y="2345"/>
                  </a:lnTo>
                  <a:lnTo>
                    <a:pt x="624" y="2313"/>
                  </a:lnTo>
                  <a:lnTo>
                    <a:pt x="576" y="2321"/>
                  </a:lnTo>
                  <a:lnTo>
                    <a:pt x="560" y="2297"/>
                  </a:lnTo>
                  <a:lnTo>
                    <a:pt x="520" y="2257"/>
                  </a:lnTo>
                  <a:lnTo>
                    <a:pt x="496" y="2241"/>
                  </a:lnTo>
                  <a:lnTo>
                    <a:pt x="472" y="2225"/>
                  </a:lnTo>
                  <a:lnTo>
                    <a:pt x="416" y="2209"/>
                  </a:lnTo>
                  <a:lnTo>
                    <a:pt x="400" y="2193"/>
                  </a:lnTo>
                  <a:lnTo>
                    <a:pt x="368" y="2145"/>
                  </a:lnTo>
                  <a:lnTo>
                    <a:pt x="360" y="2137"/>
                  </a:lnTo>
                  <a:lnTo>
                    <a:pt x="320" y="2089"/>
                  </a:lnTo>
                  <a:lnTo>
                    <a:pt x="312" y="2081"/>
                  </a:lnTo>
                  <a:lnTo>
                    <a:pt x="264" y="2033"/>
                  </a:lnTo>
                  <a:lnTo>
                    <a:pt x="264" y="2033"/>
                  </a:lnTo>
                  <a:lnTo>
                    <a:pt x="248" y="2033"/>
                  </a:lnTo>
                  <a:lnTo>
                    <a:pt x="208" y="2033"/>
                  </a:lnTo>
                  <a:lnTo>
                    <a:pt x="208" y="2033"/>
                  </a:lnTo>
                  <a:lnTo>
                    <a:pt x="160" y="2001"/>
                  </a:lnTo>
                  <a:lnTo>
                    <a:pt x="128" y="1985"/>
                  </a:lnTo>
                  <a:lnTo>
                    <a:pt x="104" y="1945"/>
                  </a:lnTo>
                  <a:lnTo>
                    <a:pt x="88" y="1929"/>
                  </a:lnTo>
                  <a:lnTo>
                    <a:pt x="56" y="1897"/>
                  </a:lnTo>
                  <a:lnTo>
                    <a:pt x="0" y="1905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64"/>
                  </a:lnTo>
                  <a:close/>
                </a:path>
              </a:pathLst>
            </a:custGeom>
            <a:solidFill>
              <a:srgbClr val="00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0160" y="676800"/>
              <a:ext cx="4999680" cy="5218200"/>
            </a:xfrm>
            <a:custGeom>
              <a:avLst/>
              <a:gdLst/>
              <a:ahLst/>
              <a:rect l="l" t="t" r="r" b="b"/>
              <a:pathLst>
                <a:path w="2401" h="2777">
                  <a:moveTo>
                    <a:pt x="0" y="1064"/>
                  </a:moveTo>
                  <a:lnTo>
                    <a:pt x="24" y="1040"/>
                  </a:lnTo>
                  <a:lnTo>
                    <a:pt x="56" y="1024"/>
                  </a:lnTo>
                  <a:lnTo>
                    <a:pt x="64" y="992"/>
                  </a:lnTo>
                  <a:lnTo>
                    <a:pt x="88" y="936"/>
                  </a:lnTo>
                  <a:lnTo>
                    <a:pt x="96" y="888"/>
                  </a:lnTo>
                  <a:lnTo>
                    <a:pt x="104" y="840"/>
                  </a:lnTo>
                  <a:lnTo>
                    <a:pt x="120" y="888"/>
                  </a:lnTo>
                  <a:lnTo>
                    <a:pt x="160" y="936"/>
                  </a:lnTo>
                  <a:lnTo>
                    <a:pt x="168" y="888"/>
                  </a:lnTo>
                  <a:lnTo>
                    <a:pt x="184" y="832"/>
                  </a:lnTo>
                  <a:lnTo>
                    <a:pt x="200" y="784"/>
                  </a:lnTo>
                  <a:lnTo>
                    <a:pt x="208" y="752"/>
                  </a:lnTo>
                  <a:lnTo>
                    <a:pt x="224" y="728"/>
                  </a:lnTo>
                  <a:lnTo>
                    <a:pt x="208" y="712"/>
                  </a:lnTo>
                  <a:lnTo>
                    <a:pt x="200" y="680"/>
                  </a:lnTo>
                  <a:lnTo>
                    <a:pt x="208" y="648"/>
                  </a:lnTo>
                  <a:lnTo>
                    <a:pt x="224" y="624"/>
                  </a:lnTo>
                  <a:lnTo>
                    <a:pt x="248" y="576"/>
                  </a:lnTo>
                  <a:lnTo>
                    <a:pt x="264" y="552"/>
                  </a:lnTo>
                  <a:lnTo>
                    <a:pt x="312" y="560"/>
                  </a:lnTo>
                  <a:lnTo>
                    <a:pt x="336" y="520"/>
                  </a:lnTo>
                  <a:lnTo>
                    <a:pt x="360" y="472"/>
                  </a:lnTo>
                  <a:lnTo>
                    <a:pt x="368" y="456"/>
                  </a:lnTo>
                  <a:lnTo>
                    <a:pt x="400" y="416"/>
                  </a:lnTo>
                  <a:lnTo>
                    <a:pt x="416" y="400"/>
                  </a:lnTo>
                  <a:lnTo>
                    <a:pt x="432" y="368"/>
                  </a:lnTo>
                  <a:lnTo>
                    <a:pt x="440" y="312"/>
                  </a:lnTo>
                  <a:lnTo>
                    <a:pt x="440" y="264"/>
                  </a:lnTo>
                  <a:lnTo>
                    <a:pt x="448" y="208"/>
                  </a:lnTo>
                  <a:lnTo>
                    <a:pt x="472" y="160"/>
                  </a:lnTo>
                  <a:lnTo>
                    <a:pt x="520" y="208"/>
                  </a:lnTo>
                  <a:lnTo>
                    <a:pt x="520" y="216"/>
                  </a:lnTo>
                  <a:lnTo>
                    <a:pt x="528" y="208"/>
                  </a:lnTo>
                  <a:lnTo>
                    <a:pt x="552" y="160"/>
                  </a:lnTo>
                  <a:lnTo>
                    <a:pt x="520" y="144"/>
                  </a:lnTo>
                  <a:lnTo>
                    <a:pt x="480" y="104"/>
                  </a:lnTo>
                  <a:lnTo>
                    <a:pt x="520" y="64"/>
                  </a:lnTo>
                  <a:lnTo>
                    <a:pt x="528" y="56"/>
                  </a:lnTo>
                  <a:lnTo>
                    <a:pt x="544" y="0"/>
                  </a:lnTo>
                  <a:lnTo>
                    <a:pt x="576" y="0"/>
                  </a:lnTo>
                  <a:lnTo>
                    <a:pt x="624" y="0"/>
                  </a:lnTo>
                  <a:lnTo>
                    <a:pt x="680" y="0"/>
                  </a:lnTo>
                  <a:lnTo>
                    <a:pt x="728" y="0"/>
                  </a:lnTo>
                  <a:lnTo>
                    <a:pt x="784" y="0"/>
                  </a:lnTo>
                  <a:lnTo>
                    <a:pt x="83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92" y="0"/>
                  </a:lnTo>
                  <a:lnTo>
                    <a:pt x="1040" y="0"/>
                  </a:lnTo>
                  <a:lnTo>
                    <a:pt x="1096" y="0"/>
                  </a:lnTo>
                  <a:lnTo>
                    <a:pt x="1145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825" y="0"/>
                  </a:lnTo>
                  <a:lnTo>
                    <a:pt x="1881" y="0"/>
                  </a:lnTo>
                  <a:lnTo>
                    <a:pt x="1929" y="0"/>
                  </a:lnTo>
                  <a:lnTo>
                    <a:pt x="1985" y="0"/>
                  </a:lnTo>
                  <a:lnTo>
                    <a:pt x="2033" y="0"/>
                  </a:lnTo>
                  <a:lnTo>
                    <a:pt x="2089" y="0"/>
                  </a:lnTo>
                  <a:lnTo>
                    <a:pt x="2137" y="0"/>
                  </a:lnTo>
                  <a:lnTo>
                    <a:pt x="2193" y="0"/>
                  </a:lnTo>
                  <a:lnTo>
                    <a:pt x="2241" y="0"/>
                  </a:lnTo>
                  <a:lnTo>
                    <a:pt x="2297" y="0"/>
                  </a:lnTo>
                  <a:lnTo>
                    <a:pt x="2345" y="0"/>
                  </a:lnTo>
                  <a:lnTo>
                    <a:pt x="2401" y="0"/>
                  </a:lnTo>
                  <a:lnTo>
                    <a:pt x="2401" y="0"/>
                  </a:lnTo>
                  <a:lnTo>
                    <a:pt x="2401" y="56"/>
                  </a:lnTo>
                  <a:lnTo>
                    <a:pt x="2401" y="104"/>
                  </a:lnTo>
                  <a:lnTo>
                    <a:pt x="2401" y="160"/>
                  </a:lnTo>
                  <a:lnTo>
                    <a:pt x="2401" y="208"/>
                  </a:lnTo>
                  <a:lnTo>
                    <a:pt x="2401" y="264"/>
                  </a:lnTo>
                  <a:lnTo>
                    <a:pt x="2401" y="312"/>
                  </a:lnTo>
                  <a:lnTo>
                    <a:pt x="2401" y="368"/>
                  </a:lnTo>
                  <a:lnTo>
                    <a:pt x="2401" y="416"/>
                  </a:lnTo>
                  <a:lnTo>
                    <a:pt x="2401" y="472"/>
                  </a:lnTo>
                  <a:lnTo>
                    <a:pt x="2401" y="520"/>
                  </a:lnTo>
                  <a:lnTo>
                    <a:pt x="2401" y="576"/>
                  </a:lnTo>
                  <a:lnTo>
                    <a:pt x="2401" y="624"/>
                  </a:lnTo>
                  <a:lnTo>
                    <a:pt x="2401" y="680"/>
                  </a:lnTo>
                  <a:lnTo>
                    <a:pt x="2401" y="728"/>
                  </a:lnTo>
                  <a:lnTo>
                    <a:pt x="2401" y="784"/>
                  </a:lnTo>
                  <a:lnTo>
                    <a:pt x="2401" y="832"/>
                  </a:lnTo>
                  <a:lnTo>
                    <a:pt x="2401" y="888"/>
                  </a:lnTo>
                  <a:lnTo>
                    <a:pt x="2401" y="936"/>
                  </a:lnTo>
                  <a:lnTo>
                    <a:pt x="2401" y="992"/>
                  </a:lnTo>
                  <a:lnTo>
                    <a:pt x="2401" y="1040"/>
                  </a:lnTo>
                  <a:lnTo>
                    <a:pt x="2401" y="1096"/>
                  </a:lnTo>
                  <a:lnTo>
                    <a:pt x="2401" y="1144"/>
                  </a:lnTo>
                  <a:lnTo>
                    <a:pt x="2401" y="1200"/>
                  </a:lnTo>
                  <a:lnTo>
                    <a:pt x="2401" y="1248"/>
                  </a:lnTo>
                  <a:lnTo>
                    <a:pt x="2401" y="1304"/>
                  </a:lnTo>
                  <a:lnTo>
                    <a:pt x="2401" y="1352"/>
                  </a:lnTo>
                  <a:lnTo>
                    <a:pt x="2401" y="1408"/>
                  </a:lnTo>
                  <a:lnTo>
                    <a:pt x="2401" y="1464"/>
                  </a:lnTo>
                  <a:lnTo>
                    <a:pt x="2401" y="1513"/>
                  </a:lnTo>
                  <a:lnTo>
                    <a:pt x="2401" y="1569"/>
                  </a:lnTo>
                  <a:lnTo>
                    <a:pt x="2401" y="1617"/>
                  </a:lnTo>
                  <a:lnTo>
                    <a:pt x="2401" y="1673"/>
                  </a:lnTo>
                  <a:lnTo>
                    <a:pt x="2401" y="1721"/>
                  </a:lnTo>
                  <a:lnTo>
                    <a:pt x="2401" y="1777"/>
                  </a:lnTo>
                  <a:lnTo>
                    <a:pt x="2401" y="1825"/>
                  </a:lnTo>
                  <a:lnTo>
                    <a:pt x="2401" y="1881"/>
                  </a:lnTo>
                  <a:lnTo>
                    <a:pt x="2401" y="1929"/>
                  </a:lnTo>
                  <a:lnTo>
                    <a:pt x="2401" y="1985"/>
                  </a:lnTo>
                  <a:lnTo>
                    <a:pt x="2401" y="2033"/>
                  </a:lnTo>
                  <a:lnTo>
                    <a:pt x="2401" y="2089"/>
                  </a:lnTo>
                  <a:lnTo>
                    <a:pt x="2401" y="2121"/>
                  </a:lnTo>
                  <a:lnTo>
                    <a:pt x="2377" y="2137"/>
                  </a:lnTo>
                  <a:lnTo>
                    <a:pt x="2361" y="2193"/>
                  </a:lnTo>
                  <a:lnTo>
                    <a:pt x="2345" y="2201"/>
                  </a:lnTo>
                  <a:lnTo>
                    <a:pt x="2337" y="2193"/>
                  </a:lnTo>
                  <a:lnTo>
                    <a:pt x="2297" y="2185"/>
                  </a:lnTo>
                  <a:lnTo>
                    <a:pt x="2241" y="2177"/>
                  </a:lnTo>
                  <a:lnTo>
                    <a:pt x="2241" y="2193"/>
                  </a:lnTo>
                  <a:lnTo>
                    <a:pt x="2193" y="2233"/>
                  </a:lnTo>
                  <a:lnTo>
                    <a:pt x="2137" y="2209"/>
                  </a:lnTo>
                  <a:lnTo>
                    <a:pt x="2097" y="2241"/>
                  </a:lnTo>
                  <a:lnTo>
                    <a:pt x="2089" y="2265"/>
                  </a:lnTo>
                  <a:lnTo>
                    <a:pt x="2033" y="2289"/>
                  </a:lnTo>
                  <a:lnTo>
                    <a:pt x="2017" y="2297"/>
                  </a:lnTo>
                  <a:lnTo>
                    <a:pt x="1985" y="2305"/>
                  </a:lnTo>
                  <a:lnTo>
                    <a:pt x="1929" y="2337"/>
                  </a:lnTo>
                  <a:lnTo>
                    <a:pt x="1913" y="2345"/>
                  </a:lnTo>
                  <a:lnTo>
                    <a:pt x="1897" y="2401"/>
                  </a:lnTo>
                  <a:lnTo>
                    <a:pt x="1897" y="2449"/>
                  </a:lnTo>
                  <a:lnTo>
                    <a:pt x="1881" y="2473"/>
                  </a:lnTo>
                  <a:lnTo>
                    <a:pt x="1841" y="2449"/>
                  </a:lnTo>
                  <a:lnTo>
                    <a:pt x="1825" y="2441"/>
                  </a:lnTo>
                  <a:lnTo>
                    <a:pt x="1777" y="2449"/>
                  </a:lnTo>
                  <a:lnTo>
                    <a:pt x="1769" y="2449"/>
                  </a:lnTo>
                  <a:lnTo>
                    <a:pt x="1745" y="2505"/>
                  </a:lnTo>
                  <a:lnTo>
                    <a:pt x="1721" y="2553"/>
                  </a:lnTo>
                  <a:lnTo>
                    <a:pt x="1721" y="2553"/>
                  </a:lnTo>
                  <a:lnTo>
                    <a:pt x="1673" y="2609"/>
                  </a:lnTo>
                  <a:lnTo>
                    <a:pt x="1665" y="2609"/>
                  </a:lnTo>
                  <a:lnTo>
                    <a:pt x="1617" y="2633"/>
                  </a:lnTo>
                  <a:lnTo>
                    <a:pt x="1577" y="2657"/>
                  </a:lnTo>
                  <a:lnTo>
                    <a:pt x="1569" y="2681"/>
                  </a:lnTo>
                  <a:lnTo>
                    <a:pt x="1513" y="2705"/>
                  </a:lnTo>
                  <a:lnTo>
                    <a:pt x="1497" y="2713"/>
                  </a:lnTo>
                  <a:lnTo>
                    <a:pt x="1513" y="2737"/>
                  </a:lnTo>
                  <a:lnTo>
                    <a:pt x="1545" y="2761"/>
                  </a:lnTo>
                  <a:lnTo>
                    <a:pt x="1513" y="2777"/>
                  </a:lnTo>
                  <a:lnTo>
                    <a:pt x="1465" y="2777"/>
                  </a:lnTo>
                  <a:lnTo>
                    <a:pt x="1441" y="2761"/>
                  </a:lnTo>
                  <a:lnTo>
                    <a:pt x="1409" y="2753"/>
                  </a:lnTo>
                  <a:lnTo>
                    <a:pt x="1361" y="2753"/>
                  </a:lnTo>
                  <a:lnTo>
                    <a:pt x="1305" y="2737"/>
                  </a:lnTo>
                  <a:lnTo>
                    <a:pt x="1265" y="2713"/>
                  </a:lnTo>
                  <a:lnTo>
                    <a:pt x="1257" y="2705"/>
                  </a:lnTo>
                  <a:lnTo>
                    <a:pt x="1241" y="2713"/>
                  </a:lnTo>
                  <a:lnTo>
                    <a:pt x="1201" y="2729"/>
                  </a:lnTo>
                  <a:lnTo>
                    <a:pt x="1145" y="2745"/>
                  </a:lnTo>
                  <a:lnTo>
                    <a:pt x="1096" y="2729"/>
                  </a:lnTo>
                  <a:lnTo>
                    <a:pt x="1040" y="2729"/>
                  </a:lnTo>
                  <a:lnTo>
                    <a:pt x="992" y="2737"/>
                  </a:lnTo>
                  <a:lnTo>
                    <a:pt x="960" y="2713"/>
                  </a:lnTo>
                  <a:lnTo>
                    <a:pt x="936" y="2697"/>
                  </a:lnTo>
                  <a:lnTo>
                    <a:pt x="928" y="2657"/>
                  </a:lnTo>
                  <a:lnTo>
                    <a:pt x="912" y="2609"/>
                  </a:lnTo>
                  <a:lnTo>
                    <a:pt x="888" y="2577"/>
                  </a:lnTo>
                  <a:lnTo>
                    <a:pt x="864" y="2553"/>
                  </a:lnTo>
                  <a:lnTo>
                    <a:pt x="840" y="2505"/>
                  </a:lnTo>
                  <a:lnTo>
                    <a:pt x="832" y="2497"/>
                  </a:lnTo>
                  <a:lnTo>
                    <a:pt x="816" y="2449"/>
                  </a:lnTo>
                  <a:lnTo>
                    <a:pt x="784" y="2417"/>
                  </a:lnTo>
                  <a:lnTo>
                    <a:pt x="752" y="2401"/>
                  </a:lnTo>
                  <a:lnTo>
                    <a:pt x="728" y="2385"/>
                  </a:lnTo>
                  <a:lnTo>
                    <a:pt x="680" y="2393"/>
                  </a:lnTo>
                  <a:lnTo>
                    <a:pt x="648" y="2345"/>
                  </a:lnTo>
                  <a:lnTo>
                    <a:pt x="624" y="2313"/>
                  </a:lnTo>
                  <a:lnTo>
                    <a:pt x="576" y="2321"/>
                  </a:lnTo>
                  <a:lnTo>
                    <a:pt x="560" y="2297"/>
                  </a:lnTo>
                  <a:lnTo>
                    <a:pt x="520" y="2257"/>
                  </a:lnTo>
                  <a:lnTo>
                    <a:pt x="496" y="2241"/>
                  </a:lnTo>
                  <a:lnTo>
                    <a:pt x="472" y="2225"/>
                  </a:lnTo>
                  <a:lnTo>
                    <a:pt x="416" y="2209"/>
                  </a:lnTo>
                  <a:lnTo>
                    <a:pt x="400" y="2193"/>
                  </a:lnTo>
                  <a:lnTo>
                    <a:pt x="368" y="2145"/>
                  </a:lnTo>
                  <a:lnTo>
                    <a:pt x="360" y="2137"/>
                  </a:lnTo>
                  <a:lnTo>
                    <a:pt x="320" y="2089"/>
                  </a:lnTo>
                  <a:lnTo>
                    <a:pt x="312" y="2081"/>
                  </a:lnTo>
                  <a:lnTo>
                    <a:pt x="264" y="2033"/>
                  </a:lnTo>
                  <a:lnTo>
                    <a:pt x="264" y="2033"/>
                  </a:lnTo>
                  <a:lnTo>
                    <a:pt x="248" y="2033"/>
                  </a:lnTo>
                  <a:lnTo>
                    <a:pt x="208" y="2033"/>
                  </a:lnTo>
                  <a:lnTo>
                    <a:pt x="208" y="2033"/>
                  </a:lnTo>
                  <a:lnTo>
                    <a:pt x="160" y="2001"/>
                  </a:lnTo>
                  <a:lnTo>
                    <a:pt x="128" y="1985"/>
                  </a:lnTo>
                  <a:lnTo>
                    <a:pt x="104" y="1945"/>
                  </a:lnTo>
                  <a:lnTo>
                    <a:pt x="88" y="1929"/>
                  </a:lnTo>
                  <a:lnTo>
                    <a:pt x="56" y="1897"/>
                  </a:lnTo>
                  <a:lnTo>
                    <a:pt x="0" y="1905"/>
                  </a:lnTo>
                  <a:lnTo>
                    <a:pt x="0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569"/>
                  </a:lnTo>
                  <a:lnTo>
                    <a:pt x="0" y="1513"/>
                  </a:lnTo>
                  <a:lnTo>
                    <a:pt x="0" y="1464"/>
                  </a:lnTo>
                  <a:lnTo>
                    <a:pt x="0" y="1408"/>
                  </a:lnTo>
                  <a:lnTo>
                    <a:pt x="0" y="1352"/>
                  </a:lnTo>
                  <a:lnTo>
                    <a:pt x="0" y="1304"/>
                  </a:lnTo>
                  <a:lnTo>
                    <a:pt x="0" y="1248"/>
                  </a:lnTo>
                  <a:lnTo>
                    <a:pt x="0" y="1200"/>
                  </a:lnTo>
                  <a:lnTo>
                    <a:pt x="0" y="1144"/>
                  </a:lnTo>
                  <a:lnTo>
                    <a:pt x="0" y="1096"/>
                  </a:lnTo>
                  <a:lnTo>
                    <a:pt x="0" y="1064"/>
                  </a:lnTo>
                  <a:lnTo>
                    <a:pt x="0" y="10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93280" y="676800"/>
              <a:ext cx="4066560" cy="4511880"/>
            </a:xfrm>
            <a:custGeom>
              <a:avLst/>
              <a:gdLst/>
              <a:ahLst/>
              <a:rect l="l" t="t" r="r" b="b"/>
              <a:pathLst>
                <a:path w="1953" h="2401">
                  <a:moveTo>
                    <a:pt x="1953" y="0"/>
                  </a:moveTo>
                  <a:lnTo>
                    <a:pt x="1953" y="0"/>
                  </a:lnTo>
                  <a:lnTo>
                    <a:pt x="1953" y="56"/>
                  </a:lnTo>
                  <a:lnTo>
                    <a:pt x="1953" y="104"/>
                  </a:lnTo>
                  <a:lnTo>
                    <a:pt x="1953" y="160"/>
                  </a:lnTo>
                  <a:lnTo>
                    <a:pt x="1953" y="208"/>
                  </a:lnTo>
                  <a:lnTo>
                    <a:pt x="1953" y="264"/>
                  </a:lnTo>
                  <a:lnTo>
                    <a:pt x="1953" y="312"/>
                  </a:lnTo>
                  <a:lnTo>
                    <a:pt x="1953" y="368"/>
                  </a:lnTo>
                  <a:lnTo>
                    <a:pt x="1953" y="416"/>
                  </a:lnTo>
                  <a:lnTo>
                    <a:pt x="1953" y="472"/>
                  </a:lnTo>
                  <a:lnTo>
                    <a:pt x="1953" y="520"/>
                  </a:lnTo>
                  <a:lnTo>
                    <a:pt x="1953" y="576"/>
                  </a:lnTo>
                  <a:lnTo>
                    <a:pt x="1953" y="624"/>
                  </a:lnTo>
                  <a:lnTo>
                    <a:pt x="1953" y="680"/>
                  </a:lnTo>
                  <a:lnTo>
                    <a:pt x="1953" y="728"/>
                  </a:lnTo>
                  <a:lnTo>
                    <a:pt x="1953" y="784"/>
                  </a:lnTo>
                  <a:lnTo>
                    <a:pt x="1953" y="832"/>
                  </a:lnTo>
                  <a:lnTo>
                    <a:pt x="1953" y="888"/>
                  </a:lnTo>
                  <a:lnTo>
                    <a:pt x="1953" y="936"/>
                  </a:lnTo>
                  <a:lnTo>
                    <a:pt x="1953" y="992"/>
                  </a:lnTo>
                  <a:lnTo>
                    <a:pt x="1953" y="1040"/>
                  </a:lnTo>
                  <a:lnTo>
                    <a:pt x="1953" y="1096"/>
                  </a:lnTo>
                  <a:lnTo>
                    <a:pt x="1953" y="1144"/>
                  </a:lnTo>
                  <a:lnTo>
                    <a:pt x="1953" y="1200"/>
                  </a:lnTo>
                  <a:lnTo>
                    <a:pt x="1953" y="1248"/>
                  </a:lnTo>
                  <a:lnTo>
                    <a:pt x="1953" y="1304"/>
                  </a:lnTo>
                  <a:lnTo>
                    <a:pt x="1953" y="1352"/>
                  </a:lnTo>
                  <a:lnTo>
                    <a:pt x="1953" y="1408"/>
                  </a:lnTo>
                  <a:lnTo>
                    <a:pt x="1953" y="1464"/>
                  </a:lnTo>
                  <a:lnTo>
                    <a:pt x="1953" y="1513"/>
                  </a:lnTo>
                  <a:lnTo>
                    <a:pt x="1953" y="1545"/>
                  </a:lnTo>
                  <a:lnTo>
                    <a:pt x="1937" y="1569"/>
                  </a:lnTo>
                  <a:lnTo>
                    <a:pt x="1897" y="1617"/>
                  </a:lnTo>
                  <a:lnTo>
                    <a:pt x="1897" y="1617"/>
                  </a:lnTo>
                  <a:lnTo>
                    <a:pt x="1897" y="1673"/>
                  </a:lnTo>
                  <a:lnTo>
                    <a:pt x="1849" y="1689"/>
                  </a:lnTo>
                  <a:lnTo>
                    <a:pt x="1825" y="1721"/>
                  </a:lnTo>
                  <a:lnTo>
                    <a:pt x="1793" y="1745"/>
                  </a:lnTo>
                  <a:lnTo>
                    <a:pt x="1777" y="1777"/>
                  </a:lnTo>
                  <a:lnTo>
                    <a:pt x="1761" y="1825"/>
                  </a:lnTo>
                  <a:lnTo>
                    <a:pt x="1745" y="1841"/>
                  </a:lnTo>
                  <a:lnTo>
                    <a:pt x="1689" y="1857"/>
                  </a:lnTo>
                  <a:lnTo>
                    <a:pt x="1665" y="1881"/>
                  </a:lnTo>
                  <a:lnTo>
                    <a:pt x="1641" y="1905"/>
                  </a:lnTo>
                  <a:lnTo>
                    <a:pt x="1617" y="1929"/>
                  </a:lnTo>
                  <a:lnTo>
                    <a:pt x="1585" y="1945"/>
                  </a:lnTo>
                  <a:lnTo>
                    <a:pt x="1553" y="1985"/>
                  </a:lnTo>
                  <a:lnTo>
                    <a:pt x="1537" y="2001"/>
                  </a:lnTo>
                  <a:lnTo>
                    <a:pt x="1481" y="2033"/>
                  </a:lnTo>
                  <a:lnTo>
                    <a:pt x="1481" y="2033"/>
                  </a:lnTo>
                  <a:lnTo>
                    <a:pt x="1433" y="2073"/>
                  </a:lnTo>
                  <a:lnTo>
                    <a:pt x="1417" y="2089"/>
                  </a:lnTo>
                  <a:lnTo>
                    <a:pt x="1377" y="2113"/>
                  </a:lnTo>
                  <a:lnTo>
                    <a:pt x="1345" y="2137"/>
                  </a:lnTo>
                  <a:lnTo>
                    <a:pt x="1329" y="2153"/>
                  </a:lnTo>
                  <a:lnTo>
                    <a:pt x="1273" y="2185"/>
                  </a:lnTo>
                  <a:lnTo>
                    <a:pt x="1257" y="2193"/>
                  </a:lnTo>
                  <a:lnTo>
                    <a:pt x="1225" y="2217"/>
                  </a:lnTo>
                  <a:lnTo>
                    <a:pt x="1169" y="2241"/>
                  </a:lnTo>
                  <a:lnTo>
                    <a:pt x="1169" y="2241"/>
                  </a:lnTo>
                  <a:lnTo>
                    <a:pt x="1121" y="2273"/>
                  </a:lnTo>
                  <a:lnTo>
                    <a:pt x="1065" y="2289"/>
                  </a:lnTo>
                  <a:lnTo>
                    <a:pt x="1025" y="2297"/>
                  </a:lnTo>
                  <a:lnTo>
                    <a:pt x="1017" y="2297"/>
                  </a:lnTo>
                  <a:lnTo>
                    <a:pt x="961" y="2313"/>
                  </a:lnTo>
                  <a:lnTo>
                    <a:pt x="913" y="2337"/>
                  </a:lnTo>
                  <a:lnTo>
                    <a:pt x="873" y="2345"/>
                  </a:lnTo>
                  <a:lnTo>
                    <a:pt x="857" y="2353"/>
                  </a:lnTo>
                  <a:lnTo>
                    <a:pt x="809" y="2361"/>
                  </a:lnTo>
                  <a:lnTo>
                    <a:pt x="753" y="2385"/>
                  </a:lnTo>
                  <a:lnTo>
                    <a:pt x="713" y="2401"/>
                  </a:lnTo>
                  <a:lnTo>
                    <a:pt x="697" y="2401"/>
                  </a:lnTo>
                  <a:lnTo>
                    <a:pt x="656" y="2401"/>
                  </a:lnTo>
                  <a:lnTo>
                    <a:pt x="648" y="2401"/>
                  </a:lnTo>
                  <a:lnTo>
                    <a:pt x="592" y="2377"/>
                  </a:lnTo>
                  <a:lnTo>
                    <a:pt x="544" y="2353"/>
                  </a:lnTo>
                  <a:lnTo>
                    <a:pt x="528" y="2345"/>
                  </a:lnTo>
                  <a:lnTo>
                    <a:pt x="488" y="2329"/>
                  </a:lnTo>
                  <a:lnTo>
                    <a:pt x="440" y="2297"/>
                  </a:lnTo>
                  <a:lnTo>
                    <a:pt x="440" y="2297"/>
                  </a:lnTo>
                  <a:lnTo>
                    <a:pt x="384" y="2265"/>
                  </a:lnTo>
                  <a:lnTo>
                    <a:pt x="352" y="2241"/>
                  </a:lnTo>
                  <a:lnTo>
                    <a:pt x="336" y="2225"/>
                  </a:lnTo>
                  <a:lnTo>
                    <a:pt x="304" y="2193"/>
                  </a:lnTo>
                  <a:lnTo>
                    <a:pt x="280" y="2169"/>
                  </a:lnTo>
                  <a:lnTo>
                    <a:pt x="248" y="2137"/>
                  </a:lnTo>
                  <a:lnTo>
                    <a:pt x="232" y="2129"/>
                  </a:lnTo>
                  <a:lnTo>
                    <a:pt x="176" y="2089"/>
                  </a:lnTo>
                  <a:lnTo>
                    <a:pt x="176" y="2089"/>
                  </a:lnTo>
                  <a:lnTo>
                    <a:pt x="136" y="2033"/>
                  </a:lnTo>
                  <a:lnTo>
                    <a:pt x="128" y="2025"/>
                  </a:lnTo>
                  <a:lnTo>
                    <a:pt x="96" y="1985"/>
                  </a:lnTo>
                  <a:lnTo>
                    <a:pt x="80" y="1929"/>
                  </a:lnTo>
                  <a:lnTo>
                    <a:pt x="72" y="1905"/>
                  </a:lnTo>
                  <a:lnTo>
                    <a:pt x="64" y="1881"/>
                  </a:lnTo>
                  <a:lnTo>
                    <a:pt x="40" y="1825"/>
                  </a:lnTo>
                  <a:lnTo>
                    <a:pt x="24" y="1777"/>
                  </a:lnTo>
                  <a:lnTo>
                    <a:pt x="24" y="173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17"/>
                  </a:lnTo>
                  <a:lnTo>
                    <a:pt x="16" y="1569"/>
                  </a:lnTo>
                  <a:lnTo>
                    <a:pt x="24" y="152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24" y="1408"/>
                  </a:lnTo>
                  <a:lnTo>
                    <a:pt x="24" y="1360"/>
                  </a:lnTo>
                  <a:lnTo>
                    <a:pt x="24" y="1352"/>
                  </a:lnTo>
                  <a:lnTo>
                    <a:pt x="24" y="1352"/>
                  </a:lnTo>
                  <a:lnTo>
                    <a:pt x="48" y="1304"/>
                  </a:lnTo>
                  <a:lnTo>
                    <a:pt x="72" y="1264"/>
                  </a:lnTo>
                  <a:lnTo>
                    <a:pt x="80" y="1248"/>
                  </a:lnTo>
                  <a:lnTo>
                    <a:pt x="112" y="1200"/>
                  </a:lnTo>
                  <a:lnTo>
                    <a:pt x="128" y="1176"/>
                  </a:lnTo>
                  <a:lnTo>
                    <a:pt x="136" y="1144"/>
                  </a:lnTo>
                  <a:lnTo>
                    <a:pt x="152" y="1096"/>
                  </a:lnTo>
                  <a:lnTo>
                    <a:pt x="176" y="1040"/>
                  </a:lnTo>
                  <a:lnTo>
                    <a:pt x="176" y="1032"/>
                  </a:lnTo>
                  <a:lnTo>
                    <a:pt x="200" y="992"/>
                  </a:lnTo>
                  <a:lnTo>
                    <a:pt x="232" y="936"/>
                  </a:lnTo>
                  <a:lnTo>
                    <a:pt x="232" y="936"/>
                  </a:lnTo>
                  <a:lnTo>
                    <a:pt x="280" y="888"/>
                  </a:lnTo>
                  <a:lnTo>
                    <a:pt x="288" y="888"/>
                  </a:lnTo>
                  <a:lnTo>
                    <a:pt x="312" y="832"/>
                  </a:lnTo>
                  <a:lnTo>
                    <a:pt x="336" y="800"/>
                  </a:lnTo>
                  <a:lnTo>
                    <a:pt x="344" y="784"/>
                  </a:lnTo>
                  <a:lnTo>
                    <a:pt x="360" y="728"/>
                  </a:lnTo>
                  <a:lnTo>
                    <a:pt x="360" y="680"/>
                  </a:lnTo>
                  <a:lnTo>
                    <a:pt x="368" y="624"/>
                  </a:lnTo>
                  <a:lnTo>
                    <a:pt x="384" y="576"/>
                  </a:lnTo>
                  <a:lnTo>
                    <a:pt x="384" y="560"/>
                  </a:lnTo>
                  <a:lnTo>
                    <a:pt x="400" y="520"/>
                  </a:lnTo>
                  <a:lnTo>
                    <a:pt x="416" y="472"/>
                  </a:lnTo>
                  <a:lnTo>
                    <a:pt x="440" y="416"/>
                  </a:lnTo>
                  <a:lnTo>
                    <a:pt x="440" y="416"/>
                  </a:lnTo>
                  <a:lnTo>
                    <a:pt x="464" y="368"/>
                  </a:lnTo>
                  <a:lnTo>
                    <a:pt x="472" y="312"/>
                  </a:lnTo>
                  <a:lnTo>
                    <a:pt x="480" y="264"/>
                  </a:lnTo>
                  <a:lnTo>
                    <a:pt x="488" y="216"/>
                  </a:lnTo>
                  <a:lnTo>
                    <a:pt x="504" y="208"/>
                  </a:lnTo>
                  <a:lnTo>
                    <a:pt x="544" y="168"/>
                  </a:lnTo>
                  <a:lnTo>
                    <a:pt x="552" y="160"/>
                  </a:lnTo>
                  <a:lnTo>
                    <a:pt x="560" y="104"/>
                  </a:lnTo>
                  <a:lnTo>
                    <a:pt x="576" y="56"/>
                  </a:lnTo>
                  <a:lnTo>
                    <a:pt x="592" y="0"/>
                  </a:lnTo>
                  <a:lnTo>
                    <a:pt x="592" y="0"/>
                  </a:lnTo>
                  <a:lnTo>
                    <a:pt x="648" y="0"/>
                  </a:lnTo>
                  <a:lnTo>
                    <a:pt x="697" y="0"/>
                  </a:lnTo>
                  <a:lnTo>
                    <a:pt x="753" y="0"/>
                  </a:lnTo>
                  <a:lnTo>
                    <a:pt x="809" y="0"/>
                  </a:lnTo>
                  <a:lnTo>
                    <a:pt x="857" y="0"/>
                  </a:lnTo>
                  <a:lnTo>
                    <a:pt x="913" y="0"/>
                  </a:lnTo>
                  <a:lnTo>
                    <a:pt x="961" y="0"/>
                  </a:lnTo>
                  <a:lnTo>
                    <a:pt x="1017" y="0"/>
                  </a:lnTo>
                  <a:lnTo>
                    <a:pt x="1065" y="0"/>
                  </a:lnTo>
                  <a:lnTo>
                    <a:pt x="1121" y="0"/>
                  </a:lnTo>
                  <a:lnTo>
                    <a:pt x="1169" y="0"/>
                  </a:lnTo>
                  <a:lnTo>
                    <a:pt x="1225" y="0"/>
                  </a:lnTo>
                  <a:lnTo>
                    <a:pt x="1273" y="0"/>
                  </a:lnTo>
                  <a:lnTo>
                    <a:pt x="1329" y="0"/>
                  </a:lnTo>
                  <a:lnTo>
                    <a:pt x="1377" y="0"/>
                  </a:lnTo>
                  <a:lnTo>
                    <a:pt x="1433" y="0"/>
                  </a:lnTo>
                  <a:lnTo>
                    <a:pt x="1481" y="0"/>
                  </a:lnTo>
                  <a:lnTo>
                    <a:pt x="1537" y="0"/>
                  </a:lnTo>
                  <a:lnTo>
                    <a:pt x="1585" y="0"/>
                  </a:lnTo>
                  <a:lnTo>
                    <a:pt x="1641" y="0"/>
                  </a:lnTo>
                  <a:lnTo>
                    <a:pt x="1689" y="0"/>
                  </a:lnTo>
                  <a:lnTo>
                    <a:pt x="1745" y="0"/>
                  </a:lnTo>
                  <a:lnTo>
                    <a:pt x="1793" y="0"/>
                  </a:lnTo>
                  <a:lnTo>
                    <a:pt x="1849" y="0"/>
                  </a:lnTo>
                  <a:lnTo>
                    <a:pt x="1897" y="0"/>
                  </a:lnTo>
                  <a:lnTo>
                    <a:pt x="1953" y="0"/>
                  </a:lnTo>
                  <a:close/>
                </a:path>
              </a:pathLst>
            </a:custGeom>
            <a:solidFill>
              <a:srgbClr val="000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93280" y="676800"/>
              <a:ext cx="4066560" cy="4511880"/>
            </a:xfrm>
            <a:custGeom>
              <a:avLst/>
              <a:gdLst/>
              <a:ahLst/>
              <a:rect l="l" t="t" r="r" b="b"/>
              <a:pathLst>
                <a:path w="1953" h="2401">
                  <a:moveTo>
                    <a:pt x="1953" y="0"/>
                  </a:moveTo>
                  <a:lnTo>
                    <a:pt x="1953" y="0"/>
                  </a:lnTo>
                  <a:lnTo>
                    <a:pt x="1953" y="56"/>
                  </a:lnTo>
                  <a:lnTo>
                    <a:pt x="1953" y="104"/>
                  </a:lnTo>
                  <a:lnTo>
                    <a:pt x="1953" y="160"/>
                  </a:lnTo>
                  <a:lnTo>
                    <a:pt x="1953" y="208"/>
                  </a:lnTo>
                  <a:lnTo>
                    <a:pt x="1953" y="264"/>
                  </a:lnTo>
                  <a:lnTo>
                    <a:pt x="1953" y="312"/>
                  </a:lnTo>
                  <a:lnTo>
                    <a:pt x="1953" y="368"/>
                  </a:lnTo>
                  <a:lnTo>
                    <a:pt x="1953" y="416"/>
                  </a:lnTo>
                  <a:lnTo>
                    <a:pt x="1953" y="472"/>
                  </a:lnTo>
                  <a:lnTo>
                    <a:pt x="1953" y="520"/>
                  </a:lnTo>
                  <a:lnTo>
                    <a:pt x="1953" y="576"/>
                  </a:lnTo>
                  <a:lnTo>
                    <a:pt x="1953" y="624"/>
                  </a:lnTo>
                  <a:lnTo>
                    <a:pt x="1953" y="680"/>
                  </a:lnTo>
                  <a:lnTo>
                    <a:pt x="1953" y="728"/>
                  </a:lnTo>
                  <a:lnTo>
                    <a:pt x="1953" y="784"/>
                  </a:lnTo>
                  <a:lnTo>
                    <a:pt x="1953" y="832"/>
                  </a:lnTo>
                  <a:lnTo>
                    <a:pt x="1953" y="888"/>
                  </a:lnTo>
                  <a:lnTo>
                    <a:pt x="1953" y="936"/>
                  </a:lnTo>
                  <a:lnTo>
                    <a:pt x="1953" y="992"/>
                  </a:lnTo>
                  <a:lnTo>
                    <a:pt x="1953" y="1040"/>
                  </a:lnTo>
                  <a:lnTo>
                    <a:pt x="1953" y="1096"/>
                  </a:lnTo>
                  <a:lnTo>
                    <a:pt x="1953" y="1144"/>
                  </a:lnTo>
                  <a:lnTo>
                    <a:pt x="1953" y="1200"/>
                  </a:lnTo>
                  <a:lnTo>
                    <a:pt x="1953" y="1248"/>
                  </a:lnTo>
                  <a:lnTo>
                    <a:pt x="1953" y="1304"/>
                  </a:lnTo>
                  <a:lnTo>
                    <a:pt x="1953" y="1352"/>
                  </a:lnTo>
                  <a:lnTo>
                    <a:pt x="1953" y="1408"/>
                  </a:lnTo>
                  <a:lnTo>
                    <a:pt x="1953" y="1464"/>
                  </a:lnTo>
                  <a:lnTo>
                    <a:pt x="1953" y="1513"/>
                  </a:lnTo>
                  <a:lnTo>
                    <a:pt x="1953" y="1545"/>
                  </a:lnTo>
                  <a:lnTo>
                    <a:pt x="1937" y="1569"/>
                  </a:lnTo>
                  <a:lnTo>
                    <a:pt x="1897" y="1617"/>
                  </a:lnTo>
                  <a:lnTo>
                    <a:pt x="1897" y="1617"/>
                  </a:lnTo>
                  <a:lnTo>
                    <a:pt x="1897" y="1673"/>
                  </a:lnTo>
                  <a:lnTo>
                    <a:pt x="1849" y="1689"/>
                  </a:lnTo>
                  <a:lnTo>
                    <a:pt x="1825" y="1721"/>
                  </a:lnTo>
                  <a:lnTo>
                    <a:pt x="1793" y="1745"/>
                  </a:lnTo>
                  <a:lnTo>
                    <a:pt x="1777" y="1777"/>
                  </a:lnTo>
                  <a:lnTo>
                    <a:pt x="1761" y="1825"/>
                  </a:lnTo>
                  <a:lnTo>
                    <a:pt x="1745" y="1841"/>
                  </a:lnTo>
                  <a:lnTo>
                    <a:pt x="1689" y="1857"/>
                  </a:lnTo>
                  <a:lnTo>
                    <a:pt x="1665" y="1881"/>
                  </a:lnTo>
                  <a:lnTo>
                    <a:pt x="1641" y="1905"/>
                  </a:lnTo>
                  <a:lnTo>
                    <a:pt x="1617" y="1929"/>
                  </a:lnTo>
                  <a:lnTo>
                    <a:pt x="1585" y="1945"/>
                  </a:lnTo>
                  <a:lnTo>
                    <a:pt x="1553" y="1985"/>
                  </a:lnTo>
                  <a:lnTo>
                    <a:pt x="1537" y="2001"/>
                  </a:lnTo>
                  <a:lnTo>
                    <a:pt x="1481" y="2033"/>
                  </a:lnTo>
                  <a:lnTo>
                    <a:pt x="1481" y="2033"/>
                  </a:lnTo>
                  <a:lnTo>
                    <a:pt x="1433" y="2073"/>
                  </a:lnTo>
                  <a:lnTo>
                    <a:pt x="1417" y="2089"/>
                  </a:lnTo>
                  <a:lnTo>
                    <a:pt x="1377" y="2113"/>
                  </a:lnTo>
                  <a:lnTo>
                    <a:pt x="1345" y="2137"/>
                  </a:lnTo>
                  <a:lnTo>
                    <a:pt x="1329" y="2153"/>
                  </a:lnTo>
                  <a:lnTo>
                    <a:pt x="1273" y="2185"/>
                  </a:lnTo>
                  <a:lnTo>
                    <a:pt x="1257" y="2193"/>
                  </a:lnTo>
                  <a:lnTo>
                    <a:pt x="1225" y="2217"/>
                  </a:lnTo>
                  <a:lnTo>
                    <a:pt x="1169" y="2241"/>
                  </a:lnTo>
                  <a:lnTo>
                    <a:pt x="1169" y="2241"/>
                  </a:lnTo>
                  <a:lnTo>
                    <a:pt x="1121" y="2273"/>
                  </a:lnTo>
                  <a:lnTo>
                    <a:pt x="1065" y="2289"/>
                  </a:lnTo>
                  <a:lnTo>
                    <a:pt x="1025" y="2297"/>
                  </a:lnTo>
                  <a:lnTo>
                    <a:pt x="1017" y="2297"/>
                  </a:lnTo>
                  <a:lnTo>
                    <a:pt x="961" y="2313"/>
                  </a:lnTo>
                  <a:lnTo>
                    <a:pt x="913" y="2337"/>
                  </a:lnTo>
                  <a:lnTo>
                    <a:pt x="873" y="2345"/>
                  </a:lnTo>
                  <a:lnTo>
                    <a:pt x="857" y="2353"/>
                  </a:lnTo>
                  <a:lnTo>
                    <a:pt x="809" y="2361"/>
                  </a:lnTo>
                  <a:lnTo>
                    <a:pt x="753" y="2385"/>
                  </a:lnTo>
                  <a:lnTo>
                    <a:pt x="713" y="2401"/>
                  </a:lnTo>
                  <a:lnTo>
                    <a:pt x="697" y="2401"/>
                  </a:lnTo>
                  <a:lnTo>
                    <a:pt x="656" y="2401"/>
                  </a:lnTo>
                  <a:lnTo>
                    <a:pt x="648" y="2401"/>
                  </a:lnTo>
                  <a:lnTo>
                    <a:pt x="592" y="2377"/>
                  </a:lnTo>
                  <a:lnTo>
                    <a:pt x="544" y="2353"/>
                  </a:lnTo>
                  <a:lnTo>
                    <a:pt x="528" y="2345"/>
                  </a:lnTo>
                  <a:lnTo>
                    <a:pt x="488" y="2329"/>
                  </a:lnTo>
                  <a:lnTo>
                    <a:pt x="440" y="2297"/>
                  </a:lnTo>
                  <a:lnTo>
                    <a:pt x="440" y="2297"/>
                  </a:lnTo>
                  <a:lnTo>
                    <a:pt x="384" y="2265"/>
                  </a:lnTo>
                  <a:lnTo>
                    <a:pt x="352" y="2241"/>
                  </a:lnTo>
                  <a:lnTo>
                    <a:pt x="336" y="2225"/>
                  </a:lnTo>
                  <a:lnTo>
                    <a:pt x="304" y="2193"/>
                  </a:lnTo>
                  <a:lnTo>
                    <a:pt x="280" y="2169"/>
                  </a:lnTo>
                  <a:lnTo>
                    <a:pt x="248" y="2137"/>
                  </a:lnTo>
                  <a:lnTo>
                    <a:pt x="232" y="2129"/>
                  </a:lnTo>
                  <a:lnTo>
                    <a:pt x="176" y="2089"/>
                  </a:lnTo>
                  <a:lnTo>
                    <a:pt x="176" y="2089"/>
                  </a:lnTo>
                  <a:lnTo>
                    <a:pt x="136" y="2033"/>
                  </a:lnTo>
                  <a:lnTo>
                    <a:pt x="128" y="2025"/>
                  </a:lnTo>
                  <a:lnTo>
                    <a:pt x="96" y="1985"/>
                  </a:lnTo>
                  <a:lnTo>
                    <a:pt x="80" y="1929"/>
                  </a:lnTo>
                  <a:lnTo>
                    <a:pt x="72" y="1905"/>
                  </a:lnTo>
                  <a:lnTo>
                    <a:pt x="64" y="1881"/>
                  </a:lnTo>
                  <a:lnTo>
                    <a:pt x="40" y="1825"/>
                  </a:lnTo>
                  <a:lnTo>
                    <a:pt x="24" y="1777"/>
                  </a:lnTo>
                  <a:lnTo>
                    <a:pt x="24" y="173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17"/>
                  </a:lnTo>
                  <a:lnTo>
                    <a:pt x="16" y="1569"/>
                  </a:lnTo>
                  <a:lnTo>
                    <a:pt x="24" y="152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24" y="1408"/>
                  </a:lnTo>
                  <a:lnTo>
                    <a:pt x="24" y="1360"/>
                  </a:lnTo>
                  <a:lnTo>
                    <a:pt x="24" y="1352"/>
                  </a:lnTo>
                  <a:lnTo>
                    <a:pt x="24" y="1352"/>
                  </a:lnTo>
                  <a:lnTo>
                    <a:pt x="48" y="1304"/>
                  </a:lnTo>
                  <a:lnTo>
                    <a:pt x="72" y="1264"/>
                  </a:lnTo>
                  <a:lnTo>
                    <a:pt x="80" y="1248"/>
                  </a:lnTo>
                  <a:lnTo>
                    <a:pt x="112" y="1200"/>
                  </a:lnTo>
                  <a:lnTo>
                    <a:pt x="128" y="1176"/>
                  </a:lnTo>
                  <a:lnTo>
                    <a:pt x="136" y="1144"/>
                  </a:lnTo>
                  <a:lnTo>
                    <a:pt x="152" y="1096"/>
                  </a:lnTo>
                  <a:lnTo>
                    <a:pt x="176" y="1040"/>
                  </a:lnTo>
                  <a:lnTo>
                    <a:pt x="176" y="1032"/>
                  </a:lnTo>
                  <a:lnTo>
                    <a:pt x="200" y="992"/>
                  </a:lnTo>
                  <a:lnTo>
                    <a:pt x="232" y="936"/>
                  </a:lnTo>
                  <a:lnTo>
                    <a:pt x="232" y="936"/>
                  </a:lnTo>
                  <a:lnTo>
                    <a:pt x="280" y="888"/>
                  </a:lnTo>
                  <a:lnTo>
                    <a:pt x="288" y="888"/>
                  </a:lnTo>
                  <a:lnTo>
                    <a:pt x="312" y="832"/>
                  </a:lnTo>
                  <a:lnTo>
                    <a:pt x="336" y="800"/>
                  </a:lnTo>
                  <a:lnTo>
                    <a:pt x="344" y="784"/>
                  </a:lnTo>
                  <a:lnTo>
                    <a:pt x="360" y="728"/>
                  </a:lnTo>
                  <a:lnTo>
                    <a:pt x="360" y="680"/>
                  </a:lnTo>
                  <a:lnTo>
                    <a:pt x="368" y="624"/>
                  </a:lnTo>
                  <a:lnTo>
                    <a:pt x="384" y="576"/>
                  </a:lnTo>
                  <a:lnTo>
                    <a:pt x="384" y="560"/>
                  </a:lnTo>
                  <a:lnTo>
                    <a:pt x="400" y="520"/>
                  </a:lnTo>
                  <a:lnTo>
                    <a:pt x="416" y="472"/>
                  </a:lnTo>
                  <a:lnTo>
                    <a:pt x="440" y="416"/>
                  </a:lnTo>
                  <a:lnTo>
                    <a:pt x="440" y="416"/>
                  </a:lnTo>
                  <a:lnTo>
                    <a:pt x="464" y="368"/>
                  </a:lnTo>
                  <a:lnTo>
                    <a:pt x="472" y="312"/>
                  </a:lnTo>
                  <a:lnTo>
                    <a:pt x="480" y="264"/>
                  </a:lnTo>
                  <a:lnTo>
                    <a:pt x="488" y="216"/>
                  </a:lnTo>
                  <a:lnTo>
                    <a:pt x="504" y="208"/>
                  </a:lnTo>
                  <a:lnTo>
                    <a:pt x="544" y="168"/>
                  </a:lnTo>
                  <a:lnTo>
                    <a:pt x="552" y="160"/>
                  </a:lnTo>
                  <a:lnTo>
                    <a:pt x="560" y="104"/>
                  </a:lnTo>
                  <a:lnTo>
                    <a:pt x="576" y="56"/>
                  </a:lnTo>
                  <a:lnTo>
                    <a:pt x="592" y="0"/>
                  </a:lnTo>
                  <a:lnTo>
                    <a:pt x="592" y="0"/>
                  </a:lnTo>
                  <a:lnTo>
                    <a:pt x="648" y="0"/>
                  </a:lnTo>
                  <a:lnTo>
                    <a:pt x="697" y="0"/>
                  </a:lnTo>
                  <a:lnTo>
                    <a:pt x="753" y="0"/>
                  </a:lnTo>
                  <a:lnTo>
                    <a:pt x="809" y="0"/>
                  </a:lnTo>
                  <a:lnTo>
                    <a:pt x="857" y="0"/>
                  </a:lnTo>
                  <a:lnTo>
                    <a:pt x="913" y="0"/>
                  </a:lnTo>
                  <a:lnTo>
                    <a:pt x="961" y="0"/>
                  </a:lnTo>
                  <a:lnTo>
                    <a:pt x="1017" y="0"/>
                  </a:lnTo>
                  <a:lnTo>
                    <a:pt x="1065" y="0"/>
                  </a:lnTo>
                  <a:lnTo>
                    <a:pt x="1121" y="0"/>
                  </a:lnTo>
                  <a:lnTo>
                    <a:pt x="1169" y="0"/>
                  </a:lnTo>
                  <a:lnTo>
                    <a:pt x="1225" y="0"/>
                  </a:lnTo>
                  <a:lnTo>
                    <a:pt x="1273" y="0"/>
                  </a:lnTo>
                  <a:lnTo>
                    <a:pt x="1329" y="0"/>
                  </a:lnTo>
                  <a:lnTo>
                    <a:pt x="1377" y="0"/>
                  </a:lnTo>
                  <a:lnTo>
                    <a:pt x="1433" y="0"/>
                  </a:lnTo>
                  <a:lnTo>
                    <a:pt x="1481" y="0"/>
                  </a:lnTo>
                  <a:lnTo>
                    <a:pt x="1537" y="0"/>
                  </a:lnTo>
                  <a:lnTo>
                    <a:pt x="1585" y="0"/>
                  </a:lnTo>
                  <a:lnTo>
                    <a:pt x="1641" y="0"/>
                  </a:lnTo>
                  <a:lnTo>
                    <a:pt x="1689" y="0"/>
                  </a:lnTo>
                  <a:lnTo>
                    <a:pt x="1745" y="0"/>
                  </a:lnTo>
                  <a:lnTo>
                    <a:pt x="1793" y="0"/>
                  </a:lnTo>
                  <a:lnTo>
                    <a:pt x="1849" y="0"/>
                  </a:lnTo>
                  <a:lnTo>
                    <a:pt x="1897" y="0"/>
                  </a:lnTo>
                  <a:lnTo>
                    <a:pt x="1953" y="0"/>
                  </a:lnTo>
                  <a:lnTo>
                    <a:pt x="195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59760" y="676800"/>
              <a:ext cx="3700080" cy="4286520"/>
            </a:xfrm>
            <a:custGeom>
              <a:avLst/>
              <a:gdLst/>
              <a:ahLst/>
              <a:rect l="l" t="t" r="r" b="b"/>
              <a:pathLst>
                <a:path w="1777" h="2281">
                  <a:moveTo>
                    <a:pt x="1777" y="0"/>
                  </a:moveTo>
                  <a:lnTo>
                    <a:pt x="1777" y="0"/>
                  </a:lnTo>
                  <a:lnTo>
                    <a:pt x="1777" y="56"/>
                  </a:lnTo>
                  <a:lnTo>
                    <a:pt x="1777" y="104"/>
                  </a:lnTo>
                  <a:lnTo>
                    <a:pt x="1777" y="160"/>
                  </a:lnTo>
                  <a:lnTo>
                    <a:pt x="1777" y="208"/>
                  </a:lnTo>
                  <a:lnTo>
                    <a:pt x="1777" y="264"/>
                  </a:lnTo>
                  <a:lnTo>
                    <a:pt x="1777" y="312"/>
                  </a:lnTo>
                  <a:lnTo>
                    <a:pt x="1777" y="368"/>
                  </a:lnTo>
                  <a:lnTo>
                    <a:pt x="1777" y="416"/>
                  </a:lnTo>
                  <a:lnTo>
                    <a:pt x="1777" y="472"/>
                  </a:lnTo>
                  <a:lnTo>
                    <a:pt x="1777" y="520"/>
                  </a:lnTo>
                  <a:lnTo>
                    <a:pt x="1777" y="576"/>
                  </a:lnTo>
                  <a:lnTo>
                    <a:pt x="1777" y="624"/>
                  </a:lnTo>
                  <a:lnTo>
                    <a:pt x="1777" y="680"/>
                  </a:lnTo>
                  <a:lnTo>
                    <a:pt x="1777" y="728"/>
                  </a:lnTo>
                  <a:lnTo>
                    <a:pt x="1777" y="784"/>
                  </a:lnTo>
                  <a:lnTo>
                    <a:pt x="1777" y="832"/>
                  </a:lnTo>
                  <a:lnTo>
                    <a:pt x="1777" y="888"/>
                  </a:lnTo>
                  <a:lnTo>
                    <a:pt x="1777" y="936"/>
                  </a:lnTo>
                  <a:lnTo>
                    <a:pt x="1777" y="992"/>
                  </a:lnTo>
                  <a:lnTo>
                    <a:pt x="1777" y="1040"/>
                  </a:lnTo>
                  <a:lnTo>
                    <a:pt x="1777" y="1096"/>
                  </a:lnTo>
                  <a:lnTo>
                    <a:pt x="1777" y="1144"/>
                  </a:lnTo>
                  <a:lnTo>
                    <a:pt x="1777" y="1200"/>
                  </a:lnTo>
                  <a:lnTo>
                    <a:pt x="1777" y="1248"/>
                  </a:lnTo>
                  <a:lnTo>
                    <a:pt x="1777" y="1248"/>
                  </a:lnTo>
                  <a:lnTo>
                    <a:pt x="1745" y="1304"/>
                  </a:lnTo>
                  <a:lnTo>
                    <a:pt x="1721" y="1328"/>
                  </a:lnTo>
                  <a:lnTo>
                    <a:pt x="1705" y="1352"/>
                  </a:lnTo>
                  <a:lnTo>
                    <a:pt x="1673" y="1392"/>
                  </a:lnTo>
                  <a:lnTo>
                    <a:pt x="1657" y="1408"/>
                  </a:lnTo>
                  <a:lnTo>
                    <a:pt x="1617" y="1448"/>
                  </a:lnTo>
                  <a:lnTo>
                    <a:pt x="1609" y="1464"/>
                  </a:lnTo>
                  <a:lnTo>
                    <a:pt x="1577" y="1513"/>
                  </a:lnTo>
                  <a:lnTo>
                    <a:pt x="1569" y="1545"/>
                  </a:lnTo>
                  <a:lnTo>
                    <a:pt x="1561" y="1569"/>
                  </a:lnTo>
                  <a:lnTo>
                    <a:pt x="1529" y="1617"/>
                  </a:lnTo>
                  <a:lnTo>
                    <a:pt x="1513" y="1633"/>
                  </a:lnTo>
                  <a:lnTo>
                    <a:pt x="1497" y="1673"/>
                  </a:lnTo>
                  <a:lnTo>
                    <a:pt x="1465" y="1713"/>
                  </a:lnTo>
                  <a:lnTo>
                    <a:pt x="1457" y="1721"/>
                  </a:lnTo>
                  <a:lnTo>
                    <a:pt x="1425" y="1777"/>
                  </a:lnTo>
                  <a:lnTo>
                    <a:pt x="1409" y="1785"/>
                  </a:lnTo>
                  <a:lnTo>
                    <a:pt x="1361" y="1825"/>
                  </a:lnTo>
                  <a:lnTo>
                    <a:pt x="1361" y="1833"/>
                  </a:lnTo>
                  <a:lnTo>
                    <a:pt x="1313" y="1881"/>
                  </a:lnTo>
                  <a:lnTo>
                    <a:pt x="1305" y="1889"/>
                  </a:lnTo>
                  <a:lnTo>
                    <a:pt x="1265" y="1929"/>
                  </a:lnTo>
                  <a:lnTo>
                    <a:pt x="1257" y="1937"/>
                  </a:lnTo>
                  <a:lnTo>
                    <a:pt x="1209" y="1985"/>
                  </a:lnTo>
                  <a:lnTo>
                    <a:pt x="1201" y="1993"/>
                  </a:lnTo>
                  <a:lnTo>
                    <a:pt x="1153" y="2033"/>
                  </a:lnTo>
                  <a:lnTo>
                    <a:pt x="1137" y="2033"/>
                  </a:lnTo>
                  <a:lnTo>
                    <a:pt x="1097" y="2049"/>
                  </a:lnTo>
                  <a:lnTo>
                    <a:pt x="1057" y="2089"/>
                  </a:lnTo>
                  <a:lnTo>
                    <a:pt x="1049" y="2097"/>
                  </a:lnTo>
                  <a:lnTo>
                    <a:pt x="993" y="2121"/>
                  </a:lnTo>
                  <a:lnTo>
                    <a:pt x="961" y="2137"/>
                  </a:lnTo>
                  <a:lnTo>
                    <a:pt x="945" y="2153"/>
                  </a:lnTo>
                  <a:lnTo>
                    <a:pt x="889" y="2169"/>
                  </a:lnTo>
                  <a:lnTo>
                    <a:pt x="841" y="2177"/>
                  </a:lnTo>
                  <a:lnTo>
                    <a:pt x="809" y="2193"/>
                  </a:lnTo>
                  <a:lnTo>
                    <a:pt x="785" y="2201"/>
                  </a:lnTo>
                  <a:lnTo>
                    <a:pt x="737" y="2225"/>
                  </a:lnTo>
                  <a:lnTo>
                    <a:pt x="681" y="2241"/>
                  </a:lnTo>
                  <a:lnTo>
                    <a:pt x="665" y="2241"/>
                  </a:lnTo>
                  <a:lnTo>
                    <a:pt x="633" y="2249"/>
                  </a:lnTo>
                  <a:lnTo>
                    <a:pt x="577" y="2273"/>
                  </a:lnTo>
                  <a:lnTo>
                    <a:pt x="521" y="2281"/>
                  </a:lnTo>
                  <a:lnTo>
                    <a:pt x="472" y="2273"/>
                  </a:lnTo>
                  <a:lnTo>
                    <a:pt x="416" y="2273"/>
                  </a:lnTo>
                  <a:lnTo>
                    <a:pt x="368" y="2257"/>
                  </a:lnTo>
                  <a:lnTo>
                    <a:pt x="336" y="2241"/>
                  </a:lnTo>
                  <a:lnTo>
                    <a:pt x="312" y="2233"/>
                  </a:lnTo>
                  <a:lnTo>
                    <a:pt x="264" y="2201"/>
                  </a:lnTo>
                  <a:lnTo>
                    <a:pt x="248" y="2193"/>
                  </a:lnTo>
                  <a:lnTo>
                    <a:pt x="208" y="2153"/>
                  </a:lnTo>
                  <a:lnTo>
                    <a:pt x="192" y="2137"/>
                  </a:lnTo>
                  <a:lnTo>
                    <a:pt x="160" y="2097"/>
                  </a:lnTo>
                  <a:lnTo>
                    <a:pt x="152" y="2089"/>
                  </a:lnTo>
                  <a:lnTo>
                    <a:pt x="112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24" y="1825"/>
                  </a:lnTo>
                  <a:lnTo>
                    <a:pt x="16" y="1777"/>
                  </a:lnTo>
                  <a:lnTo>
                    <a:pt x="8" y="1721"/>
                  </a:lnTo>
                  <a:lnTo>
                    <a:pt x="0" y="1673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617"/>
                  </a:lnTo>
                  <a:lnTo>
                    <a:pt x="8" y="156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56" y="1432"/>
                  </a:lnTo>
                  <a:lnTo>
                    <a:pt x="64" y="1408"/>
                  </a:lnTo>
                  <a:lnTo>
                    <a:pt x="88" y="1352"/>
                  </a:lnTo>
                  <a:lnTo>
                    <a:pt x="104" y="1304"/>
                  </a:lnTo>
                  <a:lnTo>
                    <a:pt x="104" y="1296"/>
                  </a:lnTo>
                  <a:lnTo>
                    <a:pt x="112" y="1248"/>
                  </a:lnTo>
                  <a:lnTo>
                    <a:pt x="128" y="1200"/>
                  </a:lnTo>
                  <a:lnTo>
                    <a:pt x="160" y="1144"/>
                  </a:lnTo>
                  <a:lnTo>
                    <a:pt x="160" y="1144"/>
                  </a:lnTo>
                  <a:lnTo>
                    <a:pt x="176" y="1096"/>
                  </a:lnTo>
                  <a:lnTo>
                    <a:pt x="200" y="1040"/>
                  </a:lnTo>
                  <a:lnTo>
                    <a:pt x="208" y="1024"/>
                  </a:lnTo>
                  <a:lnTo>
                    <a:pt x="216" y="992"/>
                  </a:lnTo>
                  <a:lnTo>
                    <a:pt x="240" y="936"/>
                  </a:lnTo>
                  <a:lnTo>
                    <a:pt x="256" y="888"/>
                  </a:lnTo>
                  <a:lnTo>
                    <a:pt x="264" y="880"/>
                  </a:lnTo>
                  <a:lnTo>
                    <a:pt x="288" y="832"/>
                  </a:lnTo>
                  <a:lnTo>
                    <a:pt x="312" y="792"/>
                  </a:lnTo>
                  <a:lnTo>
                    <a:pt x="320" y="784"/>
                  </a:lnTo>
                  <a:lnTo>
                    <a:pt x="344" y="728"/>
                  </a:lnTo>
                  <a:lnTo>
                    <a:pt x="368" y="680"/>
                  </a:lnTo>
                  <a:lnTo>
                    <a:pt x="368" y="680"/>
                  </a:lnTo>
                  <a:lnTo>
                    <a:pt x="392" y="624"/>
                  </a:lnTo>
                  <a:lnTo>
                    <a:pt x="408" y="576"/>
                  </a:lnTo>
                  <a:lnTo>
                    <a:pt x="416" y="528"/>
                  </a:lnTo>
                  <a:lnTo>
                    <a:pt x="424" y="520"/>
                  </a:lnTo>
                  <a:lnTo>
                    <a:pt x="432" y="472"/>
                  </a:lnTo>
                  <a:lnTo>
                    <a:pt x="440" y="416"/>
                  </a:lnTo>
                  <a:lnTo>
                    <a:pt x="448" y="368"/>
                  </a:lnTo>
                  <a:lnTo>
                    <a:pt x="472" y="320"/>
                  </a:lnTo>
                  <a:lnTo>
                    <a:pt x="472" y="312"/>
                  </a:lnTo>
                  <a:lnTo>
                    <a:pt x="505" y="264"/>
                  </a:lnTo>
                  <a:lnTo>
                    <a:pt x="521" y="224"/>
                  </a:lnTo>
                  <a:lnTo>
                    <a:pt x="537" y="208"/>
                  </a:lnTo>
                  <a:lnTo>
                    <a:pt x="577" y="168"/>
                  </a:lnTo>
                  <a:lnTo>
                    <a:pt x="585" y="160"/>
                  </a:lnTo>
                  <a:lnTo>
                    <a:pt x="609" y="104"/>
                  </a:lnTo>
                  <a:lnTo>
                    <a:pt x="633" y="72"/>
                  </a:lnTo>
                  <a:lnTo>
                    <a:pt x="673" y="56"/>
                  </a:lnTo>
                  <a:lnTo>
                    <a:pt x="681" y="48"/>
                  </a:lnTo>
                  <a:lnTo>
                    <a:pt x="713" y="0"/>
                  </a:lnTo>
                  <a:lnTo>
                    <a:pt x="737" y="0"/>
                  </a:lnTo>
                  <a:lnTo>
                    <a:pt x="785" y="0"/>
                  </a:lnTo>
                  <a:lnTo>
                    <a:pt x="841" y="0"/>
                  </a:lnTo>
                  <a:lnTo>
                    <a:pt x="889" y="0"/>
                  </a:lnTo>
                  <a:lnTo>
                    <a:pt x="945" y="0"/>
                  </a:lnTo>
                  <a:lnTo>
                    <a:pt x="993" y="0"/>
                  </a:lnTo>
                  <a:lnTo>
                    <a:pt x="1049" y="0"/>
                  </a:lnTo>
                  <a:lnTo>
                    <a:pt x="1097" y="0"/>
                  </a:lnTo>
                  <a:lnTo>
                    <a:pt x="1153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close/>
                </a:path>
              </a:pathLst>
            </a:custGeom>
            <a:solidFill>
              <a:srgbClr val="002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59760" y="676800"/>
              <a:ext cx="3700080" cy="4286520"/>
            </a:xfrm>
            <a:custGeom>
              <a:avLst/>
              <a:gdLst/>
              <a:ahLst/>
              <a:rect l="l" t="t" r="r" b="b"/>
              <a:pathLst>
                <a:path w="1777" h="2281">
                  <a:moveTo>
                    <a:pt x="1777" y="0"/>
                  </a:moveTo>
                  <a:lnTo>
                    <a:pt x="1777" y="0"/>
                  </a:lnTo>
                  <a:lnTo>
                    <a:pt x="1777" y="56"/>
                  </a:lnTo>
                  <a:lnTo>
                    <a:pt x="1777" y="104"/>
                  </a:lnTo>
                  <a:lnTo>
                    <a:pt x="1777" y="160"/>
                  </a:lnTo>
                  <a:lnTo>
                    <a:pt x="1777" y="208"/>
                  </a:lnTo>
                  <a:lnTo>
                    <a:pt x="1777" y="264"/>
                  </a:lnTo>
                  <a:lnTo>
                    <a:pt x="1777" y="312"/>
                  </a:lnTo>
                  <a:lnTo>
                    <a:pt x="1777" y="368"/>
                  </a:lnTo>
                  <a:lnTo>
                    <a:pt x="1777" y="416"/>
                  </a:lnTo>
                  <a:lnTo>
                    <a:pt x="1777" y="472"/>
                  </a:lnTo>
                  <a:lnTo>
                    <a:pt x="1777" y="520"/>
                  </a:lnTo>
                  <a:lnTo>
                    <a:pt x="1777" y="576"/>
                  </a:lnTo>
                  <a:lnTo>
                    <a:pt x="1777" y="624"/>
                  </a:lnTo>
                  <a:lnTo>
                    <a:pt x="1777" y="680"/>
                  </a:lnTo>
                  <a:lnTo>
                    <a:pt x="1777" y="728"/>
                  </a:lnTo>
                  <a:lnTo>
                    <a:pt x="1777" y="784"/>
                  </a:lnTo>
                  <a:lnTo>
                    <a:pt x="1777" y="832"/>
                  </a:lnTo>
                  <a:lnTo>
                    <a:pt x="1777" y="888"/>
                  </a:lnTo>
                  <a:lnTo>
                    <a:pt x="1777" y="936"/>
                  </a:lnTo>
                  <a:lnTo>
                    <a:pt x="1777" y="992"/>
                  </a:lnTo>
                  <a:lnTo>
                    <a:pt x="1777" y="1040"/>
                  </a:lnTo>
                  <a:lnTo>
                    <a:pt x="1777" y="1096"/>
                  </a:lnTo>
                  <a:lnTo>
                    <a:pt x="1777" y="1144"/>
                  </a:lnTo>
                  <a:lnTo>
                    <a:pt x="1777" y="1200"/>
                  </a:lnTo>
                  <a:lnTo>
                    <a:pt x="1777" y="1248"/>
                  </a:lnTo>
                  <a:lnTo>
                    <a:pt x="1777" y="1248"/>
                  </a:lnTo>
                  <a:lnTo>
                    <a:pt x="1745" y="1304"/>
                  </a:lnTo>
                  <a:lnTo>
                    <a:pt x="1721" y="1328"/>
                  </a:lnTo>
                  <a:lnTo>
                    <a:pt x="1705" y="1352"/>
                  </a:lnTo>
                  <a:lnTo>
                    <a:pt x="1673" y="1392"/>
                  </a:lnTo>
                  <a:lnTo>
                    <a:pt x="1657" y="1408"/>
                  </a:lnTo>
                  <a:lnTo>
                    <a:pt x="1617" y="1448"/>
                  </a:lnTo>
                  <a:lnTo>
                    <a:pt x="1609" y="1464"/>
                  </a:lnTo>
                  <a:lnTo>
                    <a:pt x="1577" y="1513"/>
                  </a:lnTo>
                  <a:lnTo>
                    <a:pt x="1569" y="1545"/>
                  </a:lnTo>
                  <a:lnTo>
                    <a:pt x="1561" y="1569"/>
                  </a:lnTo>
                  <a:lnTo>
                    <a:pt x="1529" y="1617"/>
                  </a:lnTo>
                  <a:lnTo>
                    <a:pt x="1513" y="1633"/>
                  </a:lnTo>
                  <a:lnTo>
                    <a:pt x="1497" y="1673"/>
                  </a:lnTo>
                  <a:lnTo>
                    <a:pt x="1465" y="1713"/>
                  </a:lnTo>
                  <a:lnTo>
                    <a:pt x="1457" y="1721"/>
                  </a:lnTo>
                  <a:lnTo>
                    <a:pt x="1425" y="1777"/>
                  </a:lnTo>
                  <a:lnTo>
                    <a:pt x="1409" y="1785"/>
                  </a:lnTo>
                  <a:lnTo>
                    <a:pt x="1361" y="1825"/>
                  </a:lnTo>
                  <a:lnTo>
                    <a:pt x="1361" y="1833"/>
                  </a:lnTo>
                  <a:lnTo>
                    <a:pt x="1313" y="1881"/>
                  </a:lnTo>
                  <a:lnTo>
                    <a:pt x="1305" y="1889"/>
                  </a:lnTo>
                  <a:lnTo>
                    <a:pt x="1265" y="1929"/>
                  </a:lnTo>
                  <a:lnTo>
                    <a:pt x="1257" y="1937"/>
                  </a:lnTo>
                  <a:lnTo>
                    <a:pt x="1209" y="1985"/>
                  </a:lnTo>
                  <a:lnTo>
                    <a:pt x="1201" y="1993"/>
                  </a:lnTo>
                  <a:lnTo>
                    <a:pt x="1153" y="2033"/>
                  </a:lnTo>
                  <a:lnTo>
                    <a:pt x="1137" y="2033"/>
                  </a:lnTo>
                  <a:lnTo>
                    <a:pt x="1097" y="2049"/>
                  </a:lnTo>
                  <a:lnTo>
                    <a:pt x="1057" y="2089"/>
                  </a:lnTo>
                  <a:lnTo>
                    <a:pt x="1049" y="2097"/>
                  </a:lnTo>
                  <a:lnTo>
                    <a:pt x="993" y="2121"/>
                  </a:lnTo>
                  <a:lnTo>
                    <a:pt x="961" y="2137"/>
                  </a:lnTo>
                  <a:lnTo>
                    <a:pt x="945" y="2153"/>
                  </a:lnTo>
                  <a:lnTo>
                    <a:pt x="889" y="2169"/>
                  </a:lnTo>
                  <a:lnTo>
                    <a:pt x="841" y="2177"/>
                  </a:lnTo>
                  <a:lnTo>
                    <a:pt x="809" y="2193"/>
                  </a:lnTo>
                  <a:lnTo>
                    <a:pt x="785" y="2201"/>
                  </a:lnTo>
                  <a:lnTo>
                    <a:pt x="737" y="2225"/>
                  </a:lnTo>
                  <a:lnTo>
                    <a:pt x="681" y="2241"/>
                  </a:lnTo>
                  <a:lnTo>
                    <a:pt x="665" y="2241"/>
                  </a:lnTo>
                  <a:lnTo>
                    <a:pt x="633" y="2249"/>
                  </a:lnTo>
                  <a:lnTo>
                    <a:pt x="577" y="2273"/>
                  </a:lnTo>
                  <a:lnTo>
                    <a:pt x="521" y="2281"/>
                  </a:lnTo>
                  <a:lnTo>
                    <a:pt x="472" y="2273"/>
                  </a:lnTo>
                  <a:lnTo>
                    <a:pt x="416" y="2273"/>
                  </a:lnTo>
                  <a:lnTo>
                    <a:pt x="368" y="2257"/>
                  </a:lnTo>
                  <a:lnTo>
                    <a:pt x="336" y="2241"/>
                  </a:lnTo>
                  <a:lnTo>
                    <a:pt x="312" y="2233"/>
                  </a:lnTo>
                  <a:lnTo>
                    <a:pt x="264" y="2201"/>
                  </a:lnTo>
                  <a:lnTo>
                    <a:pt x="248" y="2193"/>
                  </a:lnTo>
                  <a:lnTo>
                    <a:pt x="208" y="2153"/>
                  </a:lnTo>
                  <a:lnTo>
                    <a:pt x="192" y="2137"/>
                  </a:lnTo>
                  <a:lnTo>
                    <a:pt x="160" y="2097"/>
                  </a:lnTo>
                  <a:lnTo>
                    <a:pt x="152" y="2089"/>
                  </a:lnTo>
                  <a:lnTo>
                    <a:pt x="112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24" y="1825"/>
                  </a:lnTo>
                  <a:lnTo>
                    <a:pt x="16" y="1777"/>
                  </a:lnTo>
                  <a:lnTo>
                    <a:pt x="8" y="1721"/>
                  </a:lnTo>
                  <a:lnTo>
                    <a:pt x="0" y="1673"/>
                  </a:lnTo>
                  <a:lnTo>
                    <a:pt x="0" y="1673"/>
                  </a:lnTo>
                  <a:lnTo>
                    <a:pt x="0" y="1617"/>
                  </a:lnTo>
                  <a:lnTo>
                    <a:pt x="0" y="1617"/>
                  </a:lnTo>
                  <a:lnTo>
                    <a:pt x="8" y="1569"/>
                  </a:lnTo>
                  <a:lnTo>
                    <a:pt x="24" y="1513"/>
                  </a:lnTo>
                  <a:lnTo>
                    <a:pt x="40" y="1464"/>
                  </a:lnTo>
                  <a:lnTo>
                    <a:pt x="56" y="1432"/>
                  </a:lnTo>
                  <a:lnTo>
                    <a:pt x="64" y="1408"/>
                  </a:lnTo>
                  <a:lnTo>
                    <a:pt x="88" y="1352"/>
                  </a:lnTo>
                  <a:lnTo>
                    <a:pt x="104" y="1304"/>
                  </a:lnTo>
                  <a:lnTo>
                    <a:pt x="104" y="1296"/>
                  </a:lnTo>
                  <a:lnTo>
                    <a:pt x="112" y="1248"/>
                  </a:lnTo>
                  <a:lnTo>
                    <a:pt x="128" y="1200"/>
                  </a:lnTo>
                  <a:lnTo>
                    <a:pt x="160" y="1144"/>
                  </a:lnTo>
                  <a:lnTo>
                    <a:pt x="160" y="1144"/>
                  </a:lnTo>
                  <a:lnTo>
                    <a:pt x="176" y="1096"/>
                  </a:lnTo>
                  <a:lnTo>
                    <a:pt x="200" y="1040"/>
                  </a:lnTo>
                  <a:lnTo>
                    <a:pt x="208" y="1024"/>
                  </a:lnTo>
                  <a:lnTo>
                    <a:pt x="216" y="992"/>
                  </a:lnTo>
                  <a:lnTo>
                    <a:pt x="240" y="936"/>
                  </a:lnTo>
                  <a:lnTo>
                    <a:pt x="256" y="888"/>
                  </a:lnTo>
                  <a:lnTo>
                    <a:pt x="264" y="880"/>
                  </a:lnTo>
                  <a:lnTo>
                    <a:pt x="288" y="832"/>
                  </a:lnTo>
                  <a:lnTo>
                    <a:pt x="312" y="792"/>
                  </a:lnTo>
                  <a:lnTo>
                    <a:pt x="320" y="784"/>
                  </a:lnTo>
                  <a:lnTo>
                    <a:pt x="344" y="728"/>
                  </a:lnTo>
                  <a:lnTo>
                    <a:pt x="368" y="680"/>
                  </a:lnTo>
                  <a:lnTo>
                    <a:pt x="368" y="680"/>
                  </a:lnTo>
                  <a:lnTo>
                    <a:pt x="392" y="624"/>
                  </a:lnTo>
                  <a:lnTo>
                    <a:pt x="408" y="576"/>
                  </a:lnTo>
                  <a:lnTo>
                    <a:pt x="416" y="528"/>
                  </a:lnTo>
                  <a:lnTo>
                    <a:pt x="424" y="520"/>
                  </a:lnTo>
                  <a:lnTo>
                    <a:pt x="432" y="472"/>
                  </a:lnTo>
                  <a:lnTo>
                    <a:pt x="440" y="416"/>
                  </a:lnTo>
                  <a:lnTo>
                    <a:pt x="448" y="368"/>
                  </a:lnTo>
                  <a:lnTo>
                    <a:pt x="472" y="320"/>
                  </a:lnTo>
                  <a:lnTo>
                    <a:pt x="472" y="312"/>
                  </a:lnTo>
                  <a:lnTo>
                    <a:pt x="505" y="264"/>
                  </a:lnTo>
                  <a:lnTo>
                    <a:pt x="521" y="224"/>
                  </a:lnTo>
                  <a:lnTo>
                    <a:pt x="537" y="208"/>
                  </a:lnTo>
                  <a:lnTo>
                    <a:pt x="577" y="168"/>
                  </a:lnTo>
                  <a:lnTo>
                    <a:pt x="585" y="160"/>
                  </a:lnTo>
                  <a:lnTo>
                    <a:pt x="609" y="104"/>
                  </a:lnTo>
                  <a:lnTo>
                    <a:pt x="633" y="72"/>
                  </a:lnTo>
                  <a:lnTo>
                    <a:pt x="673" y="56"/>
                  </a:lnTo>
                  <a:lnTo>
                    <a:pt x="681" y="48"/>
                  </a:lnTo>
                  <a:lnTo>
                    <a:pt x="713" y="0"/>
                  </a:lnTo>
                  <a:lnTo>
                    <a:pt x="737" y="0"/>
                  </a:lnTo>
                  <a:lnTo>
                    <a:pt x="785" y="0"/>
                  </a:lnTo>
                  <a:lnTo>
                    <a:pt x="841" y="0"/>
                  </a:lnTo>
                  <a:lnTo>
                    <a:pt x="889" y="0"/>
                  </a:lnTo>
                  <a:lnTo>
                    <a:pt x="945" y="0"/>
                  </a:lnTo>
                  <a:lnTo>
                    <a:pt x="993" y="0"/>
                  </a:lnTo>
                  <a:lnTo>
                    <a:pt x="1049" y="0"/>
                  </a:lnTo>
                  <a:lnTo>
                    <a:pt x="1097" y="0"/>
                  </a:lnTo>
                  <a:lnTo>
                    <a:pt x="1153" y="0"/>
                  </a:lnTo>
                  <a:lnTo>
                    <a:pt x="1201" y="0"/>
                  </a:lnTo>
                  <a:lnTo>
                    <a:pt x="1257" y="0"/>
                  </a:lnTo>
                  <a:lnTo>
                    <a:pt x="1305" y="0"/>
                  </a:lnTo>
                  <a:lnTo>
                    <a:pt x="1361" y="0"/>
                  </a:lnTo>
                  <a:lnTo>
                    <a:pt x="1409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617" y="0"/>
                  </a:lnTo>
                  <a:lnTo>
                    <a:pt x="1673" y="0"/>
                  </a:lnTo>
                  <a:lnTo>
                    <a:pt x="1721" y="0"/>
                  </a:lnTo>
                  <a:lnTo>
                    <a:pt x="1777" y="0"/>
                  </a:lnTo>
                  <a:lnTo>
                    <a:pt x="1777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9560" y="676800"/>
              <a:ext cx="3500280" cy="4151160"/>
            </a:xfrm>
            <a:custGeom>
              <a:avLst/>
              <a:gdLst/>
              <a:ahLst/>
              <a:rect l="l" t="t" r="r" b="b"/>
              <a:pathLst>
                <a:path w="1681" h="2209">
                  <a:moveTo>
                    <a:pt x="1681" y="0"/>
                  </a:moveTo>
                  <a:lnTo>
                    <a:pt x="1681" y="0"/>
                  </a:lnTo>
                  <a:lnTo>
                    <a:pt x="1681" y="56"/>
                  </a:lnTo>
                  <a:lnTo>
                    <a:pt x="1681" y="104"/>
                  </a:lnTo>
                  <a:lnTo>
                    <a:pt x="1681" y="160"/>
                  </a:lnTo>
                  <a:lnTo>
                    <a:pt x="1681" y="208"/>
                  </a:lnTo>
                  <a:lnTo>
                    <a:pt x="1681" y="264"/>
                  </a:lnTo>
                  <a:lnTo>
                    <a:pt x="1681" y="312"/>
                  </a:lnTo>
                  <a:lnTo>
                    <a:pt x="1681" y="368"/>
                  </a:lnTo>
                  <a:lnTo>
                    <a:pt x="1681" y="416"/>
                  </a:lnTo>
                  <a:lnTo>
                    <a:pt x="1681" y="472"/>
                  </a:lnTo>
                  <a:lnTo>
                    <a:pt x="1681" y="520"/>
                  </a:lnTo>
                  <a:lnTo>
                    <a:pt x="1681" y="576"/>
                  </a:lnTo>
                  <a:lnTo>
                    <a:pt x="1681" y="624"/>
                  </a:lnTo>
                  <a:lnTo>
                    <a:pt x="1681" y="680"/>
                  </a:lnTo>
                  <a:lnTo>
                    <a:pt x="1681" y="728"/>
                  </a:lnTo>
                  <a:lnTo>
                    <a:pt x="1681" y="784"/>
                  </a:lnTo>
                  <a:lnTo>
                    <a:pt x="1681" y="832"/>
                  </a:lnTo>
                  <a:lnTo>
                    <a:pt x="1681" y="888"/>
                  </a:lnTo>
                  <a:lnTo>
                    <a:pt x="1681" y="936"/>
                  </a:lnTo>
                  <a:lnTo>
                    <a:pt x="1681" y="992"/>
                  </a:lnTo>
                  <a:lnTo>
                    <a:pt x="1681" y="1040"/>
                  </a:lnTo>
                  <a:lnTo>
                    <a:pt x="1681" y="1096"/>
                  </a:lnTo>
                  <a:lnTo>
                    <a:pt x="1681" y="1112"/>
                  </a:lnTo>
                  <a:lnTo>
                    <a:pt x="1649" y="1144"/>
                  </a:lnTo>
                  <a:lnTo>
                    <a:pt x="1625" y="1168"/>
                  </a:lnTo>
                  <a:lnTo>
                    <a:pt x="1593" y="1200"/>
                  </a:lnTo>
                  <a:lnTo>
                    <a:pt x="1577" y="1216"/>
                  </a:lnTo>
                  <a:lnTo>
                    <a:pt x="1545" y="1248"/>
                  </a:lnTo>
                  <a:lnTo>
                    <a:pt x="1521" y="1272"/>
                  </a:lnTo>
                  <a:lnTo>
                    <a:pt x="1505" y="1304"/>
                  </a:lnTo>
                  <a:lnTo>
                    <a:pt x="1473" y="1352"/>
                  </a:lnTo>
                  <a:lnTo>
                    <a:pt x="1473" y="1360"/>
                  </a:lnTo>
                  <a:lnTo>
                    <a:pt x="1425" y="1408"/>
                  </a:lnTo>
                  <a:lnTo>
                    <a:pt x="1417" y="1416"/>
                  </a:lnTo>
                  <a:lnTo>
                    <a:pt x="1393" y="1464"/>
                  </a:lnTo>
                  <a:lnTo>
                    <a:pt x="1369" y="1513"/>
                  </a:lnTo>
                  <a:lnTo>
                    <a:pt x="1369" y="1521"/>
                  </a:lnTo>
                  <a:lnTo>
                    <a:pt x="1337" y="1569"/>
                  </a:lnTo>
                  <a:lnTo>
                    <a:pt x="1313" y="1593"/>
                  </a:lnTo>
                  <a:lnTo>
                    <a:pt x="1305" y="1617"/>
                  </a:lnTo>
                  <a:lnTo>
                    <a:pt x="1265" y="1673"/>
                  </a:lnTo>
                  <a:lnTo>
                    <a:pt x="1265" y="1673"/>
                  </a:lnTo>
                  <a:lnTo>
                    <a:pt x="1233" y="1721"/>
                  </a:lnTo>
                  <a:lnTo>
                    <a:pt x="1209" y="1753"/>
                  </a:lnTo>
                  <a:lnTo>
                    <a:pt x="1193" y="1777"/>
                  </a:lnTo>
                  <a:lnTo>
                    <a:pt x="1161" y="1825"/>
                  </a:lnTo>
                  <a:lnTo>
                    <a:pt x="1153" y="1825"/>
                  </a:lnTo>
                  <a:lnTo>
                    <a:pt x="1113" y="1881"/>
                  </a:lnTo>
                  <a:lnTo>
                    <a:pt x="1105" y="1889"/>
                  </a:lnTo>
                  <a:lnTo>
                    <a:pt x="1057" y="1929"/>
                  </a:lnTo>
                  <a:lnTo>
                    <a:pt x="1049" y="1929"/>
                  </a:lnTo>
                  <a:lnTo>
                    <a:pt x="1001" y="1961"/>
                  </a:lnTo>
                  <a:lnTo>
                    <a:pt x="977" y="1985"/>
                  </a:lnTo>
                  <a:lnTo>
                    <a:pt x="953" y="2009"/>
                  </a:lnTo>
                  <a:lnTo>
                    <a:pt x="913" y="2033"/>
                  </a:lnTo>
                  <a:lnTo>
                    <a:pt x="897" y="2041"/>
                  </a:lnTo>
                  <a:lnTo>
                    <a:pt x="849" y="2073"/>
                  </a:lnTo>
                  <a:lnTo>
                    <a:pt x="809" y="2089"/>
                  </a:lnTo>
                  <a:lnTo>
                    <a:pt x="793" y="2089"/>
                  </a:lnTo>
                  <a:lnTo>
                    <a:pt x="745" y="2113"/>
                  </a:lnTo>
                  <a:lnTo>
                    <a:pt x="689" y="2137"/>
                  </a:lnTo>
                  <a:lnTo>
                    <a:pt x="673" y="2137"/>
                  </a:lnTo>
                  <a:lnTo>
                    <a:pt x="641" y="2153"/>
                  </a:lnTo>
                  <a:lnTo>
                    <a:pt x="585" y="2169"/>
                  </a:lnTo>
                  <a:lnTo>
                    <a:pt x="537" y="2185"/>
                  </a:lnTo>
                  <a:lnTo>
                    <a:pt x="497" y="2193"/>
                  </a:lnTo>
                  <a:lnTo>
                    <a:pt x="481" y="2193"/>
                  </a:lnTo>
                  <a:lnTo>
                    <a:pt x="425" y="2209"/>
                  </a:lnTo>
                  <a:lnTo>
                    <a:pt x="376" y="2209"/>
                  </a:lnTo>
                  <a:lnTo>
                    <a:pt x="320" y="2201"/>
                  </a:lnTo>
                  <a:lnTo>
                    <a:pt x="272" y="2193"/>
                  </a:lnTo>
                  <a:lnTo>
                    <a:pt x="272" y="2193"/>
                  </a:lnTo>
                  <a:lnTo>
                    <a:pt x="216" y="2161"/>
                  </a:lnTo>
                  <a:lnTo>
                    <a:pt x="184" y="2137"/>
                  </a:lnTo>
                  <a:lnTo>
                    <a:pt x="168" y="2129"/>
                  </a:lnTo>
                  <a:lnTo>
                    <a:pt x="128" y="2089"/>
                  </a:lnTo>
                  <a:lnTo>
                    <a:pt x="112" y="2057"/>
                  </a:lnTo>
                  <a:lnTo>
                    <a:pt x="96" y="2033"/>
                  </a:lnTo>
                  <a:lnTo>
                    <a:pt x="64" y="1985"/>
                  </a:lnTo>
                  <a:lnTo>
                    <a:pt x="56" y="1985"/>
                  </a:lnTo>
                  <a:lnTo>
                    <a:pt x="32" y="1929"/>
                  </a:lnTo>
                  <a:lnTo>
                    <a:pt x="24" y="1881"/>
                  </a:lnTo>
                  <a:lnTo>
                    <a:pt x="8" y="1841"/>
                  </a:lnTo>
                  <a:lnTo>
                    <a:pt x="8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41"/>
                  </a:lnTo>
                  <a:lnTo>
                    <a:pt x="16" y="1617"/>
                  </a:lnTo>
                  <a:lnTo>
                    <a:pt x="16" y="1569"/>
                  </a:lnTo>
                  <a:lnTo>
                    <a:pt x="24" y="1513"/>
                  </a:lnTo>
                  <a:lnTo>
                    <a:pt x="56" y="1464"/>
                  </a:lnTo>
                  <a:lnTo>
                    <a:pt x="64" y="1440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96" y="1304"/>
                  </a:lnTo>
                  <a:lnTo>
                    <a:pt x="112" y="1264"/>
                  </a:lnTo>
                  <a:lnTo>
                    <a:pt x="120" y="1248"/>
                  </a:lnTo>
                  <a:lnTo>
                    <a:pt x="152" y="1200"/>
                  </a:lnTo>
                  <a:lnTo>
                    <a:pt x="168" y="1168"/>
                  </a:lnTo>
                  <a:lnTo>
                    <a:pt x="168" y="1144"/>
                  </a:lnTo>
                  <a:lnTo>
                    <a:pt x="192" y="1096"/>
                  </a:lnTo>
                  <a:lnTo>
                    <a:pt x="216" y="1040"/>
                  </a:lnTo>
                  <a:lnTo>
                    <a:pt x="216" y="1032"/>
                  </a:lnTo>
                  <a:lnTo>
                    <a:pt x="248" y="992"/>
                  </a:lnTo>
                  <a:lnTo>
                    <a:pt x="272" y="960"/>
                  </a:lnTo>
                  <a:lnTo>
                    <a:pt x="280" y="936"/>
                  </a:lnTo>
                  <a:lnTo>
                    <a:pt x="296" y="888"/>
                  </a:lnTo>
                  <a:lnTo>
                    <a:pt x="312" y="832"/>
                  </a:lnTo>
                  <a:lnTo>
                    <a:pt x="320" y="808"/>
                  </a:lnTo>
                  <a:lnTo>
                    <a:pt x="344" y="784"/>
                  </a:lnTo>
                  <a:lnTo>
                    <a:pt x="376" y="728"/>
                  </a:lnTo>
                  <a:lnTo>
                    <a:pt x="376" y="728"/>
                  </a:lnTo>
                  <a:lnTo>
                    <a:pt x="392" y="680"/>
                  </a:lnTo>
                  <a:lnTo>
                    <a:pt x="417" y="624"/>
                  </a:lnTo>
                  <a:lnTo>
                    <a:pt x="425" y="592"/>
                  </a:lnTo>
                  <a:lnTo>
                    <a:pt x="441" y="576"/>
                  </a:lnTo>
                  <a:lnTo>
                    <a:pt x="457" y="520"/>
                  </a:lnTo>
                  <a:lnTo>
                    <a:pt x="481" y="480"/>
                  </a:lnTo>
                  <a:lnTo>
                    <a:pt x="489" y="472"/>
                  </a:lnTo>
                  <a:lnTo>
                    <a:pt x="529" y="416"/>
                  </a:lnTo>
                  <a:lnTo>
                    <a:pt x="537" y="408"/>
                  </a:lnTo>
                  <a:lnTo>
                    <a:pt x="553" y="368"/>
                  </a:lnTo>
                  <a:lnTo>
                    <a:pt x="577" y="312"/>
                  </a:lnTo>
                  <a:lnTo>
                    <a:pt x="585" y="304"/>
                  </a:lnTo>
                  <a:lnTo>
                    <a:pt x="625" y="264"/>
                  </a:lnTo>
                  <a:lnTo>
                    <a:pt x="641" y="248"/>
                  </a:lnTo>
                  <a:lnTo>
                    <a:pt x="665" y="208"/>
                  </a:lnTo>
                  <a:lnTo>
                    <a:pt x="689" y="168"/>
                  </a:lnTo>
                  <a:lnTo>
                    <a:pt x="697" y="160"/>
                  </a:lnTo>
                  <a:lnTo>
                    <a:pt x="745" y="120"/>
                  </a:lnTo>
                  <a:lnTo>
                    <a:pt x="753" y="104"/>
                  </a:lnTo>
                  <a:lnTo>
                    <a:pt x="793" y="56"/>
                  </a:lnTo>
                  <a:lnTo>
                    <a:pt x="793" y="48"/>
                  </a:lnTo>
                  <a:lnTo>
                    <a:pt x="841" y="0"/>
                  </a:lnTo>
                  <a:lnTo>
                    <a:pt x="849" y="0"/>
                  </a:lnTo>
                  <a:lnTo>
                    <a:pt x="897" y="0"/>
                  </a:lnTo>
                  <a:lnTo>
                    <a:pt x="953" y="0"/>
                  </a:lnTo>
                  <a:lnTo>
                    <a:pt x="1001" y="0"/>
                  </a:lnTo>
                  <a:lnTo>
                    <a:pt x="1057" y="0"/>
                  </a:lnTo>
                  <a:lnTo>
                    <a:pt x="1105" y="0"/>
                  </a:lnTo>
                  <a:lnTo>
                    <a:pt x="1161" y="0"/>
                  </a:lnTo>
                  <a:lnTo>
                    <a:pt x="1209" y="0"/>
                  </a:lnTo>
                  <a:lnTo>
                    <a:pt x="1265" y="0"/>
                  </a:lnTo>
                  <a:lnTo>
                    <a:pt x="1313" y="0"/>
                  </a:lnTo>
                  <a:lnTo>
                    <a:pt x="1369" y="0"/>
                  </a:lnTo>
                  <a:lnTo>
                    <a:pt x="1417" y="0"/>
                  </a:lnTo>
                  <a:lnTo>
                    <a:pt x="1473" y="0"/>
                  </a:lnTo>
                  <a:lnTo>
                    <a:pt x="1521" y="0"/>
                  </a:lnTo>
                  <a:lnTo>
                    <a:pt x="1577" y="0"/>
                  </a:lnTo>
                  <a:lnTo>
                    <a:pt x="1625" y="0"/>
                  </a:lnTo>
                  <a:lnTo>
                    <a:pt x="1681" y="0"/>
                  </a:lnTo>
                  <a:close/>
                </a:path>
              </a:pathLst>
            </a:custGeom>
            <a:solidFill>
              <a:srgbClr val="00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59560" y="676800"/>
              <a:ext cx="3500280" cy="4151160"/>
            </a:xfrm>
            <a:custGeom>
              <a:avLst/>
              <a:gdLst/>
              <a:ahLst/>
              <a:rect l="l" t="t" r="r" b="b"/>
              <a:pathLst>
                <a:path w="1681" h="2209">
                  <a:moveTo>
                    <a:pt x="1681" y="0"/>
                  </a:moveTo>
                  <a:lnTo>
                    <a:pt x="1681" y="0"/>
                  </a:lnTo>
                  <a:lnTo>
                    <a:pt x="1681" y="56"/>
                  </a:lnTo>
                  <a:lnTo>
                    <a:pt x="1681" y="104"/>
                  </a:lnTo>
                  <a:lnTo>
                    <a:pt x="1681" y="160"/>
                  </a:lnTo>
                  <a:lnTo>
                    <a:pt x="1681" y="208"/>
                  </a:lnTo>
                  <a:lnTo>
                    <a:pt x="1681" y="264"/>
                  </a:lnTo>
                  <a:lnTo>
                    <a:pt x="1681" y="312"/>
                  </a:lnTo>
                  <a:lnTo>
                    <a:pt x="1681" y="368"/>
                  </a:lnTo>
                  <a:lnTo>
                    <a:pt x="1681" y="416"/>
                  </a:lnTo>
                  <a:lnTo>
                    <a:pt x="1681" y="472"/>
                  </a:lnTo>
                  <a:lnTo>
                    <a:pt x="1681" y="520"/>
                  </a:lnTo>
                  <a:lnTo>
                    <a:pt x="1681" y="576"/>
                  </a:lnTo>
                  <a:lnTo>
                    <a:pt x="1681" y="624"/>
                  </a:lnTo>
                  <a:lnTo>
                    <a:pt x="1681" y="680"/>
                  </a:lnTo>
                  <a:lnTo>
                    <a:pt x="1681" y="728"/>
                  </a:lnTo>
                  <a:lnTo>
                    <a:pt x="1681" y="784"/>
                  </a:lnTo>
                  <a:lnTo>
                    <a:pt x="1681" y="832"/>
                  </a:lnTo>
                  <a:lnTo>
                    <a:pt x="1681" y="888"/>
                  </a:lnTo>
                  <a:lnTo>
                    <a:pt x="1681" y="936"/>
                  </a:lnTo>
                  <a:lnTo>
                    <a:pt x="1681" y="992"/>
                  </a:lnTo>
                  <a:lnTo>
                    <a:pt x="1681" y="1040"/>
                  </a:lnTo>
                  <a:lnTo>
                    <a:pt x="1681" y="1096"/>
                  </a:lnTo>
                  <a:lnTo>
                    <a:pt x="1681" y="1112"/>
                  </a:lnTo>
                  <a:lnTo>
                    <a:pt x="1649" y="1144"/>
                  </a:lnTo>
                  <a:lnTo>
                    <a:pt x="1625" y="1168"/>
                  </a:lnTo>
                  <a:lnTo>
                    <a:pt x="1593" y="1200"/>
                  </a:lnTo>
                  <a:lnTo>
                    <a:pt x="1577" y="1216"/>
                  </a:lnTo>
                  <a:lnTo>
                    <a:pt x="1545" y="1248"/>
                  </a:lnTo>
                  <a:lnTo>
                    <a:pt x="1521" y="1272"/>
                  </a:lnTo>
                  <a:lnTo>
                    <a:pt x="1505" y="1304"/>
                  </a:lnTo>
                  <a:lnTo>
                    <a:pt x="1473" y="1352"/>
                  </a:lnTo>
                  <a:lnTo>
                    <a:pt x="1473" y="1360"/>
                  </a:lnTo>
                  <a:lnTo>
                    <a:pt x="1425" y="1408"/>
                  </a:lnTo>
                  <a:lnTo>
                    <a:pt x="1417" y="1416"/>
                  </a:lnTo>
                  <a:lnTo>
                    <a:pt x="1393" y="1464"/>
                  </a:lnTo>
                  <a:lnTo>
                    <a:pt x="1369" y="1513"/>
                  </a:lnTo>
                  <a:lnTo>
                    <a:pt x="1369" y="1521"/>
                  </a:lnTo>
                  <a:lnTo>
                    <a:pt x="1337" y="1569"/>
                  </a:lnTo>
                  <a:lnTo>
                    <a:pt x="1313" y="1593"/>
                  </a:lnTo>
                  <a:lnTo>
                    <a:pt x="1305" y="1617"/>
                  </a:lnTo>
                  <a:lnTo>
                    <a:pt x="1265" y="1673"/>
                  </a:lnTo>
                  <a:lnTo>
                    <a:pt x="1265" y="1673"/>
                  </a:lnTo>
                  <a:lnTo>
                    <a:pt x="1233" y="1721"/>
                  </a:lnTo>
                  <a:lnTo>
                    <a:pt x="1209" y="1753"/>
                  </a:lnTo>
                  <a:lnTo>
                    <a:pt x="1193" y="1777"/>
                  </a:lnTo>
                  <a:lnTo>
                    <a:pt x="1161" y="1825"/>
                  </a:lnTo>
                  <a:lnTo>
                    <a:pt x="1153" y="1825"/>
                  </a:lnTo>
                  <a:lnTo>
                    <a:pt x="1113" y="1881"/>
                  </a:lnTo>
                  <a:lnTo>
                    <a:pt x="1105" y="1889"/>
                  </a:lnTo>
                  <a:lnTo>
                    <a:pt x="1057" y="1929"/>
                  </a:lnTo>
                  <a:lnTo>
                    <a:pt x="1049" y="1929"/>
                  </a:lnTo>
                  <a:lnTo>
                    <a:pt x="1001" y="1961"/>
                  </a:lnTo>
                  <a:lnTo>
                    <a:pt x="977" y="1985"/>
                  </a:lnTo>
                  <a:lnTo>
                    <a:pt x="953" y="2009"/>
                  </a:lnTo>
                  <a:lnTo>
                    <a:pt x="913" y="2033"/>
                  </a:lnTo>
                  <a:lnTo>
                    <a:pt x="897" y="2041"/>
                  </a:lnTo>
                  <a:lnTo>
                    <a:pt x="849" y="2073"/>
                  </a:lnTo>
                  <a:lnTo>
                    <a:pt x="809" y="2089"/>
                  </a:lnTo>
                  <a:lnTo>
                    <a:pt x="793" y="2089"/>
                  </a:lnTo>
                  <a:lnTo>
                    <a:pt x="745" y="2113"/>
                  </a:lnTo>
                  <a:lnTo>
                    <a:pt x="689" y="2137"/>
                  </a:lnTo>
                  <a:lnTo>
                    <a:pt x="673" y="2137"/>
                  </a:lnTo>
                  <a:lnTo>
                    <a:pt x="641" y="2153"/>
                  </a:lnTo>
                  <a:lnTo>
                    <a:pt x="585" y="2169"/>
                  </a:lnTo>
                  <a:lnTo>
                    <a:pt x="537" y="2185"/>
                  </a:lnTo>
                  <a:lnTo>
                    <a:pt x="497" y="2193"/>
                  </a:lnTo>
                  <a:lnTo>
                    <a:pt x="481" y="2193"/>
                  </a:lnTo>
                  <a:lnTo>
                    <a:pt x="425" y="2209"/>
                  </a:lnTo>
                  <a:lnTo>
                    <a:pt x="376" y="2209"/>
                  </a:lnTo>
                  <a:lnTo>
                    <a:pt x="320" y="2201"/>
                  </a:lnTo>
                  <a:lnTo>
                    <a:pt x="272" y="2193"/>
                  </a:lnTo>
                  <a:lnTo>
                    <a:pt x="272" y="2193"/>
                  </a:lnTo>
                  <a:lnTo>
                    <a:pt x="216" y="2161"/>
                  </a:lnTo>
                  <a:lnTo>
                    <a:pt x="184" y="2137"/>
                  </a:lnTo>
                  <a:lnTo>
                    <a:pt x="168" y="2129"/>
                  </a:lnTo>
                  <a:lnTo>
                    <a:pt x="128" y="2089"/>
                  </a:lnTo>
                  <a:lnTo>
                    <a:pt x="112" y="2057"/>
                  </a:lnTo>
                  <a:lnTo>
                    <a:pt x="96" y="2033"/>
                  </a:lnTo>
                  <a:lnTo>
                    <a:pt x="64" y="1985"/>
                  </a:lnTo>
                  <a:lnTo>
                    <a:pt x="56" y="1985"/>
                  </a:lnTo>
                  <a:lnTo>
                    <a:pt x="32" y="1929"/>
                  </a:lnTo>
                  <a:lnTo>
                    <a:pt x="24" y="1881"/>
                  </a:lnTo>
                  <a:lnTo>
                    <a:pt x="8" y="1841"/>
                  </a:lnTo>
                  <a:lnTo>
                    <a:pt x="8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0" y="1673"/>
                  </a:lnTo>
                  <a:lnTo>
                    <a:pt x="8" y="1641"/>
                  </a:lnTo>
                  <a:lnTo>
                    <a:pt x="16" y="1617"/>
                  </a:lnTo>
                  <a:lnTo>
                    <a:pt x="16" y="1569"/>
                  </a:lnTo>
                  <a:lnTo>
                    <a:pt x="24" y="1513"/>
                  </a:lnTo>
                  <a:lnTo>
                    <a:pt x="56" y="1464"/>
                  </a:lnTo>
                  <a:lnTo>
                    <a:pt x="64" y="1440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96" y="1304"/>
                  </a:lnTo>
                  <a:lnTo>
                    <a:pt x="112" y="1264"/>
                  </a:lnTo>
                  <a:lnTo>
                    <a:pt x="120" y="1248"/>
                  </a:lnTo>
                  <a:lnTo>
                    <a:pt x="152" y="1200"/>
                  </a:lnTo>
                  <a:lnTo>
                    <a:pt x="168" y="1168"/>
                  </a:lnTo>
                  <a:lnTo>
                    <a:pt x="168" y="1144"/>
                  </a:lnTo>
                  <a:lnTo>
                    <a:pt x="192" y="1096"/>
                  </a:lnTo>
                  <a:lnTo>
                    <a:pt x="216" y="1040"/>
                  </a:lnTo>
                  <a:lnTo>
                    <a:pt x="216" y="1032"/>
                  </a:lnTo>
                  <a:lnTo>
                    <a:pt x="248" y="992"/>
                  </a:lnTo>
                  <a:lnTo>
                    <a:pt x="272" y="960"/>
                  </a:lnTo>
                  <a:lnTo>
                    <a:pt x="280" y="936"/>
                  </a:lnTo>
                  <a:lnTo>
                    <a:pt x="296" y="888"/>
                  </a:lnTo>
                  <a:lnTo>
                    <a:pt x="312" y="832"/>
                  </a:lnTo>
                  <a:lnTo>
                    <a:pt x="320" y="808"/>
                  </a:lnTo>
                  <a:lnTo>
                    <a:pt x="344" y="784"/>
                  </a:lnTo>
                  <a:lnTo>
                    <a:pt x="376" y="728"/>
                  </a:lnTo>
                  <a:lnTo>
                    <a:pt x="376" y="728"/>
                  </a:lnTo>
                  <a:lnTo>
                    <a:pt x="392" y="680"/>
                  </a:lnTo>
                  <a:lnTo>
                    <a:pt x="417" y="624"/>
                  </a:lnTo>
                  <a:lnTo>
                    <a:pt x="425" y="592"/>
                  </a:lnTo>
                  <a:lnTo>
                    <a:pt x="441" y="576"/>
                  </a:lnTo>
                  <a:lnTo>
                    <a:pt x="457" y="520"/>
                  </a:lnTo>
                  <a:lnTo>
                    <a:pt x="481" y="480"/>
                  </a:lnTo>
                  <a:lnTo>
                    <a:pt x="489" y="472"/>
                  </a:lnTo>
                  <a:lnTo>
                    <a:pt x="529" y="416"/>
                  </a:lnTo>
                  <a:lnTo>
                    <a:pt x="537" y="408"/>
                  </a:lnTo>
                  <a:lnTo>
                    <a:pt x="553" y="368"/>
                  </a:lnTo>
                  <a:lnTo>
                    <a:pt x="577" y="312"/>
                  </a:lnTo>
                  <a:lnTo>
                    <a:pt x="585" y="304"/>
                  </a:lnTo>
                  <a:lnTo>
                    <a:pt x="625" y="264"/>
                  </a:lnTo>
                  <a:lnTo>
                    <a:pt x="641" y="248"/>
                  </a:lnTo>
                  <a:lnTo>
                    <a:pt x="665" y="208"/>
                  </a:lnTo>
                  <a:lnTo>
                    <a:pt x="689" y="168"/>
                  </a:lnTo>
                  <a:lnTo>
                    <a:pt x="697" y="160"/>
                  </a:lnTo>
                  <a:lnTo>
                    <a:pt x="745" y="120"/>
                  </a:lnTo>
                  <a:lnTo>
                    <a:pt x="753" y="104"/>
                  </a:lnTo>
                  <a:lnTo>
                    <a:pt x="793" y="56"/>
                  </a:lnTo>
                  <a:lnTo>
                    <a:pt x="793" y="48"/>
                  </a:lnTo>
                  <a:lnTo>
                    <a:pt x="841" y="0"/>
                  </a:lnTo>
                  <a:lnTo>
                    <a:pt x="849" y="0"/>
                  </a:lnTo>
                  <a:lnTo>
                    <a:pt x="897" y="0"/>
                  </a:lnTo>
                  <a:lnTo>
                    <a:pt x="953" y="0"/>
                  </a:lnTo>
                  <a:lnTo>
                    <a:pt x="1001" y="0"/>
                  </a:lnTo>
                  <a:lnTo>
                    <a:pt x="1057" y="0"/>
                  </a:lnTo>
                  <a:lnTo>
                    <a:pt x="1105" y="0"/>
                  </a:lnTo>
                  <a:lnTo>
                    <a:pt x="1161" y="0"/>
                  </a:lnTo>
                  <a:lnTo>
                    <a:pt x="1209" y="0"/>
                  </a:lnTo>
                  <a:lnTo>
                    <a:pt x="1265" y="0"/>
                  </a:lnTo>
                  <a:lnTo>
                    <a:pt x="1313" y="0"/>
                  </a:lnTo>
                  <a:lnTo>
                    <a:pt x="1369" y="0"/>
                  </a:lnTo>
                  <a:lnTo>
                    <a:pt x="1417" y="0"/>
                  </a:lnTo>
                  <a:lnTo>
                    <a:pt x="1473" y="0"/>
                  </a:lnTo>
                  <a:lnTo>
                    <a:pt x="1521" y="0"/>
                  </a:lnTo>
                  <a:lnTo>
                    <a:pt x="1577" y="0"/>
                  </a:lnTo>
                  <a:lnTo>
                    <a:pt x="1625" y="0"/>
                  </a:lnTo>
                  <a:lnTo>
                    <a:pt x="1681" y="0"/>
                  </a:lnTo>
                  <a:lnTo>
                    <a:pt x="168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93120" y="676800"/>
              <a:ext cx="3366720" cy="4060800"/>
            </a:xfrm>
            <a:custGeom>
              <a:avLst/>
              <a:gdLst/>
              <a:ahLst/>
              <a:rect l="l" t="t" r="r" b="b"/>
              <a:pathLst>
                <a:path w="1617" h="2161">
                  <a:moveTo>
                    <a:pt x="1617" y="0"/>
                  </a:moveTo>
                  <a:lnTo>
                    <a:pt x="1617" y="0"/>
                  </a:lnTo>
                  <a:lnTo>
                    <a:pt x="1617" y="56"/>
                  </a:lnTo>
                  <a:lnTo>
                    <a:pt x="1617" y="104"/>
                  </a:lnTo>
                  <a:lnTo>
                    <a:pt x="1617" y="160"/>
                  </a:lnTo>
                  <a:lnTo>
                    <a:pt x="1617" y="208"/>
                  </a:lnTo>
                  <a:lnTo>
                    <a:pt x="1617" y="264"/>
                  </a:lnTo>
                  <a:lnTo>
                    <a:pt x="1617" y="312"/>
                  </a:lnTo>
                  <a:lnTo>
                    <a:pt x="1617" y="368"/>
                  </a:lnTo>
                  <a:lnTo>
                    <a:pt x="1617" y="416"/>
                  </a:lnTo>
                  <a:lnTo>
                    <a:pt x="1617" y="472"/>
                  </a:lnTo>
                  <a:lnTo>
                    <a:pt x="1617" y="520"/>
                  </a:lnTo>
                  <a:lnTo>
                    <a:pt x="1617" y="576"/>
                  </a:lnTo>
                  <a:lnTo>
                    <a:pt x="1617" y="624"/>
                  </a:lnTo>
                  <a:lnTo>
                    <a:pt x="1617" y="680"/>
                  </a:lnTo>
                  <a:lnTo>
                    <a:pt x="1617" y="728"/>
                  </a:lnTo>
                  <a:lnTo>
                    <a:pt x="1617" y="784"/>
                  </a:lnTo>
                  <a:lnTo>
                    <a:pt x="1617" y="832"/>
                  </a:lnTo>
                  <a:lnTo>
                    <a:pt x="1617" y="888"/>
                  </a:lnTo>
                  <a:lnTo>
                    <a:pt x="1617" y="936"/>
                  </a:lnTo>
                  <a:lnTo>
                    <a:pt x="1617" y="936"/>
                  </a:lnTo>
                  <a:lnTo>
                    <a:pt x="1577" y="992"/>
                  </a:lnTo>
                  <a:lnTo>
                    <a:pt x="1561" y="1008"/>
                  </a:lnTo>
                  <a:lnTo>
                    <a:pt x="1537" y="1040"/>
                  </a:lnTo>
                  <a:lnTo>
                    <a:pt x="1513" y="1072"/>
                  </a:lnTo>
                  <a:lnTo>
                    <a:pt x="1497" y="1096"/>
                  </a:lnTo>
                  <a:lnTo>
                    <a:pt x="1457" y="1144"/>
                  </a:lnTo>
                  <a:lnTo>
                    <a:pt x="1457" y="1144"/>
                  </a:lnTo>
                  <a:lnTo>
                    <a:pt x="1425" y="1200"/>
                  </a:lnTo>
                  <a:lnTo>
                    <a:pt x="1409" y="1224"/>
                  </a:lnTo>
                  <a:lnTo>
                    <a:pt x="1393" y="1248"/>
                  </a:lnTo>
                  <a:lnTo>
                    <a:pt x="1353" y="1288"/>
                  </a:lnTo>
                  <a:lnTo>
                    <a:pt x="1345" y="1304"/>
                  </a:lnTo>
                  <a:lnTo>
                    <a:pt x="1305" y="1352"/>
                  </a:lnTo>
                  <a:lnTo>
                    <a:pt x="1305" y="1352"/>
                  </a:lnTo>
                  <a:lnTo>
                    <a:pt x="1273" y="1408"/>
                  </a:lnTo>
                  <a:lnTo>
                    <a:pt x="1249" y="1432"/>
                  </a:lnTo>
                  <a:lnTo>
                    <a:pt x="1233" y="1464"/>
                  </a:lnTo>
                  <a:lnTo>
                    <a:pt x="1201" y="1513"/>
                  </a:lnTo>
                  <a:lnTo>
                    <a:pt x="1201" y="1521"/>
                  </a:lnTo>
                  <a:lnTo>
                    <a:pt x="1177" y="1569"/>
                  </a:lnTo>
                  <a:lnTo>
                    <a:pt x="1161" y="1617"/>
                  </a:lnTo>
                  <a:lnTo>
                    <a:pt x="1145" y="1657"/>
                  </a:lnTo>
                  <a:lnTo>
                    <a:pt x="1137" y="1673"/>
                  </a:lnTo>
                  <a:lnTo>
                    <a:pt x="1105" y="1721"/>
                  </a:lnTo>
                  <a:lnTo>
                    <a:pt x="1097" y="1737"/>
                  </a:lnTo>
                  <a:lnTo>
                    <a:pt x="1065" y="1777"/>
                  </a:lnTo>
                  <a:lnTo>
                    <a:pt x="1041" y="1809"/>
                  </a:lnTo>
                  <a:lnTo>
                    <a:pt x="1017" y="1825"/>
                  </a:lnTo>
                  <a:lnTo>
                    <a:pt x="993" y="1857"/>
                  </a:lnTo>
                  <a:lnTo>
                    <a:pt x="961" y="1881"/>
                  </a:lnTo>
                  <a:lnTo>
                    <a:pt x="937" y="1897"/>
                  </a:lnTo>
                  <a:lnTo>
                    <a:pt x="905" y="1929"/>
                  </a:lnTo>
                  <a:lnTo>
                    <a:pt x="889" y="1945"/>
                  </a:lnTo>
                  <a:lnTo>
                    <a:pt x="833" y="1977"/>
                  </a:lnTo>
                  <a:lnTo>
                    <a:pt x="825" y="1985"/>
                  </a:lnTo>
                  <a:lnTo>
                    <a:pt x="785" y="2009"/>
                  </a:lnTo>
                  <a:lnTo>
                    <a:pt x="729" y="2033"/>
                  </a:lnTo>
                  <a:lnTo>
                    <a:pt x="729" y="2033"/>
                  </a:lnTo>
                  <a:lnTo>
                    <a:pt x="681" y="2057"/>
                  </a:lnTo>
                  <a:lnTo>
                    <a:pt x="625" y="2081"/>
                  </a:lnTo>
                  <a:lnTo>
                    <a:pt x="601" y="2089"/>
                  </a:lnTo>
                  <a:lnTo>
                    <a:pt x="577" y="2097"/>
                  </a:lnTo>
                  <a:lnTo>
                    <a:pt x="521" y="2113"/>
                  </a:lnTo>
                  <a:lnTo>
                    <a:pt x="473" y="2129"/>
                  </a:lnTo>
                  <a:lnTo>
                    <a:pt x="417" y="2137"/>
                  </a:lnTo>
                  <a:lnTo>
                    <a:pt x="409" y="2137"/>
                  </a:lnTo>
                  <a:lnTo>
                    <a:pt x="361" y="2161"/>
                  </a:lnTo>
                  <a:lnTo>
                    <a:pt x="312" y="2161"/>
                  </a:lnTo>
                  <a:lnTo>
                    <a:pt x="256" y="2153"/>
                  </a:lnTo>
                  <a:lnTo>
                    <a:pt x="208" y="2137"/>
                  </a:lnTo>
                  <a:lnTo>
                    <a:pt x="208" y="2137"/>
                  </a:lnTo>
                  <a:lnTo>
                    <a:pt x="152" y="2097"/>
                  </a:lnTo>
                  <a:lnTo>
                    <a:pt x="144" y="2089"/>
                  </a:lnTo>
                  <a:lnTo>
                    <a:pt x="104" y="2057"/>
                  </a:lnTo>
                  <a:lnTo>
                    <a:pt x="88" y="2033"/>
                  </a:lnTo>
                  <a:lnTo>
                    <a:pt x="64" y="1985"/>
                  </a:lnTo>
                  <a:lnTo>
                    <a:pt x="48" y="1961"/>
                  </a:lnTo>
                  <a:lnTo>
                    <a:pt x="32" y="1929"/>
                  </a:lnTo>
                  <a:lnTo>
                    <a:pt x="16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0" y="1513"/>
                  </a:lnTo>
                  <a:lnTo>
                    <a:pt x="48" y="1464"/>
                  </a:lnTo>
                  <a:lnTo>
                    <a:pt x="56" y="1464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328"/>
                  </a:lnTo>
                  <a:lnTo>
                    <a:pt x="112" y="1304"/>
                  </a:lnTo>
                  <a:lnTo>
                    <a:pt x="136" y="1248"/>
                  </a:lnTo>
                  <a:lnTo>
                    <a:pt x="152" y="1200"/>
                  </a:lnTo>
                  <a:lnTo>
                    <a:pt x="152" y="1192"/>
                  </a:lnTo>
                  <a:lnTo>
                    <a:pt x="176" y="1144"/>
                  </a:lnTo>
                  <a:lnTo>
                    <a:pt x="200" y="1096"/>
                  </a:lnTo>
                  <a:lnTo>
                    <a:pt x="208" y="1088"/>
                  </a:lnTo>
                  <a:lnTo>
                    <a:pt x="232" y="1040"/>
                  </a:lnTo>
                  <a:lnTo>
                    <a:pt x="256" y="1000"/>
                  </a:lnTo>
                  <a:lnTo>
                    <a:pt x="264" y="992"/>
                  </a:lnTo>
                  <a:lnTo>
                    <a:pt x="288" y="936"/>
                  </a:lnTo>
                  <a:lnTo>
                    <a:pt x="312" y="904"/>
                  </a:lnTo>
                  <a:lnTo>
                    <a:pt x="328" y="888"/>
                  </a:lnTo>
                  <a:lnTo>
                    <a:pt x="361" y="832"/>
                  </a:lnTo>
                  <a:lnTo>
                    <a:pt x="361" y="832"/>
                  </a:lnTo>
                  <a:lnTo>
                    <a:pt x="393" y="784"/>
                  </a:lnTo>
                  <a:lnTo>
                    <a:pt x="417" y="752"/>
                  </a:lnTo>
                  <a:lnTo>
                    <a:pt x="433" y="728"/>
                  </a:lnTo>
                  <a:lnTo>
                    <a:pt x="457" y="680"/>
                  </a:lnTo>
                  <a:lnTo>
                    <a:pt x="465" y="624"/>
                  </a:lnTo>
                  <a:lnTo>
                    <a:pt x="473" y="624"/>
                  </a:lnTo>
                  <a:lnTo>
                    <a:pt x="489" y="576"/>
                  </a:lnTo>
                  <a:lnTo>
                    <a:pt x="513" y="520"/>
                  </a:lnTo>
                  <a:lnTo>
                    <a:pt x="521" y="512"/>
                  </a:lnTo>
                  <a:lnTo>
                    <a:pt x="545" y="472"/>
                  </a:lnTo>
                  <a:lnTo>
                    <a:pt x="569" y="416"/>
                  </a:lnTo>
                  <a:lnTo>
                    <a:pt x="577" y="408"/>
                  </a:lnTo>
                  <a:lnTo>
                    <a:pt x="609" y="368"/>
                  </a:lnTo>
                  <a:lnTo>
                    <a:pt x="625" y="336"/>
                  </a:lnTo>
                  <a:lnTo>
                    <a:pt x="641" y="312"/>
                  </a:lnTo>
                  <a:lnTo>
                    <a:pt x="673" y="264"/>
                  </a:lnTo>
                  <a:lnTo>
                    <a:pt x="681" y="256"/>
                  </a:lnTo>
                  <a:lnTo>
                    <a:pt x="729" y="224"/>
                  </a:lnTo>
                  <a:lnTo>
                    <a:pt x="745" y="208"/>
                  </a:lnTo>
                  <a:lnTo>
                    <a:pt x="785" y="160"/>
                  </a:lnTo>
                  <a:lnTo>
                    <a:pt x="785" y="160"/>
                  </a:lnTo>
                  <a:lnTo>
                    <a:pt x="833" y="120"/>
                  </a:lnTo>
                  <a:lnTo>
                    <a:pt x="857" y="104"/>
                  </a:lnTo>
                  <a:lnTo>
                    <a:pt x="889" y="80"/>
                  </a:lnTo>
                  <a:lnTo>
                    <a:pt x="937" y="56"/>
                  </a:lnTo>
                  <a:lnTo>
                    <a:pt x="953" y="56"/>
                  </a:lnTo>
                  <a:lnTo>
                    <a:pt x="993" y="40"/>
                  </a:lnTo>
                  <a:lnTo>
                    <a:pt x="1033" y="56"/>
                  </a:lnTo>
                  <a:lnTo>
                    <a:pt x="1041" y="56"/>
                  </a:lnTo>
                  <a:lnTo>
                    <a:pt x="1057" y="56"/>
                  </a:lnTo>
                  <a:lnTo>
                    <a:pt x="1097" y="48"/>
                  </a:lnTo>
                  <a:lnTo>
                    <a:pt x="1105" y="56"/>
                  </a:lnTo>
                  <a:lnTo>
                    <a:pt x="1137" y="104"/>
                  </a:lnTo>
                  <a:lnTo>
                    <a:pt x="1145" y="112"/>
                  </a:lnTo>
                  <a:lnTo>
                    <a:pt x="1153" y="104"/>
                  </a:lnTo>
                  <a:lnTo>
                    <a:pt x="1193" y="56"/>
                  </a:lnTo>
                  <a:lnTo>
                    <a:pt x="1201" y="40"/>
                  </a:lnTo>
                  <a:lnTo>
                    <a:pt x="1241" y="0"/>
                  </a:lnTo>
                  <a:lnTo>
                    <a:pt x="1249" y="0"/>
                  </a:lnTo>
                  <a:lnTo>
                    <a:pt x="1305" y="0"/>
                  </a:lnTo>
                  <a:lnTo>
                    <a:pt x="1353" y="0"/>
                  </a:lnTo>
                  <a:lnTo>
                    <a:pt x="1409" y="0"/>
                  </a:lnTo>
                  <a:lnTo>
                    <a:pt x="1457" y="0"/>
                  </a:lnTo>
                  <a:lnTo>
                    <a:pt x="1513" y="0"/>
                  </a:lnTo>
                  <a:lnTo>
                    <a:pt x="1561" y="0"/>
                  </a:lnTo>
                  <a:lnTo>
                    <a:pt x="1617" y="0"/>
                  </a:lnTo>
                  <a:close/>
                </a:path>
              </a:pathLst>
            </a:custGeom>
            <a:solidFill>
              <a:srgbClr val="0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93120" y="676800"/>
              <a:ext cx="3366720" cy="4060800"/>
            </a:xfrm>
            <a:custGeom>
              <a:avLst/>
              <a:gdLst/>
              <a:ahLst/>
              <a:rect l="l" t="t" r="r" b="b"/>
              <a:pathLst>
                <a:path w="1617" h="2161">
                  <a:moveTo>
                    <a:pt x="1617" y="0"/>
                  </a:moveTo>
                  <a:lnTo>
                    <a:pt x="1617" y="0"/>
                  </a:lnTo>
                  <a:lnTo>
                    <a:pt x="1617" y="56"/>
                  </a:lnTo>
                  <a:lnTo>
                    <a:pt x="1617" y="104"/>
                  </a:lnTo>
                  <a:lnTo>
                    <a:pt x="1617" y="160"/>
                  </a:lnTo>
                  <a:lnTo>
                    <a:pt x="1617" y="208"/>
                  </a:lnTo>
                  <a:lnTo>
                    <a:pt x="1617" y="264"/>
                  </a:lnTo>
                  <a:lnTo>
                    <a:pt x="1617" y="312"/>
                  </a:lnTo>
                  <a:lnTo>
                    <a:pt x="1617" y="368"/>
                  </a:lnTo>
                  <a:lnTo>
                    <a:pt x="1617" y="416"/>
                  </a:lnTo>
                  <a:lnTo>
                    <a:pt x="1617" y="472"/>
                  </a:lnTo>
                  <a:lnTo>
                    <a:pt x="1617" y="520"/>
                  </a:lnTo>
                  <a:lnTo>
                    <a:pt x="1617" y="576"/>
                  </a:lnTo>
                  <a:lnTo>
                    <a:pt x="1617" y="624"/>
                  </a:lnTo>
                  <a:lnTo>
                    <a:pt x="1617" y="680"/>
                  </a:lnTo>
                  <a:lnTo>
                    <a:pt x="1617" y="728"/>
                  </a:lnTo>
                  <a:lnTo>
                    <a:pt x="1617" y="784"/>
                  </a:lnTo>
                  <a:lnTo>
                    <a:pt x="1617" y="832"/>
                  </a:lnTo>
                  <a:lnTo>
                    <a:pt x="1617" y="888"/>
                  </a:lnTo>
                  <a:lnTo>
                    <a:pt x="1617" y="936"/>
                  </a:lnTo>
                  <a:lnTo>
                    <a:pt x="1617" y="936"/>
                  </a:lnTo>
                  <a:lnTo>
                    <a:pt x="1577" y="992"/>
                  </a:lnTo>
                  <a:lnTo>
                    <a:pt x="1561" y="1008"/>
                  </a:lnTo>
                  <a:lnTo>
                    <a:pt x="1537" y="1040"/>
                  </a:lnTo>
                  <a:lnTo>
                    <a:pt x="1513" y="1072"/>
                  </a:lnTo>
                  <a:lnTo>
                    <a:pt x="1497" y="1096"/>
                  </a:lnTo>
                  <a:lnTo>
                    <a:pt x="1457" y="1144"/>
                  </a:lnTo>
                  <a:lnTo>
                    <a:pt x="1457" y="1144"/>
                  </a:lnTo>
                  <a:lnTo>
                    <a:pt x="1425" y="1200"/>
                  </a:lnTo>
                  <a:lnTo>
                    <a:pt x="1409" y="1224"/>
                  </a:lnTo>
                  <a:lnTo>
                    <a:pt x="1393" y="1248"/>
                  </a:lnTo>
                  <a:lnTo>
                    <a:pt x="1353" y="1288"/>
                  </a:lnTo>
                  <a:lnTo>
                    <a:pt x="1345" y="1304"/>
                  </a:lnTo>
                  <a:lnTo>
                    <a:pt x="1305" y="1352"/>
                  </a:lnTo>
                  <a:lnTo>
                    <a:pt x="1305" y="1352"/>
                  </a:lnTo>
                  <a:lnTo>
                    <a:pt x="1273" y="1408"/>
                  </a:lnTo>
                  <a:lnTo>
                    <a:pt x="1249" y="1432"/>
                  </a:lnTo>
                  <a:lnTo>
                    <a:pt x="1233" y="1464"/>
                  </a:lnTo>
                  <a:lnTo>
                    <a:pt x="1201" y="1513"/>
                  </a:lnTo>
                  <a:lnTo>
                    <a:pt x="1201" y="1521"/>
                  </a:lnTo>
                  <a:lnTo>
                    <a:pt x="1177" y="1569"/>
                  </a:lnTo>
                  <a:lnTo>
                    <a:pt x="1161" y="1617"/>
                  </a:lnTo>
                  <a:lnTo>
                    <a:pt x="1145" y="1657"/>
                  </a:lnTo>
                  <a:lnTo>
                    <a:pt x="1137" y="1673"/>
                  </a:lnTo>
                  <a:lnTo>
                    <a:pt x="1105" y="1721"/>
                  </a:lnTo>
                  <a:lnTo>
                    <a:pt x="1097" y="1737"/>
                  </a:lnTo>
                  <a:lnTo>
                    <a:pt x="1065" y="1777"/>
                  </a:lnTo>
                  <a:lnTo>
                    <a:pt x="1041" y="1809"/>
                  </a:lnTo>
                  <a:lnTo>
                    <a:pt x="1017" y="1825"/>
                  </a:lnTo>
                  <a:lnTo>
                    <a:pt x="993" y="1857"/>
                  </a:lnTo>
                  <a:lnTo>
                    <a:pt x="961" y="1881"/>
                  </a:lnTo>
                  <a:lnTo>
                    <a:pt x="937" y="1897"/>
                  </a:lnTo>
                  <a:lnTo>
                    <a:pt x="905" y="1929"/>
                  </a:lnTo>
                  <a:lnTo>
                    <a:pt x="889" y="1945"/>
                  </a:lnTo>
                  <a:lnTo>
                    <a:pt x="833" y="1977"/>
                  </a:lnTo>
                  <a:lnTo>
                    <a:pt x="825" y="1985"/>
                  </a:lnTo>
                  <a:lnTo>
                    <a:pt x="785" y="2009"/>
                  </a:lnTo>
                  <a:lnTo>
                    <a:pt x="729" y="2033"/>
                  </a:lnTo>
                  <a:lnTo>
                    <a:pt x="729" y="2033"/>
                  </a:lnTo>
                  <a:lnTo>
                    <a:pt x="681" y="2057"/>
                  </a:lnTo>
                  <a:lnTo>
                    <a:pt x="625" y="2081"/>
                  </a:lnTo>
                  <a:lnTo>
                    <a:pt x="601" y="2089"/>
                  </a:lnTo>
                  <a:lnTo>
                    <a:pt x="577" y="2097"/>
                  </a:lnTo>
                  <a:lnTo>
                    <a:pt x="521" y="2113"/>
                  </a:lnTo>
                  <a:lnTo>
                    <a:pt x="473" y="2129"/>
                  </a:lnTo>
                  <a:lnTo>
                    <a:pt x="417" y="2137"/>
                  </a:lnTo>
                  <a:lnTo>
                    <a:pt x="409" y="2137"/>
                  </a:lnTo>
                  <a:lnTo>
                    <a:pt x="361" y="2161"/>
                  </a:lnTo>
                  <a:lnTo>
                    <a:pt x="312" y="2161"/>
                  </a:lnTo>
                  <a:lnTo>
                    <a:pt x="256" y="2153"/>
                  </a:lnTo>
                  <a:lnTo>
                    <a:pt x="208" y="2137"/>
                  </a:lnTo>
                  <a:lnTo>
                    <a:pt x="208" y="2137"/>
                  </a:lnTo>
                  <a:lnTo>
                    <a:pt x="152" y="2097"/>
                  </a:lnTo>
                  <a:lnTo>
                    <a:pt x="144" y="2089"/>
                  </a:lnTo>
                  <a:lnTo>
                    <a:pt x="104" y="2057"/>
                  </a:lnTo>
                  <a:lnTo>
                    <a:pt x="88" y="2033"/>
                  </a:lnTo>
                  <a:lnTo>
                    <a:pt x="64" y="1985"/>
                  </a:lnTo>
                  <a:lnTo>
                    <a:pt x="48" y="1961"/>
                  </a:lnTo>
                  <a:lnTo>
                    <a:pt x="32" y="1929"/>
                  </a:lnTo>
                  <a:lnTo>
                    <a:pt x="16" y="1881"/>
                  </a:lnTo>
                  <a:lnTo>
                    <a:pt x="0" y="1825"/>
                  </a:lnTo>
                  <a:lnTo>
                    <a:pt x="0" y="1777"/>
                  </a:lnTo>
                  <a:lnTo>
                    <a:pt x="0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0" y="1513"/>
                  </a:lnTo>
                  <a:lnTo>
                    <a:pt x="48" y="1464"/>
                  </a:lnTo>
                  <a:lnTo>
                    <a:pt x="56" y="1464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328"/>
                  </a:lnTo>
                  <a:lnTo>
                    <a:pt x="112" y="1304"/>
                  </a:lnTo>
                  <a:lnTo>
                    <a:pt x="136" y="1248"/>
                  </a:lnTo>
                  <a:lnTo>
                    <a:pt x="152" y="1200"/>
                  </a:lnTo>
                  <a:lnTo>
                    <a:pt x="152" y="1192"/>
                  </a:lnTo>
                  <a:lnTo>
                    <a:pt x="176" y="1144"/>
                  </a:lnTo>
                  <a:lnTo>
                    <a:pt x="200" y="1096"/>
                  </a:lnTo>
                  <a:lnTo>
                    <a:pt x="208" y="1088"/>
                  </a:lnTo>
                  <a:lnTo>
                    <a:pt x="232" y="1040"/>
                  </a:lnTo>
                  <a:lnTo>
                    <a:pt x="256" y="1000"/>
                  </a:lnTo>
                  <a:lnTo>
                    <a:pt x="264" y="992"/>
                  </a:lnTo>
                  <a:lnTo>
                    <a:pt x="288" y="936"/>
                  </a:lnTo>
                  <a:lnTo>
                    <a:pt x="312" y="904"/>
                  </a:lnTo>
                  <a:lnTo>
                    <a:pt x="328" y="888"/>
                  </a:lnTo>
                  <a:lnTo>
                    <a:pt x="361" y="832"/>
                  </a:lnTo>
                  <a:lnTo>
                    <a:pt x="361" y="832"/>
                  </a:lnTo>
                  <a:lnTo>
                    <a:pt x="393" y="784"/>
                  </a:lnTo>
                  <a:lnTo>
                    <a:pt x="417" y="752"/>
                  </a:lnTo>
                  <a:lnTo>
                    <a:pt x="433" y="728"/>
                  </a:lnTo>
                  <a:lnTo>
                    <a:pt x="457" y="680"/>
                  </a:lnTo>
                  <a:lnTo>
                    <a:pt x="465" y="624"/>
                  </a:lnTo>
                  <a:lnTo>
                    <a:pt x="473" y="624"/>
                  </a:lnTo>
                  <a:lnTo>
                    <a:pt x="489" y="576"/>
                  </a:lnTo>
                  <a:lnTo>
                    <a:pt x="513" y="520"/>
                  </a:lnTo>
                  <a:lnTo>
                    <a:pt x="521" y="512"/>
                  </a:lnTo>
                  <a:lnTo>
                    <a:pt x="545" y="472"/>
                  </a:lnTo>
                  <a:lnTo>
                    <a:pt x="569" y="416"/>
                  </a:lnTo>
                  <a:lnTo>
                    <a:pt x="577" y="408"/>
                  </a:lnTo>
                  <a:lnTo>
                    <a:pt x="609" y="368"/>
                  </a:lnTo>
                  <a:lnTo>
                    <a:pt x="625" y="336"/>
                  </a:lnTo>
                  <a:lnTo>
                    <a:pt x="641" y="312"/>
                  </a:lnTo>
                  <a:lnTo>
                    <a:pt x="673" y="264"/>
                  </a:lnTo>
                  <a:lnTo>
                    <a:pt x="681" y="256"/>
                  </a:lnTo>
                  <a:lnTo>
                    <a:pt x="729" y="224"/>
                  </a:lnTo>
                  <a:lnTo>
                    <a:pt x="745" y="208"/>
                  </a:lnTo>
                  <a:lnTo>
                    <a:pt x="785" y="160"/>
                  </a:lnTo>
                  <a:lnTo>
                    <a:pt x="785" y="160"/>
                  </a:lnTo>
                  <a:lnTo>
                    <a:pt x="833" y="120"/>
                  </a:lnTo>
                  <a:lnTo>
                    <a:pt x="857" y="104"/>
                  </a:lnTo>
                  <a:lnTo>
                    <a:pt x="889" y="80"/>
                  </a:lnTo>
                  <a:lnTo>
                    <a:pt x="937" y="56"/>
                  </a:lnTo>
                  <a:lnTo>
                    <a:pt x="953" y="56"/>
                  </a:lnTo>
                  <a:lnTo>
                    <a:pt x="993" y="40"/>
                  </a:lnTo>
                  <a:lnTo>
                    <a:pt x="1033" y="56"/>
                  </a:lnTo>
                  <a:lnTo>
                    <a:pt x="1041" y="56"/>
                  </a:lnTo>
                  <a:lnTo>
                    <a:pt x="1057" y="56"/>
                  </a:lnTo>
                  <a:lnTo>
                    <a:pt x="1097" y="48"/>
                  </a:lnTo>
                  <a:lnTo>
                    <a:pt x="1105" y="56"/>
                  </a:lnTo>
                  <a:lnTo>
                    <a:pt x="1137" y="104"/>
                  </a:lnTo>
                  <a:lnTo>
                    <a:pt x="1145" y="112"/>
                  </a:lnTo>
                  <a:lnTo>
                    <a:pt x="1153" y="104"/>
                  </a:lnTo>
                  <a:lnTo>
                    <a:pt x="1193" y="56"/>
                  </a:lnTo>
                  <a:lnTo>
                    <a:pt x="1201" y="40"/>
                  </a:lnTo>
                  <a:lnTo>
                    <a:pt x="1241" y="0"/>
                  </a:lnTo>
                  <a:lnTo>
                    <a:pt x="1249" y="0"/>
                  </a:lnTo>
                  <a:lnTo>
                    <a:pt x="1305" y="0"/>
                  </a:lnTo>
                  <a:lnTo>
                    <a:pt x="1353" y="0"/>
                  </a:lnTo>
                  <a:lnTo>
                    <a:pt x="1409" y="0"/>
                  </a:lnTo>
                  <a:lnTo>
                    <a:pt x="1457" y="0"/>
                  </a:lnTo>
                  <a:lnTo>
                    <a:pt x="1513" y="0"/>
                  </a:lnTo>
                  <a:lnTo>
                    <a:pt x="1561" y="0"/>
                  </a:lnTo>
                  <a:lnTo>
                    <a:pt x="1617" y="0"/>
                  </a:lnTo>
                  <a:lnTo>
                    <a:pt x="1617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92840" y="676800"/>
              <a:ext cx="3267000" cy="3970440"/>
            </a:xfrm>
            <a:custGeom>
              <a:avLst/>
              <a:gdLst/>
              <a:ahLst/>
              <a:rect l="l" t="t" r="r" b="b"/>
              <a:pathLst>
                <a:path w="1569" h="2113">
                  <a:moveTo>
                    <a:pt x="1569" y="0"/>
                  </a:moveTo>
                  <a:lnTo>
                    <a:pt x="1569" y="0"/>
                  </a:lnTo>
                  <a:lnTo>
                    <a:pt x="1569" y="56"/>
                  </a:lnTo>
                  <a:lnTo>
                    <a:pt x="1569" y="104"/>
                  </a:lnTo>
                  <a:lnTo>
                    <a:pt x="1569" y="160"/>
                  </a:lnTo>
                  <a:lnTo>
                    <a:pt x="1569" y="208"/>
                  </a:lnTo>
                  <a:lnTo>
                    <a:pt x="1569" y="264"/>
                  </a:lnTo>
                  <a:lnTo>
                    <a:pt x="1569" y="312"/>
                  </a:lnTo>
                  <a:lnTo>
                    <a:pt x="1569" y="368"/>
                  </a:lnTo>
                  <a:lnTo>
                    <a:pt x="1569" y="416"/>
                  </a:lnTo>
                  <a:lnTo>
                    <a:pt x="1569" y="472"/>
                  </a:lnTo>
                  <a:lnTo>
                    <a:pt x="1569" y="520"/>
                  </a:lnTo>
                  <a:lnTo>
                    <a:pt x="1569" y="576"/>
                  </a:lnTo>
                  <a:lnTo>
                    <a:pt x="1569" y="624"/>
                  </a:lnTo>
                  <a:lnTo>
                    <a:pt x="1569" y="680"/>
                  </a:lnTo>
                  <a:lnTo>
                    <a:pt x="1569" y="728"/>
                  </a:lnTo>
                  <a:lnTo>
                    <a:pt x="1569" y="784"/>
                  </a:lnTo>
                  <a:lnTo>
                    <a:pt x="1569" y="824"/>
                  </a:lnTo>
                  <a:lnTo>
                    <a:pt x="1561" y="832"/>
                  </a:lnTo>
                  <a:lnTo>
                    <a:pt x="1521" y="888"/>
                  </a:lnTo>
                  <a:lnTo>
                    <a:pt x="1513" y="896"/>
                  </a:lnTo>
                  <a:lnTo>
                    <a:pt x="1489" y="936"/>
                  </a:lnTo>
                  <a:lnTo>
                    <a:pt x="1465" y="976"/>
                  </a:lnTo>
                  <a:lnTo>
                    <a:pt x="1449" y="992"/>
                  </a:lnTo>
                  <a:lnTo>
                    <a:pt x="1417" y="1040"/>
                  </a:lnTo>
                  <a:lnTo>
                    <a:pt x="1409" y="1056"/>
                  </a:lnTo>
                  <a:lnTo>
                    <a:pt x="1385" y="1096"/>
                  </a:lnTo>
                  <a:lnTo>
                    <a:pt x="1361" y="1128"/>
                  </a:lnTo>
                  <a:lnTo>
                    <a:pt x="1345" y="1144"/>
                  </a:lnTo>
                  <a:lnTo>
                    <a:pt x="1313" y="1200"/>
                  </a:lnTo>
                  <a:lnTo>
                    <a:pt x="1305" y="1200"/>
                  </a:lnTo>
                  <a:lnTo>
                    <a:pt x="1273" y="1248"/>
                  </a:lnTo>
                  <a:lnTo>
                    <a:pt x="1257" y="1272"/>
                  </a:lnTo>
                  <a:lnTo>
                    <a:pt x="1225" y="1304"/>
                  </a:lnTo>
                  <a:lnTo>
                    <a:pt x="1201" y="1336"/>
                  </a:lnTo>
                  <a:lnTo>
                    <a:pt x="1185" y="1352"/>
                  </a:lnTo>
                  <a:lnTo>
                    <a:pt x="1153" y="1392"/>
                  </a:lnTo>
                  <a:lnTo>
                    <a:pt x="1145" y="1408"/>
                  </a:lnTo>
                  <a:lnTo>
                    <a:pt x="1113" y="1464"/>
                  </a:lnTo>
                  <a:lnTo>
                    <a:pt x="1097" y="1481"/>
                  </a:lnTo>
                  <a:lnTo>
                    <a:pt x="1089" y="1513"/>
                  </a:lnTo>
                  <a:lnTo>
                    <a:pt x="1073" y="1569"/>
                  </a:lnTo>
                  <a:lnTo>
                    <a:pt x="1057" y="1617"/>
                  </a:lnTo>
                  <a:lnTo>
                    <a:pt x="1049" y="1641"/>
                  </a:lnTo>
                  <a:lnTo>
                    <a:pt x="1033" y="1673"/>
                  </a:lnTo>
                  <a:lnTo>
                    <a:pt x="1001" y="1721"/>
                  </a:lnTo>
                  <a:lnTo>
                    <a:pt x="993" y="1737"/>
                  </a:lnTo>
                  <a:lnTo>
                    <a:pt x="953" y="1777"/>
                  </a:lnTo>
                  <a:lnTo>
                    <a:pt x="945" y="1785"/>
                  </a:lnTo>
                  <a:lnTo>
                    <a:pt x="905" y="1825"/>
                  </a:lnTo>
                  <a:lnTo>
                    <a:pt x="889" y="1841"/>
                  </a:lnTo>
                  <a:lnTo>
                    <a:pt x="857" y="1881"/>
                  </a:lnTo>
                  <a:lnTo>
                    <a:pt x="841" y="1897"/>
                  </a:lnTo>
                  <a:lnTo>
                    <a:pt x="785" y="1929"/>
                  </a:lnTo>
                  <a:lnTo>
                    <a:pt x="777" y="1929"/>
                  </a:lnTo>
                  <a:lnTo>
                    <a:pt x="737" y="1953"/>
                  </a:lnTo>
                  <a:lnTo>
                    <a:pt x="681" y="1985"/>
                  </a:lnTo>
                  <a:lnTo>
                    <a:pt x="681" y="1985"/>
                  </a:lnTo>
                  <a:lnTo>
                    <a:pt x="633" y="2001"/>
                  </a:lnTo>
                  <a:lnTo>
                    <a:pt x="577" y="2017"/>
                  </a:lnTo>
                  <a:lnTo>
                    <a:pt x="545" y="2033"/>
                  </a:lnTo>
                  <a:lnTo>
                    <a:pt x="529" y="2041"/>
                  </a:lnTo>
                  <a:lnTo>
                    <a:pt x="473" y="2065"/>
                  </a:lnTo>
                  <a:lnTo>
                    <a:pt x="425" y="2081"/>
                  </a:lnTo>
                  <a:lnTo>
                    <a:pt x="401" y="2089"/>
                  </a:lnTo>
                  <a:lnTo>
                    <a:pt x="369" y="2097"/>
                  </a:lnTo>
                  <a:lnTo>
                    <a:pt x="313" y="2113"/>
                  </a:lnTo>
                  <a:lnTo>
                    <a:pt x="264" y="2113"/>
                  </a:lnTo>
                  <a:lnTo>
                    <a:pt x="208" y="2105"/>
                  </a:lnTo>
                  <a:lnTo>
                    <a:pt x="160" y="2089"/>
                  </a:lnTo>
                  <a:lnTo>
                    <a:pt x="160" y="2081"/>
                  </a:lnTo>
                  <a:lnTo>
                    <a:pt x="104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8" y="1825"/>
                  </a:lnTo>
                  <a:lnTo>
                    <a:pt x="0" y="1793"/>
                  </a:lnTo>
                  <a:lnTo>
                    <a:pt x="0" y="1777"/>
                  </a:lnTo>
                  <a:lnTo>
                    <a:pt x="0" y="1745"/>
                  </a:lnTo>
                  <a:lnTo>
                    <a:pt x="8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8" y="1513"/>
                  </a:lnTo>
                  <a:lnTo>
                    <a:pt x="56" y="1497"/>
                  </a:lnTo>
                  <a:lnTo>
                    <a:pt x="64" y="1464"/>
                  </a:lnTo>
                  <a:lnTo>
                    <a:pt x="80" y="1408"/>
                  </a:lnTo>
                  <a:lnTo>
                    <a:pt x="96" y="1352"/>
                  </a:lnTo>
                  <a:lnTo>
                    <a:pt x="104" y="1328"/>
                  </a:lnTo>
                  <a:lnTo>
                    <a:pt x="120" y="1304"/>
                  </a:lnTo>
                  <a:lnTo>
                    <a:pt x="144" y="1248"/>
                  </a:lnTo>
                  <a:lnTo>
                    <a:pt x="160" y="1208"/>
                  </a:lnTo>
                  <a:lnTo>
                    <a:pt x="160" y="1200"/>
                  </a:lnTo>
                  <a:lnTo>
                    <a:pt x="192" y="1144"/>
                  </a:lnTo>
                  <a:lnTo>
                    <a:pt x="208" y="1120"/>
                  </a:lnTo>
                  <a:lnTo>
                    <a:pt x="224" y="1096"/>
                  </a:lnTo>
                  <a:lnTo>
                    <a:pt x="248" y="1040"/>
                  </a:lnTo>
                  <a:lnTo>
                    <a:pt x="264" y="1016"/>
                  </a:lnTo>
                  <a:lnTo>
                    <a:pt x="288" y="992"/>
                  </a:lnTo>
                  <a:lnTo>
                    <a:pt x="313" y="960"/>
                  </a:lnTo>
                  <a:lnTo>
                    <a:pt x="329" y="936"/>
                  </a:lnTo>
                  <a:lnTo>
                    <a:pt x="361" y="888"/>
                  </a:lnTo>
                  <a:lnTo>
                    <a:pt x="369" y="872"/>
                  </a:lnTo>
                  <a:lnTo>
                    <a:pt x="401" y="832"/>
                  </a:lnTo>
                  <a:lnTo>
                    <a:pt x="425" y="816"/>
                  </a:lnTo>
                  <a:lnTo>
                    <a:pt x="441" y="784"/>
                  </a:lnTo>
                  <a:lnTo>
                    <a:pt x="473" y="728"/>
                  </a:lnTo>
                  <a:lnTo>
                    <a:pt x="473" y="728"/>
                  </a:lnTo>
                  <a:lnTo>
                    <a:pt x="497" y="680"/>
                  </a:lnTo>
                  <a:lnTo>
                    <a:pt x="529" y="632"/>
                  </a:lnTo>
                  <a:lnTo>
                    <a:pt x="529" y="624"/>
                  </a:lnTo>
                  <a:lnTo>
                    <a:pt x="553" y="576"/>
                  </a:lnTo>
                  <a:lnTo>
                    <a:pt x="577" y="536"/>
                  </a:lnTo>
                  <a:lnTo>
                    <a:pt x="585" y="520"/>
                  </a:lnTo>
                  <a:lnTo>
                    <a:pt x="601" y="472"/>
                  </a:lnTo>
                  <a:lnTo>
                    <a:pt x="625" y="416"/>
                  </a:lnTo>
                  <a:lnTo>
                    <a:pt x="633" y="408"/>
                  </a:lnTo>
                  <a:lnTo>
                    <a:pt x="681" y="368"/>
                  </a:lnTo>
                  <a:lnTo>
                    <a:pt x="681" y="368"/>
                  </a:lnTo>
                  <a:lnTo>
                    <a:pt x="721" y="312"/>
                  </a:lnTo>
                  <a:lnTo>
                    <a:pt x="737" y="288"/>
                  </a:lnTo>
                  <a:lnTo>
                    <a:pt x="769" y="264"/>
                  </a:lnTo>
                  <a:lnTo>
                    <a:pt x="785" y="256"/>
                  </a:lnTo>
                  <a:lnTo>
                    <a:pt x="841" y="224"/>
                  </a:lnTo>
                  <a:lnTo>
                    <a:pt x="865" y="208"/>
                  </a:lnTo>
                  <a:lnTo>
                    <a:pt x="889" y="192"/>
                  </a:lnTo>
                  <a:lnTo>
                    <a:pt x="921" y="208"/>
                  </a:lnTo>
                  <a:lnTo>
                    <a:pt x="945" y="224"/>
                  </a:lnTo>
                  <a:lnTo>
                    <a:pt x="993" y="240"/>
                  </a:lnTo>
                  <a:lnTo>
                    <a:pt x="1049" y="224"/>
                  </a:lnTo>
                  <a:lnTo>
                    <a:pt x="1097" y="224"/>
                  </a:lnTo>
                  <a:lnTo>
                    <a:pt x="1145" y="208"/>
                  </a:lnTo>
                  <a:lnTo>
                    <a:pt x="1153" y="200"/>
                  </a:lnTo>
                  <a:lnTo>
                    <a:pt x="1201" y="160"/>
                  </a:lnTo>
                  <a:lnTo>
                    <a:pt x="1201" y="152"/>
                  </a:lnTo>
                  <a:lnTo>
                    <a:pt x="1257" y="152"/>
                  </a:lnTo>
                  <a:lnTo>
                    <a:pt x="1305" y="104"/>
                  </a:lnTo>
                  <a:lnTo>
                    <a:pt x="1305" y="96"/>
                  </a:lnTo>
                  <a:lnTo>
                    <a:pt x="1361" y="64"/>
                  </a:lnTo>
                  <a:lnTo>
                    <a:pt x="1409" y="64"/>
                  </a:lnTo>
                  <a:lnTo>
                    <a:pt x="1425" y="56"/>
                  </a:lnTo>
                  <a:lnTo>
                    <a:pt x="1457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close/>
                </a:path>
              </a:pathLst>
            </a:custGeom>
            <a:solidFill>
              <a:srgbClr val="00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92840" y="676800"/>
              <a:ext cx="3267000" cy="3970440"/>
            </a:xfrm>
            <a:custGeom>
              <a:avLst/>
              <a:gdLst/>
              <a:ahLst/>
              <a:rect l="l" t="t" r="r" b="b"/>
              <a:pathLst>
                <a:path w="1569" h="2113">
                  <a:moveTo>
                    <a:pt x="1569" y="0"/>
                  </a:moveTo>
                  <a:lnTo>
                    <a:pt x="1569" y="0"/>
                  </a:lnTo>
                  <a:lnTo>
                    <a:pt x="1569" y="56"/>
                  </a:lnTo>
                  <a:lnTo>
                    <a:pt x="1569" y="104"/>
                  </a:lnTo>
                  <a:lnTo>
                    <a:pt x="1569" y="160"/>
                  </a:lnTo>
                  <a:lnTo>
                    <a:pt x="1569" y="208"/>
                  </a:lnTo>
                  <a:lnTo>
                    <a:pt x="1569" y="264"/>
                  </a:lnTo>
                  <a:lnTo>
                    <a:pt x="1569" y="312"/>
                  </a:lnTo>
                  <a:lnTo>
                    <a:pt x="1569" y="368"/>
                  </a:lnTo>
                  <a:lnTo>
                    <a:pt x="1569" y="416"/>
                  </a:lnTo>
                  <a:lnTo>
                    <a:pt x="1569" y="472"/>
                  </a:lnTo>
                  <a:lnTo>
                    <a:pt x="1569" y="520"/>
                  </a:lnTo>
                  <a:lnTo>
                    <a:pt x="1569" y="576"/>
                  </a:lnTo>
                  <a:lnTo>
                    <a:pt x="1569" y="624"/>
                  </a:lnTo>
                  <a:lnTo>
                    <a:pt x="1569" y="680"/>
                  </a:lnTo>
                  <a:lnTo>
                    <a:pt x="1569" y="728"/>
                  </a:lnTo>
                  <a:lnTo>
                    <a:pt x="1569" y="784"/>
                  </a:lnTo>
                  <a:lnTo>
                    <a:pt x="1569" y="824"/>
                  </a:lnTo>
                  <a:lnTo>
                    <a:pt x="1561" y="832"/>
                  </a:lnTo>
                  <a:lnTo>
                    <a:pt x="1521" y="888"/>
                  </a:lnTo>
                  <a:lnTo>
                    <a:pt x="1513" y="896"/>
                  </a:lnTo>
                  <a:lnTo>
                    <a:pt x="1489" y="936"/>
                  </a:lnTo>
                  <a:lnTo>
                    <a:pt x="1465" y="976"/>
                  </a:lnTo>
                  <a:lnTo>
                    <a:pt x="1449" y="992"/>
                  </a:lnTo>
                  <a:lnTo>
                    <a:pt x="1417" y="1040"/>
                  </a:lnTo>
                  <a:lnTo>
                    <a:pt x="1409" y="1056"/>
                  </a:lnTo>
                  <a:lnTo>
                    <a:pt x="1385" y="1096"/>
                  </a:lnTo>
                  <a:lnTo>
                    <a:pt x="1361" y="1128"/>
                  </a:lnTo>
                  <a:lnTo>
                    <a:pt x="1345" y="1144"/>
                  </a:lnTo>
                  <a:lnTo>
                    <a:pt x="1313" y="1200"/>
                  </a:lnTo>
                  <a:lnTo>
                    <a:pt x="1305" y="1200"/>
                  </a:lnTo>
                  <a:lnTo>
                    <a:pt x="1273" y="1248"/>
                  </a:lnTo>
                  <a:lnTo>
                    <a:pt x="1257" y="1272"/>
                  </a:lnTo>
                  <a:lnTo>
                    <a:pt x="1225" y="1304"/>
                  </a:lnTo>
                  <a:lnTo>
                    <a:pt x="1201" y="1336"/>
                  </a:lnTo>
                  <a:lnTo>
                    <a:pt x="1185" y="1352"/>
                  </a:lnTo>
                  <a:lnTo>
                    <a:pt x="1153" y="1392"/>
                  </a:lnTo>
                  <a:lnTo>
                    <a:pt x="1145" y="1408"/>
                  </a:lnTo>
                  <a:lnTo>
                    <a:pt x="1113" y="1464"/>
                  </a:lnTo>
                  <a:lnTo>
                    <a:pt x="1097" y="1481"/>
                  </a:lnTo>
                  <a:lnTo>
                    <a:pt x="1089" y="1513"/>
                  </a:lnTo>
                  <a:lnTo>
                    <a:pt x="1073" y="1569"/>
                  </a:lnTo>
                  <a:lnTo>
                    <a:pt x="1057" y="1617"/>
                  </a:lnTo>
                  <a:lnTo>
                    <a:pt x="1049" y="1641"/>
                  </a:lnTo>
                  <a:lnTo>
                    <a:pt x="1033" y="1673"/>
                  </a:lnTo>
                  <a:lnTo>
                    <a:pt x="1001" y="1721"/>
                  </a:lnTo>
                  <a:lnTo>
                    <a:pt x="993" y="1737"/>
                  </a:lnTo>
                  <a:lnTo>
                    <a:pt x="953" y="1777"/>
                  </a:lnTo>
                  <a:lnTo>
                    <a:pt x="945" y="1785"/>
                  </a:lnTo>
                  <a:lnTo>
                    <a:pt x="905" y="1825"/>
                  </a:lnTo>
                  <a:lnTo>
                    <a:pt x="889" y="1841"/>
                  </a:lnTo>
                  <a:lnTo>
                    <a:pt x="857" y="1881"/>
                  </a:lnTo>
                  <a:lnTo>
                    <a:pt x="841" y="1897"/>
                  </a:lnTo>
                  <a:lnTo>
                    <a:pt x="785" y="1929"/>
                  </a:lnTo>
                  <a:lnTo>
                    <a:pt x="777" y="1929"/>
                  </a:lnTo>
                  <a:lnTo>
                    <a:pt x="737" y="1953"/>
                  </a:lnTo>
                  <a:lnTo>
                    <a:pt x="681" y="1985"/>
                  </a:lnTo>
                  <a:lnTo>
                    <a:pt x="681" y="1985"/>
                  </a:lnTo>
                  <a:lnTo>
                    <a:pt x="633" y="2001"/>
                  </a:lnTo>
                  <a:lnTo>
                    <a:pt x="577" y="2017"/>
                  </a:lnTo>
                  <a:lnTo>
                    <a:pt x="545" y="2033"/>
                  </a:lnTo>
                  <a:lnTo>
                    <a:pt x="529" y="2041"/>
                  </a:lnTo>
                  <a:lnTo>
                    <a:pt x="473" y="2065"/>
                  </a:lnTo>
                  <a:lnTo>
                    <a:pt x="425" y="2081"/>
                  </a:lnTo>
                  <a:lnTo>
                    <a:pt x="401" y="2089"/>
                  </a:lnTo>
                  <a:lnTo>
                    <a:pt x="369" y="2097"/>
                  </a:lnTo>
                  <a:lnTo>
                    <a:pt x="313" y="2113"/>
                  </a:lnTo>
                  <a:lnTo>
                    <a:pt x="264" y="2113"/>
                  </a:lnTo>
                  <a:lnTo>
                    <a:pt x="208" y="2105"/>
                  </a:lnTo>
                  <a:lnTo>
                    <a:pt x="160" y="2089"/>
                  </a:lnTo>
                  <a:lnTo>
                    <a:pt x="160" y="2081"/>
                  </a:lnTo>
                  <a:lnTo>
                    <a:pt x="104" y="2033"/>
                  </a:lnTo>
                  <a:lnTo>
                    <a:pt x="104" y="2033"/>
                  </a:lnTo>
                  <a:lnTo>
                    <a:pt x="64" y="1985"/>
                  </a:lnTo>
                  <a:lnTo>
                    <a:pt x="56" y="1969"/>
                  </a:lnTo>
                  <a:lnTo>
                    <a:pt x="40" y="1929"/>
                  </a:lnTo>
                  <a:lnTo>
                    <a:pt x="24" y="1881"/>
                  </a:lnTo>
                  <a:lnTo>
                    <a:pt x="8" y="1825"/>
                  </a:lnTo>
                  <a:lnTo>
                    <a:pt x="0" y="1793"/>
                  </a:lnTo>
                  <a:lnTo>
                    <a:pt x="0" y="1777"/>
                  </a:lnTo>
                  <a:lnTo>
                    <a:pt x="0" y="1745"/>
                  </a:lnTo>
                  <a:lnTo>
                    <a:pt x="8" y="1721"/>
                  </a:lnTo>
                  <a:lnTo>
                    <a:pt x="8" y="1673"/>
                  </a:lnTo>
                  <a:lnTo>
                    <a:pt x="16" y="1617"/>
                  </a:lnTo>
                  <a:lnTo>
                    <a:pt x="32" y="1569"/>
                  </a:lnTo>
                  <a:lnTo>
                    <a:pt x="48" y="1513"/>
                  </a:lnTo>
                  <a:lnTo>
                    <a:pt x="56" y="1497"/>
                  </a:lnTo>
                  <a:lnTo>
                    <a:pt x="64" y="1464"/>
                  </a:lnTo>
                  <a:lnTo>
                    <a:pt x="80" y="1408"/>
                  </a:lnTo>
                  <a:lnTo>
                    <a:pt x="96" y="1352"/>
                  </a:lnTo>
                  <a:lnTo>
                    <a:pt x="104" y="1328"/>
                  </a:lnTo>
                  <a:lnTo>
                    <a:pt x="120" y="1304"/>
                  </a:lnTo>
                  <a:lnTo>
                    <a:pt x="144" y="1248"/>
                  </a:lnTo>
                  <a:lnTo>
                    <a:pt x="160" y="1208"/>
                  </a:lnTo>
                  <a:lnTo>
                    <a:pt x="160" y="1200"/>
                  </a:lnTo>
                  <a:lnTo>
                    <a:pt x="192" y="1144"/>
                  </a:lnTo>
                  <a:lnTo>
                    <a:pt x="208" y="1120"/>
                  </a:lnTo>
                  <a:lnTo>
                    <a:pt x="224" y="1096"/>
                  </a:lnTo>
                  <a:lnTo>
                    <a:pt x="248" y="1040"/>
                  </a:lnTo>
                  <a:lnTo>
                    <a:pt x="264" y="1016"/>
                  </a:lnTo>
                  <a:lnTo>
                    <a:pt x="288" y="992"/>
                  </a:lnTo>
                  <a:lnTo>
                    <a:pt x="313" y="960"/>
                  </a:lnTo>
                  <a:lnTo>
                    <a:pt x="329" y="936"/>
                  </a:lnTo>
                  <a:lnTo>
                    <a:pt x="361" y="888"/>
                  </a:lnTo>
                  <a:lnTo>
                    <a:pt x="369" y="872"/>
                  </a:lnTo>
                  <a:lnTo>
                    <a:pt x="401" y="832"/>
                  </a:lnTo>
                  <a:lnTo>
                    <a:pt x="425" y="816"/>
                  </a:lnTo>
                  <a:lnTo>
                    <a:pt x="441" y="784"/>
                  </a:lnTo>
                  <a:lnTo>
                    <a:pt x="473" y="728"/>
                  </a:lnTo>
                  <a:lnTo>
                    <a:pt x="473" y="728"/>
                  </a:lnTo>
                  <a:lnTo>
                    <a:pt x="497" y="680"/>
                  </a:lnTo>
                  <a:lnTo>
                    <a:pt x="529" y="632"/>
                  </a:lnTo>
                  <a:lnTo>
                    <a:pt x="529" y="624"/>
                  </a:lnTo>
                  <a:lnTo>
                    <a:pt x="553" y="576"/>
                  </a:lnTo>
                  <a:lnTo>
                    <a:pt x="577" y="536"/>
                  </a:lnTo>
                  <a:lnTo>
                    <a:pt x="585" y="520"/>
                  </a:lnTo>
                  <a:lnTo>
                    <a:pt x="601" y="472"/>
                  </a:lnTo>
                  <a:lnTo>
                    <a:pt x="625" y="416"/>
                  </a:lnTo>
                  <a:lnTo>
                    <a:pt x="633" y="408"/>
                  </a:lnTo>
                  <a:lnTo>
                    <a:pt x="681" y="368"/>
                  </a:lnTo>
                  <a:lnTo>
                    <a:pt x="681" y="368"/>
                  </a:lnTo>
                  <a:lnTo>
                    <a:pt x="721" y="312"/>
                  </a:lnTo>
                  <a:lnTo>
                    <a:pt x="737" y="288"/>
                  </a:lnTo>
                  <a:lnTo>
                    <a:pt x="769" y="264"/>
                  </a:lnTo>
                  <a:lnTo>
                    <a:pt x="785" y="256"/>
                  </a:lnTo>
                  <a:lnTo>
                    <a:pt x="841" y="224"/>
                  </a:lnTo>
                  <a:lnTo>
                    <a:pt x="865" y="208"/>
                  </a:lnTo>
                  <a:lnTo>
                    <a:pt x="889" y="192"/>
                  </a:lnTo>
                  <a:lnTo>
                    <a:pt x="921" y="208"/>
                  </a:lnTo>
                  <a:lnTo>
                    <a:pt x="945" y="224"/>
                  </a:lnTo>
                  <a:lnTo>
                    <a:pt x="993" y="240"/>
                  </a:lnTo>
                  <a:lnTo>
                    <a:pt x="1049" y="224"/>
                  </a:lnTo>
                  <a:lnTo>
                    <a:pt x="1097" y="224"/>
                  </a:lnTo>
                  <a:lnTo>
                    <a:pt x="1145" y="208"/>
                  </a:lnTo>
                  <a:lnTo>
                    <a:pt x="1153" y="200"/>
                  </a:lnTo>
                  <a:lnTo>
                    <a:pt x="1201" y="160"/>
                  </a:lnTo>
                  <a:lnTo>
                    <a:pt x="1201" y="152"/>
                  </a:lnTo>
                  <a:lnTo>
                    <a:pt x="1257" y="152"/>
                  </a:lnTo>
                  <a:lnTo>
                    <a:pt x="1305" y="104"/>
                  </a:lnTo>
                  <a:lnTo>
                    <a:pt x="1305" y="96"/>
                  </a:lnTo>
                  <a:lnTo>
                    <a:pt x="1361" y="64"/>
                  </a:lnTo>
                  <a:lnTo>
                    <a:pt x="1409" y="64"/>
                  </a:lnTo>
                  <a:lnTo>
                    <a:pt x="1425" y="56"/>
                  </a:lnTo>
                  <a:lnTo>
                    <a:pt x="1457" y="0"/>
                  </a:lnTo>
                  <a:lnTo>
                    <a:pt x="1465" y="0"/>
                  </a:lnTo>
                  <a:lnTo>
                    <a:pt x="1513" y="0"/>
                  </a:lnTo>
                  <a:lnTo>
                    <a:pt x="1569" y="0"/>
                  </a:lnTo>
                  <a:lnTo>
                    <a:pt x="156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76360" y="781920"/>
              <a:ext cx="3183480" cy="3790440"/>
            </a:xfrm>
            <a:custGeom>
              <a:avLst/>
              <a:gdLst/>
              <a:ahLst/>
              <a:rect l="l" t="t" r="r" b="b"/>
              <a:pathLst>
                <a:path w="1529" h="2017">
                  <a:moveTo>
                    <a:pt x="1529" y="0"/>
                  </a:moveTo>
                  <a:lnTo>
                    <a:pt x="1529" y="48"/>
                  </a:lnTo>
                  <a:lnTo>
                    <a:pt x="1529" y="104"/>
                  </a:lnTo>
                  <a:lnTo>
                    <a:pt x="1529" y="152"/>
                  </a:lnTo>
                  <a:lnTo>
                    <a:pt x="1529" y="208"/>
                  </a:lnTo>
                  <a:lnTo>
                    <a:pt x="1529" y="256"/>
                  </a:lnTo>
                  <a:lnTo>
                    <a:pt x="1529" y="312"/>
                  </a:lnTo>
                  <a:lnTo>
                    <a:pt x="1529" y="360"/>
                  </a:lnTo>
                  <a:lnTo>
                    <a:pt x="1529" y="416"/>
                  </a:lnTo>
                  <a:lnTo>
                    <a:pt x="1529" y="464"/>
                  </a:lnTo>
                  <a:lnTo>
                    <a:pt x="1529" y="520"/>
                  </a:lnTo>
                  <a:lnTo>
                    <a:pt x="1529" y="568"/>
                  </a:lnTo>
                  <a:lnTo>
                    <a:pt x="1529" y="624"/>
                  </a:lnTo>
                  <a:lnTo>
                    <a:pt x="1529" y="656"/>
                  </a:lnTo>
                  <a:lnTo>
                    <a:pt x="1513" y="672"/>
                  </a:lnTo>
                  <a:lnTo>
                    <a:pt x="1481" y="728"/>
                  </a:lnTo>
                  <a:lnTo>
                    <a:pt x="1473" y="728"/>
                  </a:lnTo>
                  <a:lnTo>
                    <a:pt x="1449" y="776"/>
                  </a:lnTo>
                  <a:lnTo>
                    <a:pt x="1425" y="808"/>
                  </a:lnTo>
                  <a:lnTo>
                    <a:pt x="1409" y="832"/>
                  </a:lnTo>
                  <a:lnTo>
                    <a:pt x="1393" y="880"/>
                  </a:lnTo>
                  <a:lnTo>
                    <a:pt x="1369" y="912"/>
                  </a:lnTo>
                  <a:lnTo>
                    <a:pt x="1353" y="936"/>
                  </a:lnTo>
                  <a:lnTo>
                    <a:pt x="1321" y="984"/>
                  </a:lnTo>
                  <a:lnTo>
                    <a:pt x="1321" y="992"/>
                  </a:lnTo>
                  <a:lnTo>
                    <a:pt x="1289" y="1040"/>
                  </a:lnTo>
                  <a:lnTo>
                    <a:pt x="1265" y="1072"/>
                  </a:lnTo>
                  <a:lnTo>
                    <a:pt x="1249" y="1088"/>
                  </a:lnTo>
                  <a:lnTo>
                    <a:pt x="1217" y="1136"/>
                  </a:lnTo>
                  <a:lnTo>
                    <a:pt x="1209" y="1144"/>
                  </a:lnTo>
                  <a:lnTo>
                    <a:pt x="1169" y="1192"/>
                  </a:lnTo>
                  <a:lnTo>
                    <a:pt x="1161" y="1208"/>
                  </a:lnTo>
                  <a:lnTo>
                    <a:pt x="1129" y="1248"/>
                  </a:lnTo>
                  <a:lnTo>
                    <a:pt x="1113" y="1272"/>
                  </a:lnTo>
                  <a:lnTo>
                    <a:pt x="1089" y="1296"/>
                  </a:lnTo>
                  <a:lnTo>
                    <a:pt x="1057" y="1352"/>
                  </a:lnTo>
                  <a:lnTo>
                    <a:pt x="1057" y="1352"/>
                  </a:lnTo>
                  <a:lnTo>
                    <a:pt x="1025" y="1408"/>
                  </a:lnTo>
                  <a:lnTo>
                    <a:pt x="1009" y="1441"/>
                  </a:lnTo>
                  <a:lnTo>
                    <a:pt x="1001" y="1457"/>
                  </a:lnTo>
                  <a:lnTo>
                    <a:pt x="977" y="1513"/>
                  </a:lnTo>
                  <a:lnTo>
                    <a:pt x="953" y="1561"/>
                  </a:lnTo>
                  <a:lnTo>
                    <a:pt x="953" y="1561"/>
                  </a:lnTo>
                  <a:lnTo>
                    <a:pt x="929" y="1617"/>
                  </a:lnTo>
                  <a:lnTo>
                    <a:pt x="905" y="1649"/>
                  </a:lnTo>
                  <a:lnTo>
                    <a:pt x="889" y="1665"/>
                  </a:lnTo>
                  <a:lnTo>
                    <a:pt x="857" y="1721"/>
                  </a:lnTo>
                  <a:lnTo>
                    <a:pt x="849" y="1721"/>
                  </a:lnTo>
                  <a:lnTo>
                    <a:pt x="809" y="1769"/>
                  </a:lnTo>
                  <a:lnTo>
                    <a:pt x="801" y="1785"/>
                  </a:lnTo>
                  <a:lnTo>
                    <a:pt x="745" y="1825"/>
                  </a:lnTo>
                  <a:lnTo>
                    <a:pt x="745" y="1825"/>
                  </a:lnTo>
                  <a:lnTo>
                    <a:pt x="697" y="1841"/>
                  </a:lnTo>
                  <a:lnTo>
                    <a:pt x="641" y="1873"/>
                  </a:lnTo>
                  <a:lnTo>
                    <a:pt x="633" y="1873"/>
                  </a:lnTo>
                  <a:lnTo>
                    <a:pt x="593" y="1889"/>
                  </a:lnTo>
                  <a:lnTo>
                    <a:pt x="537" y="1913"/>
                  </a:lnTo>
                  <a:lnTo>
                    <a:pt x="505" y="1929"/>
                  </a:lnTo>
                  <a:lnTo>
                    <a:pt x="489" y="1937"/>
                  </a:lnTo>
                  <a:lnTo>
                    <a:pt x="433" y="1961"/>
                  </a:lnTo>
                  <a:lnTo>
                    <a:pt x="385" y="1977"/>
                  </a:lnTo>
                  <a:lnTo>
                    <a:pt x="385" y="1985"/>
                  </a:lnTo>
                  <a:lnTo>
                    <a:pt x="329" y="2001"/>
                  </a:lnTo>
                  <a:lnTo>
                    <a:pt x="273" y="2009"/>
                  </a:lnTo>
                  <a:lnTo>
                    <a:pt x="224" y="2017"/>
                  </a:lnTo>
                  <a:lnTo>
                    <a:pt x="168" y="2009"/>
                  </a:lnTo>
                  <a:lnTo>
                    <a:pt x="120" y="1977"/>
                  </a:lnTo>
                  <a:lnTo>
                    <a:pt x="120" y="1977"/>
                  </a:lnTo>
                  <a:lnTo>
                    <a:pt x="80" y="1929"/>
                  </a:lnTo>
                  <a:lnTo>
                    <a:pt x="64" y="1913"/>
                  </a:lnTo>
                  <a:lnTo>
                    <a:pt x="40" y="1873"/>
                  </a:lnTo>
                  <a:lnTo>
                    <a:pt x="24" y="1825"/>
                  </a:lnTo>
                  <a:lnTo>
                    <a:pt x="16" y="1785"/>
                  </a:lnTo>
                  <a:lnTo>
                    <a:pt x="8" y="1769"/>
                  </a:lnTo>
                  <a:lnTo>
                    <a:pt x="0" y="1721"/>
                  </a:lnTo>
                  <a:lnTo>
                    <a:pt x="0" y="1665"/>
                  </a:lnTo>
                  <a:lnTo>
                    <a:pt x="8" y="1617"/>
                  </a:lnTo>
                  <a:lnTo>
                    <a:pt x="16" y="1585"/>
                  </a:lnTo>
                  <a:lnTo>
                    <a:pt x="24" y="1561"/>
                  </a:lnTo>
                  <a:lnTo>
                    <a:pt x="32" y="1513"/>
                  </a:lnTo>
                  <a:lnTo>
                    <a:pt x="48" y="1457"/>
                  </a:lnTo>
                  <a:lnTo>
                    <a:pt x="64" y="1408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296"/>
                  </a:lnTo>
                  <a:lnTo>
                    <a:pt x="120" y="1264"/>
                  </a:lnTo>
                  <a:lnTo>
                    <a:pt x="128" y="1248"/>
                  </a:lnTo>
                  <a:lnTo>
                    <a:pt x="160" y="1192"/>
                  </a:lnTo>
                  <a:lnTo>
                    <a:pt x="168" y="1168"/>
                  </a:lnTo>
                  <a:lnTo>
                    <a:pt x="192" y="1144"/>
                  </a:lnTo>
                  <a:lnTo>
                    <a:pt x="224" y="1088"/>
                  </a:lnTo>
                  <a:lnTo>
                    <a:pt x="224" y="1088"/>
                  </a:lnTo>
                  <a:lnTo>
                    <a:pt x="248" y="1040"/>
                  </a:lnTo>
                  <a:lnTo>
                    <a:pt x="273" y="992"/>
                  </a:lnTo>
                  <a:lnTo>
                    <a:pt x="281" y="984"/>
                  </a:lnTo>
                  <a:lnTo>
                    <a:pt x="321" y="936"/>
                  </a:lnTo>
                  <a:lnTo>
                    <a:pt x="329" y="920"/>
                  </a:lnTo>
                  <a:lnTo>
                    <a:pt x="353" y="880"/>
                  </a:lnTo>
                  <a:lnTo>
                    <a:pt x="385" y="848"/>
                  </a:lnTo>
                  <a:lnTo>
                    <a:pt x="393" y="832"/>
                  </a:lnTo>
                  <a:lnTo>
                    <a:pt x="425" y="776"/>
                  </a:lnTo>
                  <a:lnTo>
                    <a:pt x="433" y="768"/>
                  </a:lnTo>
                  <a:lnTo>
                    <a:pt x="465" y="728"/>
                  </a:lnTo>
                  <a:lnTo>
                    <a:pt x="489" y="696"/>
                  </a:lnTo>
                  <a:lnTo>
                    <a:pt x="497" y="672"/>
                  </a:lnTo>
                  <a:lnTo>
                    <a:pt x="537" y="624"/>
                  </a:lnTo>
                  <a:lnTo>
                    <a:pt x="537" y="616"/>
                  </a:lnTo>
                  <a:lnTo>
                    <a:pt x="569" y="568"/>
                  </a:lnTo>
                  <a:lnTo>
                    <a:pt x="593" y="536"/>
                  </a:lnTo>
                  <a:lnTo>
                    <a:pt x="593" y="520"/>
                  </a:lnTo>
                  <a:lnTo>
                    <a:pt x="625" y="464"/>
                  </a:lnTo>
                  <a:lnTo>
                    <a:pt x="641" y="440"/>
                  </a:lnTo>
                  <a:lnTo>
                    <a:pt x="665" y="416"/>
                  </a:lnTo>
                  <a:lnTo>
                    <a:pt x="697" y="376"/>
                  </a:lnTo>
                  <a:lnTo>
                    <a:pt x="721" y="360"/>
                  </a:lnTo>
                  <a:lnTo>
                    <a:pt x="745" y="344"/>
                  </a:lnTo>
                  <a:lnTo>
                    <a:pt x="785" y="312"/>
                  </a:lnTo>
                  <a:lnTo>
                    <a:pt x="801" y="296"/>
                  </a:lnTo>
                  <a:lnTo>
                    <a:pt x="849" y="288"/>
                  </a:lnTo>
                  <a:lnTo>
                    <a:pt x="905" y="296"/>
                  </a:lnTo>
                  <a:lnTo>
                    <a:pt x="953" y="304"/>
                  </a:lnTo>
                  <a:lnTo>
                    <a:pt x="1009" y="288"/>
                  </a:lnTo>
                  <a:lnTo>
                    <a:pt x="1057" y="296"/>
                  </a:lnTo>
                  <a:lnTo>
                    <a:pt x="1113" y="288"/>
                  </a:lnTo>
                  <a:lnTo>
                    <a:pt x="1161" y="288"/>
                  </a:lnTo>
                  <a:lnTo>
                    <a:pt x="1201" y="256"/>
                  </a:lnTo>
                  <a:lnTo>
                    <a:pt x="1217" y="240"/>
                  </a:lnTo>
                  <a:lnTo>
                    <a:pt x="1265" y="224"/>
                  </a:lnTo>
                  <a:lnTo>
                    <a:pt x="1297" y="208"/>
                  </a:lnTo>
                  <a:lnTo>
                    <a:pt x="1321" y="200"/>
                  </a:lnTo>
                  <a:lnTo>
                    <a:pt x="1369" y="152"/>
                  </a:lnTo>
                  <a:lnTo>
                    <a:pt x="1369" y="144"/>
                  </a:lnTo>
                  <a:lnTo>
                    <a:pt x="1425" y="104"/>
                  </a:lnTo>
                  <a:lnTo>
                    <a:pt x="1425" y="96"/>
                  </a:lnTo>
                  <a:lnTo>
                    <a:pt x="1449" y="104"/>
                  </a:lnTo>
                  <a:lnTo>
                    <a:pt x="1473" y="104"/>
                  </a:lnTo>
                  <a:lnTo>
                    <a:pt x="1481" y="104"/>
                  </a:lnTo>
                  <a:lnTo>
                    <a:pt x="1497" y="48"/>
                  </a:lnTo>
                  <a:lnTo>
                    <a:pt x="1529" y="0"/>
                  </a:lnTo>
                  <a:close/>
                </a:path>
              </a:pathLst>
            </a:custGeom>
            <a:solidFill>
              <a:srgbClr val="0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76360" y="781920"/>
              <a:ext cx="3183480" cy="3790440"/>
            </a:xfrm>
            <a:custGeom>
              <a:avLst/>
              <a:gdLst/>
              <a:ahLst/>
              <a:rect l="l" t="t" r="r" b="b"/>
              <a:pathLst>
                <a:path w="1529" h="2017">
                  <a:moveTo>
                    <a:pt x="1529" y="0"/>
                  </a:moveTo>
                  <a:lnTo>
                    <a:pt x="1529" y="48"/>
                  </a:lnTo>
                  <a:lnTo>
                    <a:pt x="1529" y="104"/>
                  </a:lnTo>
                  <a:lnTo>
                    <a:pt x="1529" y="152"/>
                  </a:lnTo>
                  <a:lnTo>
                    <a:pt x="1529" y="208"/>
                  </a:lnTo>
                  <a:lnTo>
                    <a:pt x="1529" y="256"/>
                  </a:lnTo>
                  <a:lnTo>
                    <a:pt x="1529" y="312"/>
                  </a:lnTo>
                  <a:lnTo>
                    <a:pt x="1529" y="360"/>
                  </a:lnTo>
                  <a:lnTo>
                    <a:pt x="1529" y="416"/>
                  </a:lnTo>
                  <a:lnTo>
                    <a:pt x="1529" y="464"/>
                  </a:lnTo>
                  <a:lnTo>
                    <a:pt x="1529" y="520"/>
                  </a:lnTo>
                  <a:lnTo>
                    <a:pt x="1529" y="568"/>
                  </a:lnTo>
                  <a:lnTo>
                    <a:pt x="1529" y="624"/>
                  </a:lnTo>
                  <a:lnTo>
                    <a:pt x="1529" y="656"/>
                  </a:lnTo>
                  <a:lnTo>
                    <a:pt x="1513" y="672"/>
                  </a:lnTo>
                  <a:lnTo>
                    <a:pt x="1481" y="728"/>
                  </a:lnTo>
                  <a:lnTo>
                    <a:pt x="1473" y="728"/>
                  </a:lnTo>
                  <a:lnTo>
                    <a:pt x="1449" y="776"/>
                  </a:lnTo>
                  <a:lnTo>
                    <a:pt x="1425" y="808"/>
                  </a:lnTo>
                  <a:lnTo>
                    <a:pt x="1409" y="832"/>
                  </a:lnTo>
                  <a:lnTo>
                    <a:pt x="1393" y="880"/>
                  </a:lnTo>
                  <a:lnTo>
                    <a:pt x="1369" y="912"/>
                  </a:lnTo>
                  <a:lnTo>
                    <a:pt x="1353" y="936"/>
                  </a:lnTo>
                  <a:lnTo>
                    <a:pt x="1321" y="984"/>
                  </a:lnTo>
                  <a:lnTo>
                    <a:pt x="1321" y="992"/>
                  </a:lnTo>
                  <a:lnTo>
                    <a:pt x="1289" y="1040"/>
                  </a:lnTo>
                  <a:lnTo>
                    <a:pt x="1265" y="1072"/>
                  </a:lnTo>
                  <a:lnTo>
                    <a:pt x="1249" y="1088"/>
                  </a:lnTo>
                  <a:lnTo>
                    <a:pt x="1217" y="1136"/>
                  </a:lnTo>
                  <a:lnTo>
                    <a:pt x="1209" y="1144"/>
                  </a:lnTo>
                  <a:lnTo>
                    <a:pt x="1169" y="1192"/>
                  </a:lnTo>
                  <a:lnTo>
                    <a:pt x="1161" y="1208"/>
                  </a:lnTo>
                  <a:lnTo>
                    <a:pt x="1129" y="1248"/>
                  </a:lnTo>
                  <a:lnTo>
                    <a:pt x="1113" y="1272"/>
                  </a:lnTo>
                  <a:lnTo>
                    <a:pt x="1089" y="1296"/>
                  </a:lnTo>
                  <a:lnTo>
                    <a:pt x="1057" y="1352"/>
                  </a:lnTo>
                  <a:lnTo>
                    <a:pt x="1057" y="1352"/>
                  </a:lnTo>
                  <a:lnTo>
                    <a:pt x="1025" y="1408"/>
                  </a:lnTo>
                  <a:lnTo>
                    <a:pt x="1009" y="1441"/>
                  </a:lnTo>
                  <a:lnTo>
                    <a:pt x="1001" y="1457"/>
                  </a:lnTo>
                  <a:lnTo>
                    <a:pt x="977" y="1513"/>
                  </a:lnTo>
                  <a:lnTo>
                    <a:pt x="953" y="1561"/>
                  </a:lnTo>
                  <a:lnTo>
                    <a:pt x="953" y="1561"/>
                  </a:lnTo>
                  <a:lnTo>
                    <a:pt x="929" y="1617"/>
                  </a:lnTo>
                  <a:lnTo>
                    <a:pt x="905" y="1649"/>
                  </a:lnTo>
                  <a:lnTo>
                    <a:pt x="889" y="1665"/>
                  </a:lnTo>
                  <a:lnTo>
                    <a:pt x="857" y="1721"/>
                  </a:lnTo>
                  <a:lnTo>
                    <a:pt x="849" y="1721"/>
                  </a:lnTo>
                  <a:lnTo>
                    <a:pt x="809" y="1769"/>
                  </a:lnTo>
                  <a:lnTo>
                    <a:pt x="801" y="1785"/>
                  </a:lnTo>
                  <a:lnTo>
                    <a:pt x="745" y="1825"/>
                  </a:lnTo>
                  <a:lnTo>
                    <a:pt x="745" y="1825"/>
                  </a:lnTo>
                  <a:lnTo>
                    <a:pt x="697" y="1841"/>
                  </a:lnTo>
                  <a:lnTo>
                    <a:pt x="641" y="1873"/>
                  </a:lnTo>
                  <a:lnTo>
                    <a:pt x="633" y="1873"/>
                  </a:lnTo>
                  <a:lnTo>
                    <a:pt x="593" y="1889"/>
                  </a:lnTo>
                  <a:lnTo>
                    <a:pt x="537" y="1913"/>
                  </a:lnTo>
                  <a:lnTo>
                    <a:pt x="505" y="1929"/>
                  </a:lnTo>
                  <a:lnTo>
                    <a:pt x="489" y="1937"/>
                  </a:lnTo>
                  <a:lnTo>
                    <a:pt x="433" y="1961"/>
                  </a:lnTo>
                  <a:lnTo>
                    <a:pt x="385" y="1977"/>
                  </a:lnTo>
                  <a:lnTo>
                    <a:pt x="385" y="1985"/>
                  </a:lnTo>
                  <a:lnTo>
                    <a:pt x="329" y="2001"/>
                  </a:lnTo>
                  <a:lnTo>
                    <a:pt x="273" y="2009"/>
                  </a:lnTo>
                  <a:lnTo>
                    <a:pt x="224" y="2017"/>
                  </a:lnTo>
                  <a:lnTo>
                    <a:pt x="168" y="2009"/>
                  </a:lnTo>
                  <a:lnTo>
                    <a:pt x="120" y="1977"/>
                  </a:lnTo>
                  <a:lnTo>
                    <a:pt x="120" y="1977"/>
                  </a:lnTo>
                  <a:lnTo>
                    <a:pt x="80" y="1929"/>
                  </a:lnTo>
                  <a:lnTo>
                    <a:pt x="64" y="1913"/>
                  </a:lnTo>
                  <a:lnTo>
                    <a:pt x="40" y="1873"/>
                  </a:lnTo>
                  <a:lnTo>
                    <a:pt x="24" y="1825"/>
                  </a:lnTo>
                  <a:lnTo>
                    <a:pt x="16" y="1785"/>
                  </a:lnTo>
                  <a:lnTo>
                    <a:pt x="8" y="1769"/>
                  </a:lnTo>
                  <a:lnTo>
                    <a:pt x="0" y="1721"/>
                  </a:lnTo>
                  <a:lnTo>
                    <a:pt x="0" y="1665"/>
                  </a:lnTo>
                  <a:lnTo>
                    <a:pt x="8" y="1617"/>
                  </a:lnTo>
                  <a:lnTo>
                    <a:pt x="16" y="1585"/>
                  </a:lnTo>
                  <a:lnTo>
                    <a:pt x="24" y="1561"/>
                  </a:lnTo>
                  <a:lnTo>
                    <a:pt x="32" y="1513"/>
                  </a:lnTo>
                  <a:lnTo>
                    <a:pt x="48" y="1457"/>
                  </a:lnTo>
                  <a:lnTo>
                    <a:pt x="64" y="1408"/>
                  </a:lnTo>
                  <a:lnTo>
                    <a:pt x="72" y="1408"/>
                  </a:lnTo>
                  <a:lnTo>
                    <a:pt x="88" y="1352"/>
                  </a:lnTo>
                  <a:lnTo>
                    <a:pt x="104" y="1296"/>
                  </a:lnTo>
                  <a:lnTo>
                    <a:pt x="120" y="1264"/>
                  </a:lnTo>
                  <a:lnTo>
                    <a:pt x="128" y="1248"/>
                  </a:lnTo>
                  <a:lnTo>
                    <a:pt x="160" y="1192"/>
                  </a:lnTo>
                  <a:lnTo>
                    <a:pt x="168" y="1168"/>
                  </a:lnTo>
                  <a:lnTo>
                    <a:pt x="192" y="1144"/>
                  </a:lnTo>
                  <a:lnTo>
                    <a:pt x="224" y="1088"/>
                  </a:lnTo>
                  <a:lnTo>
                    <a:pt x="224" y="1088"/>
                  </a:lnTo>
                  <a:lnTo>
                    <a:pt x="248" y="1040"/>
                  </a:lnTo>
                  <a:lnTo>
                    <a:pt x="273" y="992"/>
                  </a:lnTo>
                  <a:lnTo>
                    <a:pt x="281" y="984"/>
                  </a:lnTo>
                  <a:lnTo>
                    <a:pt x="321" y="936"/>
                  </a:lnTo>
                  <a:lnTo>
                    <a:pt x="329" y="920"/>
                  </a:lnTo>
                  <a:lnTo>
                    <a:pt x="353" y="880"/>
                  </a:lnTo>
                  <a:lnTo>
                    <a:pt x="385" y="848"/>
                  </a:lnTo>
                  <a:lnTo>
                    <a:pt x="393" y="832"/>
                  </a:lnTo>
                  <a:lnTo>
                    <a:pt x="425" y="776"/>
                  </a:lnTo>
                  <a:lnTo>
                    <a:pt x="433" y="768"/>
                  </a:lnTo>
                  <a:lnTo>
                    <a:pt x="465" y="728"/>
                  </a:lnTo>
                  <a:lnTo>
                    <a:pt x="489" y="696"/>
                  </a:lnTo>
                  <a:lnTo>
                    <a:pt x="497" y="672"/>
                  </a:lnTo>
                  <a:lnTo>
                    <a:pt x="537" y="624"/>
                  </a:lnTo>
                  <a:lnTo>
                    <a:pt x="537" y="616"/>
                  </a:lnTo>
                  <a:lnTo>
                    <a:pt x="569" y="568"/>
                  </a:lnTo>
                  <a:lnTo>
                    <a:pt x="593" y="536"/>
                  </a:lnTo>
                  <a:lnTo>
                    <a:pt x="593" y="520"/>
                  </a:lnTo>
                  <a:lnTo>
                    <a:pt x="625" y="464"/>
                  </a:lnTo>
                  <a:lnTo>
                    <a:pt x="641" y="440"/>
                  </a:lnTo>
                  <a:lnTo>
                    <a:pt x="665" y="416"/>
                  </a:lnTo>
                  <a:lnTo>
                    <a:pt x="697" y="376"/>
                  </a:lnTo>
                  <a:lnTo>
                    <a:pt x="721" y="360"/>
                  </a:lnTo>
                  <a:lnTo>
                    <a:pt x="745" y="344"/>
                  </a:lnTo>
                  <a:lnTo>
                    <a:pt x="785" y="312"/>
                  </a:lnTo>
                  <a:lnTo>
                    <a:pt x="801" y="296"/>
                  </a:lnTo>
                  <a:lnTo>
                    <a:pt x="849" y="288"/>
                  </a:lnTo>
                  <a:lnTo>
                    <a:pt x="905" y="296"/>
                  </a:lnTo>
                  <a:lnTo>
                    <a:pt x="953" y="304"/>
                  </a:lnTo>
                  <a:lnTo>
                    <a:pt x="1009" y="288"/>
                  </a:lnTo>
                  <a:lnTo>
                    <a:pt x="1057" y="296"/>
                  </a:lnTo>
                  <a:lnTo>
                    <a:pt x="1113" y="288"/>
                  </a:lnTo>
                  <a:lnTo>
                    <a:pt x="1161" y="288"/>
                  </a:lnTo>
                  <a:lnTo>
                    <a:pt x="1201" y="256"/>
                  </a:lnTo>
                  <a:lnTo>
                    <a:pt x="1217" y="240"/>
                  </a:lnTo>
                  <a:lnTo>
                    <a:pt x="1265" y="224"/>
                  </a:lnTo>
                  <a:lnTo>
                    <a:pt x="1297" y="208"/>
                  </a:lnTo>
                  <a:lnTo>
                    <a:pt x="1321" y="200"/>
                  </a:lnTo>
                  <a:lnTo>
                    <a:pt x="1369" y="152"/>
                  </a:lnTo>
                  <a:lnTo>
                    <a:pt x="1369" y="144"/>
                  </a:lnTo>
                  <a:lnTo>
                    <a:pt x="1425" y="104"/>
                  </a:lnTo>
                  <a:lnTo>
                    <a:pt x="1425" y="96"/>
                  </a:lnTo>
                  <a:lnTo>
                    <a:pt x="1449" y="104"/>
                  </a:lnTo>
                  <a:lnTo>
                    <a:pt x="1473" y="104"/>
                  </a:lnTo>
                  <a:lnTo>
                    <a:pt x="1481" y="104"/>
                  </a:lnTo>
                  <a:lnTo>
                    <a:pt x="1497" y="48"/>
                  </a:lnTo>
                  <a:lnTo>
                    <a:pt x="1529" y="0"/>
                  </a:lnTo>
                  <a:lnTo>
                    <a:pt x="152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9520" y="1113120"/>
              <a:ext cx="3100320" cy="3368880"/>
            </a:xfrm>
            <a:custGeom>
              <a:avLst/>
              <a:gdLst/>
              <a:ahLst/>
              <a:rect l="l" t="t" r="r" b="b"/>
              <a:pathLst>
                <a:path w="1489" h="1793">
                  <a:moveTo>
                    <a:pt x="1489" y="0"/>
                  </a:moveTo>
                  <a:lnTo>
                    <a:pt x="1489" y="32"/>
                  </a:lnTo>
                  <a:lnTo>
                    <a:pt x="1489" y="80"/>
                  </a:lnTo>
                  <a:lnTo>
                    <a:pt x="1489" y="136"/>
                  </a:lnTo>
                  <a:lnTo>
                    <a:pt x="1489" y="184"/>
                  </a:lnTo>
                  <a:lnTo>
                    <a:pt x="1489" y="240"/>
                  </a:lnTo>
                  <a:lnTo>
                    <a:pt x="1489" y="288"/>
                  </a:lnTo>
                  <a:lnTo>
                    <a:pt x="1489" y="344"/>
                  </a:lnTo>
                  <a:lnTo>
                    <a:pt x="1489" y="352"/>
                  </a:lnTo>
                  <a:lnTo>
                    <a:pt x="1441" y="392"/>
                  </a:lnTo>
                  <a:lnTo>
                    <a:pt x="1433" y="400"/>
                  </a:lnTo>
                  <a:lnTo>
                    <a:pt x="1417" y="448"/>
                  </a:lnTo>
                  <a:lnTo>
                    <a:pt x="1393" y="496"/>
                  </a:lnTo>
                  <a:lnTo>
                    <a:pt x="1385" y="512"/>
                  </a:lnTo>
                  <a:lnTo>
                    <a:pt x="1353" y="552"/>
                  </a:lnTo>
                  <a:lnTo>
                    <a:pt x="1329" y="592"/>
                  </a:lnTo>
                  <a:lnTo>
                    <a:pt x="1329" y="600"/>
                  </a:lnTo>
                  <a:lnTo>
                    <a:pt x="1305" y="656"/>
                  </a:lnTo>
                  <a:lnTo>
                    <a:pt x="1281" y="704"/>
                  </a:lnTo>
                  <a:lnTo>
                    <a:pt x="1281" y="712"/>
                  </a:lnTo>
                  <a:lnTo>
                    <a:pt x="1257" y="760"/>
                  </a:lnTo>
                  <a:lnTo>
                    <a:pt x="1233" y="808"/>
                  </a:lnTo>
                  <a:lnTo>
                    <a:pt x="1225" y="816"/>
                  </a:lnTo>
                  <a:lnTo>
                    <a:pt x="1193" y="864"/>
                  </a:lnTo>
                  <a:lnTo>
                    <a:pt x="1177" y="888"/>
                  </a:lnTo>
                  <a:lnTo>
                    <a:pt x="1161" y="912"/>
                  </a:lnTo>
                  <a:lnTo>
                    <a:pt x="1121" y="960"/>
                  </a:lnTo>
                  <a:lnTo>
                    <a:pt x="1121" y="968"/>
                  </a:lnTo>
                  <a:lnTo>
                    <a:pt x="1081" y="1016"/>
                  </a:lnTo>
                  <a:lnTo>
                    <a:pt x="1073" y="1032"/>
                  </a:lnTo>
                  <a:lnTo>
                    <a:pt x="1041" y="1072"/>
                  </a:lnTo>
                  <a:lnTo>
                    <a:pt x="1017" y="1104"/>
                  </a:lnTo>
                  <a:lnTo>
                    <a:pt x="1001" y="1120"/>
                  </a:lnTo>
                  <a:lnTo>
                    <a:pt x="969" y="1176"/>
                  </a:lnTo>
                  <a:lnTo>
                    <a:pt x="969" y="1184"/>
                  </a:lnTo>
                  <a:lnTo>
                    <a:pt x="945" y="1232"/>
                  </a:lnTo>
                  <a:lnTo>
                    <a:pt x="921" y="1281"/>
                  </a:lnTo>
                  <a:lnTo>
                    <a:pt x="913" y="1289"/>
                  </a:lnTo>
                  <a:lnTo>
                    <a:pt x="889" y="1337"/>
                  </a:lnTo>
                  <a:lnTo>
                    <a:pt x="865" y="1377"/>
                  </a:lnTo>
                  <a:lnTo>
                    <a:pt x="857" y="1385"/>
                  </a:lnTo>
                  <a:lnTo>
                    <a:pt x="833" y="1441"/>
                  </a:lnTo>
                  <a:lnTo>
                    <a:pt x="809" y="1465"/>
                  </a:lnTo>
                  <a:lnTo>
                    <a:pt x="793" y="1489"/>
                  </a:lnTo>
                  <a:lnTo>
                    <a:pt x="761" y="1537"/>
                  </a:lnTo>
                  <a:lnTo>
                    <a:pt x="753" y="1545"/>
                  </a:lnTo>
                  <a:lnTo>
                    <a:pt x="705" y="1593"/>
                  </a:lnTo>
                  <a:lnTo>
                    <a:pt x="697" y="1593"/>
                  </a:lnTo>
                  <a:lnTo>
                    <a:pt x="657" y="1609"/>
                  </a:lnTo>
                  <a:lnTo>
                    <a:pt x="601" y="1633"/>
                  </a:lnTo>
                  <a:lnTo>
                    <a:pt x="577" y="1649"/>
                  </a:lnTo>
                  <a:lnTo>
                    <a:pt x="553" y="1657"/>
                  </a:lnTo>
                  <a:lnTo>
                    <a:pt x="497" y="1689"/>
                  </a:lnTo>
                  <a:lnTo>
                    <a:pt x="489" y="1697"/>
                  </a:lnTo>
                  <a:lnTo>
                    <a:pt x="449" y="1721"/>
                  </a:lnTo>
                  <a:lnTo>
                    <a:pt x="393" y="1745"/>
                  </a:lnTo>
                  <a:lnTo>
                    <a:pt x="369" y="1753"/>
                  </a:lnTo>
                  <a:lnTo>
                    <a:pt x="345" y="1761"/>
                  </a:lnTo>
                  <a:lnTo>
                    <a:pt x="289" y="1777"/>
                  </a:lnTo>
                  <a:lnTo>
                    <a:pt x="233" y="1793"/>
                  </a:lnTo>
                  <a:lnTo>
                    <a:pt x="184" y="1793"/>
                  </a:lnTo>
                  <a:lnTo>
                    <a:pt x="128" y="1785"/>
                  </a:lnTo>
                  <a:lnTo>
                    <a:pt x="80" y="1753"/>
                  </a:lnTo>
                  <a:lnTo>
                    <a:pt x="80" y="1745"/>
                  </a:lnTo>
                  <a:lnTo>
                    <a:pt x="48" y="1697"/>
                  </a:lnTo>
                  <a:lnTo>
                    <a:pt x="24" y="1665"/>
                  </a:lnTo>
                  <a:lnTo>
                    <a:pt x="24" y="1649"/>
                  </a:lnTo>
                  <a:lnTo>
                    <a:pt x="8" y="1593"/>
                  </a:lnTo>
                  <a:lnTo>
                    <a:pt x="0" y="1545"/>
                  </a:lnTo>
                  <a:lnTo>
                    <a:pt x="0" y="1489"/>
                  </a:lnTo>
                  <a:lnTo>
                    <a:pt x="0" y="1441"/>
                  </a:lnTo>
                  <a:lnTo>
                    <a:pt x="16" y="1385"/>
                  </a:lnTo>
                  <a:lnTo>
                    <a:pt x="24" y="1353"/>
                  </a:lnTo>
                  <a:lnTo>
                    <a:pt x="32" y="1337"/>
                  </a:lnTo>
                  <a:lnTo>
                    <a:pt x="48" y="1281"/>
                  </a:lnTo>
                  <a:lnTo>
                    <a:pt x="64" y="1232"/>
                  </a:lnTo>
                  <a:lnTo>
                    <a:pt x="80" y="1200"/>
                  </a:lnTo>
                  <a:lnTo>
                    <a:pt x="88" y="1176"/>
                  </a:lnTo>
                  <a:lnTo>
                    <a:pt x="120" y="1120"/>
                  </a:lnTo>
                  <a:lnTo>
                    <a:pt x="128" y="1096"/>
                  </a:lnTo>
                  <a:lnTo>
                    <a:pt x="144" y="1072"/>
                  </a:lnTo>
                  <a:lnTo>
                    <a:pt x="184" y="1016"/>
                  </a:lnTo>
                  <a:lnTo>
                    <a:pt x="184" y="1016"/>
                  </a:lnTo>
                  <a:lnTo>
                    <a:pt x="200" y="968"/>
                  </a:lnTo>
                  <a:lnTo>
                    <a:pt x="233" y="912"/>
                  </a:lnTo>
                  <a:lnTo>
                    <a:pt x="233" y="904"/>
                  </a:lnTo>
                  <a:lnTo>
                    <a:pt x="265" y="864"/>
                  </a:lnTo>
                  <a:lnTo>
                    <a:pt x="289" y="832"/>
                  </a:lnTo>
                  <a:lnTo>
                    <a:pt x="305" y="808"/>
                  </a:lnTo>
                  <a:lnTo>
                    <a:pt x="337" y="760"/>
                  </a:lnTo>
                  <a:lnTo>
                    <a:pt x="345" y="752"/>
                  </a:lnTo>
                  <a:lnTo>
                    <a:pt x="369" y="704"/>
                  </a:lnTo>
                  <a:lnTo>
                    <a:pt x="393" y="680"/>
                  </a:lnTo>
                  <a:lnTo>
                    <a:pt x="409" y="656"/>
                  </a:lnTo>
                  <a:lnTo>
                    <a:pt x="449" y="616"/>
                  </a:lnTo>
                  <a:lnTo>
                    <a:pt x="449" y="600"/>
                  </a:lnTo>
                  <a:lnTo>
                    <a:pt x="489" y="552"/>
                  </a:lnTo>
                  <a:lnTo>
                    <a:pt x="497" y="536"/>
                  </a:lnTo>
                  <a:lnTo>
                    <a:pt x="529" y="496"/>
                  </a:lnTo>
                  <a:lnTo>
                    <a:pt x="553" y="464"/>
                  </a:lnTo>
                  <a:lnTo>
                    <a:pt x="561" y="448"/>
                  </a:lnTo>
                  <a:lnTo>
                    <a:pt x="593" y="392"/>
                  </a:lnTo>
                  <a:lnTo>
                    <a:pt x="601" y="384"/>
                  </a:lnTo>
                  <a:lnTo>
                    <a:pt x="633" y="344"/>
                  </a:lnTo>
                  <a:lnTo>
                    <a:pt x="657" y="312"/>
                  </a:lnTo>
                  <a:lnTo>
                    <a:pt x="681" y="288"/>
                  </a:lnTo>
                  <a:lnTo>
                    <a:pt x="705" y="272"/>
                  </a:lnTo>
                  <a:lnTo>
                    <a:pt x="761" y="248"/>
                  </a:lnTo>
                  <a:lnTo>
                    <a:pt x="793" y="240"/>
                  </a:lnTo>
                  <a:lnTo>
                    <a:pt x="809" y="232"/>
                  </a:lnTo>
                  <a:lnTo>
                    <a:pt x="833" y="240"/>
                  </a:lnTo>
                  <a:lnTo>
                    <a:pt x="865" y="240"/>
                  </a:lnTo>
                  <a:lnTo>
                    <a:pt x="913" y="240"/>
                  </a:lnTo>
                  <a:lnTo>
                    <a:pt x="969" y="272"/>
                  </a:lnTo>
                  <a:lnTo>
                    <a:pt x="1017" y="248"/>
                  </a:lnTo>
                  <a:lnTo>
                    <a:pt x="1057" y="240"/>
                  </a:lnTo>
                  <a:lnTo>
                    <a:pt x="1073" y="232"/>
                  </a:lnTo>
                  <a:lnTo>
                    <a:pt x="1081" y="240"/>
                  </a:lnTo>
                  <a:lnTo>
                    <a:pt x="1121" y="248"/>
                  </a:lnTo>
                  <a:lnTo>
                    <a:pt x="1137" y="240"/>
                  </a:lnTo>
                  <a:lnTo>
                    <a:pt x="1177" y="208"/>
                  </a:lnTo>
                  <a:lnTo>
                    <a:pt x="1217" y="184"/>
                  </a:lnTo>
                  <a:lnTo>
                    <a:pt x="1225" y="184"/>
                  </a:lnTo>
                  <a:lnTo>
                    <a:pt x="1281" y="184"/>
                  </a:lnTo>
                  <a:lnTo>
                    <a:pt x="1329" y="144"/>
                  </a:lnTo>
                  <a:lnTo>
                    <a:pt x="1337" y="136"/>
                  </a:lnTo>
                  <a:lnTo>
                    <a:pt x="1385" y="88"/>
                  </a:lnTo>
                  <a:lnTo>
                    <a:pt x="1433" y="88"/>
                  </a:lnTo>
                  <a:lnTo>
                    <a:pt x="1441" y="80"/>
                  </a:lnTo>
                  <a:lnTo>
                    <a:pt x="1473" y="32"/>
                  </a:lnTo>
                  <a:lnTo>
                    <a:pt x="1489" y="0"/>
                  </a:lnTo>
                  <a:close/>
                </a:path>
              </a:pathLst>
            </a:custGeom>
            <a:solidFill>
              <a:srgbClr val="47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59520" y="1113120"/>
              <a:ext cx="3100320" cy="3368880"/>
            </a:xfrm>
            <a:custGeom>
              <a:avLst/>
              <a:gdLst/>
              <a:ahLst/>
              <a:rect l="l" t="t" r="r" b="b"/>
              <a:pathLst>
                <a:path w="1489" h="1793">
                  <a:moveTo>
                    <a:pt x="1489" y="0"/>
                  </a:moveTo>
                  <a:lnTo>
                    <a:pt x="1489" y="32"/>
                  </a:lnTo>
                  <a:lnTo>
                    <a:pt x="1489" y="80"/>
                  </a:lnTo>
                  <a:lnTo>
                    <a:pt x="1489" y="136"/>
                  </a:lnTo>
                  <a:lnTo>
                    <a:pt x="1489" y="184"/>
                  </a:lnTo>
                  <a:lnTo>
                    <a:pt x="1489" y="240"/>
                  </a:lnTo>
                  <a:lnTo>
                    <a:pt x="1489" y="288"/>
                  </a:lnTo>
                  <a:lnTo>
                    <a:pt x="1489" y="344"/>
                  </a:lnTo>
                  <a:lnTo>
                    <a:pt x="1489" y="352"/>
                  </a:lnTo>
                  <a:lnTo>
                    <a:pt x="1441" y="392"/>
                  </a:lnTo>
                  <a:lnTo>
                    <a:pt x="1433" y="400"/>
                  </a:lnTo>
                  <a:lnTo>
                    <a:pt x="1417" y="448"/>
                  </a:lnTo>
                  <a:lnTo>
                    <a:pt x="1393" y="496"/>
                  </a:lnTo>
                  <a:lnTo>
                    <a:pt x="1385" y="512"/>
                  </a:lnTo>
                  <a:lnTo>
                    <a:pt x="1353" y="552"/>
                  </a:lnTo>
                  <a:lnTo>
                    <a:pt x="1329" y="592"/>
                  </a:lnTo>
                  <a:lnTo>
                    <a:pt x="1329" y="600"/>
                  </a:lnTo>
                  <a:lnTo>
                    <a:pt x="1305" y="656"/>
                  </a:lnTo>
                  <a:lnTo>
                    <a:pt x="1281" y="704"/>
                  </a:lnTo>
                  <a:lnTo>
                    <a:pt x="1281" y="712"/>
                  </a:lnTo>
                  <a:lnTo>
                    <a:pt x="1257" y="760"/>
                  </a:lnTo>
                  <a:lnTo>
                    <a:pt x="1233" y="808"/>
                  </a:lnTo>
                  <a:lnTo>
                    <a:pt x="1225" y="816"/>
                  </a:lnTo>
                  <a:lnTo>
                    <a:pt x="1193" y="864"/>
                  </a:lnTo>
                  <a:lnTo>
                    <a:pt x="1177" y="888"/>
                  </a:lnTo>
                  <a:lnTo>
                    <a:pt x="1161" y="912"/>
                  </a:lnTo>
                  <a:lnTo>
                    <a:pt x="1121" y="960"/>
                  </a:lnTo>
                  <a:lnTo>
                    <a:pt x="1121" y="968"/>
                  </a:lnTo>
                  <a:lnTo>
                    <a:pt x="1081" y="1016"/>
                  </a:lnTo>
                  <a:lnTo>
                    <a:pt x="1073" y="1032"/>
                  </a:lnTo>
                  <a:lnTo>
                    <a:pt x="1041" y="1072"/>
                  </a:lnTo>
                  <a:lnTo>
                    <a:pt x="1017" y="1104"/>
                  </a:lnTo>
                  <a:lnTo>
                    <a:pt x="1001" y="1120"/>
                  </a:lnTo>
                  <a:lnTo>
                    <a:pt x="969" y="1176"/>
                  </a:lnTo>
                  <a:lnTo>
                    <a:pt x="969" y="1184"/>
                  </a:lnTo>
                  <a:lnTo>
                    <a:pt x="945" y="1232"/>
                  </a:lnTo>
                  <a:lnTo>
                    <a:pt x="921" y="1281"/>
                  </a:lnTo>
                  <a:lnTo>
                    <a:pt x="913" y="1289"/>
                  </a:lnTo>
                  <a:lnTo>
                    <a:pt x="889" y="1337"/>
                  </a:lnTo>
                  <a:lnTo>
                    <a:pt x="865" y="1377"/>
                  </a:lnTo>
                  <a:lnTo>
                    <a:pt x="857" y="1385"/>
                  </a:lnTo>
                  <a:lnTo>
                    <a:pt x="833" y="1441"/>
                  </a:lnTo>
                  <a:lnTo>
                    <a:pt x="809" y="1465"/>
                  </a:lnTo>
                  <a:lnTo>
                    <a:pt x="793" y="1489"/>
                  </a:lnTo>
                  <a:lnTo>
                    <a:pt x="761" y="1537"/>
                  </a:lnTo>
                  <a:lnTo>
                    <a:pt x="753" y="1545"/>
                  </a:lnTo>
                  <a:lnTo>
                    <a:pt x="705" y="1593"/>
                  </a:lnTo>
                  <a:lnTo>
                    <a:pt x="697" y="1593"/>
                  </a:lnTo>
                  <a:lnTo>
                    <a:pt x="657" y="1609"/>
                  </a:lnTo>
                  <a:lnTo>
                    <a:pt x="601" y="1633"/>
                  </a:lnTo>
                  <a:lnTo>
                    <a:pt x="577" y="1649"/>
                  </a:lnTo>
                  <a:lnTo>
                    <a:pt x="553" y="1657"/>
                  </a:lnTo>
                  <a:lnTo>
                    <a:pt x="497" y="1689"/>
                  </a:lnTo>
                  <a:lnTo>
                    <a:pt x="489" y="1697"/>
                  </a:lnTo>
                  <a:lnTo>
                    <a:pt x="449" y="1721"/>
                  </a:lnTo>
                  <a:lnTo>
                    <a:pt x="393" y="1745"/>
                  </a:lnTo>
                  <a:lnTo>
                    <a:pt x="369" y="1753"/>
                  </a:lnTo>
                  <a:lnTo>
                    <a:pt x="345" y="1761"/>
                  </a:lnTo>
                  <a:lnTo>
                    <a:pt x="289" y="1777"/>
                  </a:lnTo>
                  <a:lnTo>
                    <a:pt x="233" y="1793"/>
                  </a:lnTo>
                  <a:lnTo>
                    <a:pt x="184" y="1793"/>
                  </a:lnTo>
                  <a:lnTo>
                    <a:pt x="128" y="1785"/>
                  </a:lnTo>
                  <a:lnTo>
                    <a:pt x="80" y="1753"/>
                  </a:lnTo>
                  <a:lnTo>
                    <a:pt x="80" y="1745"/>
                  </a:lnTo>
                  <a:lnTo>
                    <a:pt x="48" y="1697"/>
                  </a:lnTo>
                  <a:lnTo>
                    <a:pt x="24" y="1665"/>
                  </a:lnTo>
                  <a:lnTo>
                    <a:pt x="24" y="1649"/>
                  </a:lnTo>
                  <a:lnTo>
                    <a:pt x="8" y="1593"/>
                  </a:lnTo>
                  <a:lnTo>
                    <a:pt x="0" y="1545"/>
                  </a:lnTo>
                  <a:lnTo>
                    <a:pt x="0" y="1489"/>
                  </a:lnTo>
                  <a:lnTo>
                    <a:pt x="0" y="1441"/>
                  </a:lnTo>
                  <a:lnTo>
                    <a:pt x="16" y="1385"/>
                  </a:lnTo>
                  <a:lnTo>
                    <a:pt x="24" y="1353"/>
                  </a:lnTo>
                  <a:lnTo>
                    <a:pt x="32" y="1337"/>
                  </a:lnTo>
                  <a:lnTo>
                    <a:pt x="48" y="1281"/>
                  </a:lnTo>
                  <a:lnTo>
                    <a:pt x="64" y="1232"/>
                  </a:lnTo>
                  <a:lnTo>
                    <a:pt x="80" y="1200"/>
                  </a:lnTo>
                  <a:lnTo>
                    <a:pt x="88" y="1176"/>
                  </a:lnTo>
                  <a:lnTo>
                    <a:pt x="120" y="1120"/>
                  </a:lnTo>
                  <a:lnTo>
                    <a:pt x="128" y="1096"/>
                  </a:lnTo>
                  <a:lnTo>
                    <a:pt x="144" y="1072"/>
                  </a:lnTo>
                  <a:lnTo>
                    <a:pt x="184" y="1016"/>
                  </a:lnTo>
                  <a:lnTo>
                    <a:pt x="184" y="1016"/>
                  </a:lnTo>
                  <a:lnTo>
                    <a:pt x="200" y="968"/>
                  </a:lnTo>
                  <a:lnTo>
                    <a:pt x="233" y="912"/>
                  </a:lnTo>
                  <a:lnTo>
                    <a:pt x="233" y="904"/>
                  </a:lnTo>
                  <a:lnTo>
                    <a:pt x="265" y="864"/>
                  </a:lnTo>
                  <a:lnTo>
                    <a:pt x="289" y="832"/>
                  </a:lnTo>
                  <a:lnTo>
                    <a:pt x="305" y="808"/>
                  </a:lnTo>
                  <a:lnTo>
                    <a:pt x="337" y="760"/>
                  </a:lnTo>
                  <a:lnTo>
                    <a:pt x="345" y="752"/>
                  </a:lnTo>
                  <a:lnTo>
                    <a:pt x="369" y="704"/>
                  </a:lnTo>
                  <a:lnTo>
                    <a:pt x="393" y="680"/>
                  </a:lnTo>
                  <a:lnTo>
                    <a:pt x="409" y="656"/>
                  </a:lnTo>
                  <a:lnTo>
                    <a:pt x="449" y="616"/>
                  </a:lnTo>
                  <a:lnTo>
                    <a:pt x="449" y="600"/>
                  </a:lnTo>
                  <a:lnTo>
                    <a:pt x="489" y="552"/>
                  </a:lnTo>
                  <a:lnTo>
                    <a:pt x="497" y="536"/>
                  </a:lnTo>
                  <a:lnTo>
                    <a:pt x="529" y="496"/>
                  </a:lnTo>
                  <a:lnTo>
                    <a:pt x="553" y="464"/>
                  </a:lnTo>
                  <a:lnTo>
                    <a:pt x="561" y="448"/>
                  </a:lnTo>
                  <a:lnTo>
                    <a:pt x="593" y="392"/>
                  </a:lnTo>
                  <a:lnTo>
                    <a:pt x="601" y="384"/>
                  </a:lnTo>
                  <a:lnTo>
                    <a:pt x="633" y="344"/>
                  </a:lnTo>
                  <a:lnTo>
                    <a:pt x="657" y="312"/>
                  </a:lnTo>
                  <a:lnTo>
                    <a:pt x="681" y="288"/>
                  </a:lnTo>
                  <a:lnTo>
                    <a:pt x="705" y="272"/>
                  </a:lnTo>
                  <a:lnTo>
                    <a:pt x="761" y="248"/>
                  </a:lnTo>
                  <a:lnTo>
                    <a:pt x="793" y="240"/>
                  </a:lnTo>
                  <a:lnTo>
                    <a:pt x="809" y="232"/>
                  </a:lnTo>
                  <a:lnTo>
                    <a:pt x="833" y="240"/>
                  </a:lnTo>
                  <a:lnTo>
                    <a:pt x="865" y="240"/>
                  </a:lnTo>
                  <a:lnTo>
                    <a:pt x="913" y="240"/>
                  </a:lnTo>
                  <a:lnTo>
                    <a:pt x="969" y="272"/>
                  </a:lnTo>
                  <a:lnTo>
                    <a:pt x="1017" y="248"/>
                  </a:lnTo>
                  <a:lnTo>
                    <a:pt x="1057" y="240"/>
                  </a:lnTo>
                  <a:lnTo>
                    <a:pt x="1073" y="232"/>
                  </a:lnTo>
                  <a:lnTo>
                    <a:pt x="1081" y="240"/>
                  </a:lnTo>
                  <a:lnTo>
                    <a:pt x="1121" y="248"/>
                  </a:lnTo>
                  <a:lnTo>
                    <a:pt x="1137" y="240"/>
                  </a:lnTo>
                  <a:lnTo>
                    <a:pt x="1177" y="208"/>
                  </a:lnTo>
                  <a:lnTo>
                    <a:pt x="1217" y="184"/>
                  </a:lnTo>
                  <a:lnTo>
                    <a:pt x="1225" y="184"/>
                  </a:lnTo>
                  <a:lnTo>
                    <a:pt x="1281" y="184"/>
                  </a:lnTo>
                  <a:lnTo>
                    <a:pt x="1329" y="144"/>
                  </a:lnTo>
                  <a:lnTo>
                    <a:pt x="1337" y="136"/>
                  </a:lnTo>
                  <a:lnTo>
                    <a:pt x="1385" y="88"/>
                  </a:lnTo>
                  <a:lnTo>
                    <a:pt x="1433" y="88"/>
                  </a:lnTo>
                  <a:lnTo>
                    <a:pt x="1441" y="80"/>
                  </a:lnTo>
                  <a:lnTo>
                    <a:pt x="1473" y="32"/>
                  </a:lnTo>
                  <a:lnTo>
                    <a:pt x="1489" y="0"/>
                  </a:lnTo>
                  <a:lnTo>
                    <a:pt x="148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26120" y="1758960"/>
              <a:ext cx="2634120" cy="2662920"/>
            </a:xfrm>
            <a:custGeom>
              <a:avLst/>
              <a:gdLst/>
              <a:ahLst/>
              <a:rect l="l" t="t" r="r" b="b"/>
              <a:pathLst>
                <a:path w="1265" h="1417">
                  <a:moveTo>
                    <a:pt x="1249" y="16"/>
                  </a:moveTo>
                  <a:lnTo>
                    <a:pt x="1265" y="48"/>
                  </a:lnTo>
                  <a:lnTo>
                    <a:pt x="1265" y="104"/>
                  </a:lnTo>
                  <a:lnTo>
                    <a:pt x="1257" y="152"/>
                  </a:lnTo>
                  <a:lnTo>
                    <a:pt x="1249" y="200"/>
                  </a:lnTo>
                  <a:lnTo>
                    <a:pt x="1241" y="208"/>
                  </a:lnTo>
                  <a:lnTo>
                    <a:pt x="1217" y="256"/>
                  </a:lnTo>
                  <a:lnTo>
                    <a:pt x="1209" y="312"/>
                  </a:lnTo>
                  <a:lnTo>
                    <a:pt x="1193" y="344"/>
                  </a:lnTo>
                  <a:lnTo>
                    <a:pt x="1185" y="360"/>
                  </a:lnTo>
                  <a:lnTo>
                    <a:pt x="1161" y="416"/>
                  </a:lnTo>
                  <a:lnTo>
                    <a:pt x="1145" y="440"/>
                  </a:lnTo>
                  <a:lnTo>
                    <a:pt x="1129" y="464"/>
                  </a:lnTo>
                  <a:lnTo>
                    <a:pt x="1105" y="520"/>
                  </a:lnTo>
                  <a:lnTo>
                    <a:pt x="1089" y="544"/>
                  </a:lnTo>
                  <a:lnTo>
                    <a:pt x="1073" y="568"/>
                  </a:lnTo>
                  <a:lnTo>
                    <a:pt x="1041" y="624"/>
                  </a:lnTo>
                  <a:lnTo>
                    <a:pt x="1041" y="632"/>
                  </a:lnTo>
                  <a:lnTo>
                    <a:pt x="1001" y="672"/>
                  </a:lnTo>
                  <a:lnTo>
                    <a:pt x="985" y="696"/>
                  </a:lnTo>
                  <a:lnTo>
                    <a:pt x="969" y="728"/>
                  </a:lnTo>
                  <a:lnTo>
                    <a:pt x="937" y="776"/>
                  </a:lnTo>
                  <a:lnTo>
                    <a:pt x="929" y="776"/>
                  </a:lnTo>
                  <a:lnTo>
                    <a:pt x="905" y="832"/>
                  </a:lnTo>
                  <a:lnTo>
                    <a:pt x="881" y="872"/>
                  </a:lnTo>
                  <a:lnTo>
                    <a:pt x="873" y="888"/>
                  </a:lnTo>
                  <a:lnTo>
                    <a:pt x="841" y="937"/>
                  </a:lnTo>
                  <a:lnTo>
                    <a:pt x="833" y="961"/>
                  </a:lnTo>
                  <a:lnTo>
                    <a:pt x="809" y="993"/>
                  </a:lnTo>
                  <a:lnTo>
                    <a:pt x="785" y="1041"/>
                  </a:lnTo>
                  <a:lnTo>
                    <a:pt x="777" y="1049"/>
                  </a:lnTo>
                  <a:lnTo>
                    <a:pt x="753" y="1097"/>
                  </a:lnTo>
                  <a:lnTo>
                    <a:pt x="729" y="1129"/>
                  </a:lnTo>
                  <a:lnTo>
                    <a:pt x="705" y="1145"/>
                  </a:lnTo>
                  <a:lnTo>
                    <a:pt x="673" y="1185"/>
                  </a:lnTo>
                  <a:lnTo>
                    <a:pt x="649" y="1201"/>
                  </a:lnTo>
                  <a:lnTo>
                    <a:pt x="625" y="1217"/>
                  </a:lnTo>
                  <a:lnTo>
                    <a:pt x="569" y="1249"/>
                  </a:lnTo>
                  <a:lnTo>
                    <a:pt x="561" y="1249"/>
                  </a:lnTo>
                  <a:lnTo>
                    <a:pt x="521" y="1265"/>
                  </a:lnTo>
                  <a:lnTo>
                    <a:pt x="465" y="1305"/>
                  </a:lnTo>
                  <a:lnTo>
                    <a:pt x="465" y="1305"/>
                  </a:lnTo>
                  <a:lnTo>
                    <a:pt x="417" y="1337"/>
                  </a:lnTo>
                  <a:lnTo>
                    <a:pt x="377" y="1353"/>
                  </a:lnTo>
                  <a:lnTo>
                    <a:pt x="361" y="1361"/>
                  </a:lnTo>
                  <a:lnTo>
                    <a:pt x="313" y="1385"/>
                  </a:lnTo>
                  <a:lnTo>
                    <a:pt x="257" y="1401"/>
                  </a:lnTo>
                  <a:lnTo>
                    <a:pt x="225" y="1409"/>
                  </a:lnTo>
                  <a:lnTo>
                    <a:pt x="201" y="1417"/>
                  </a:lnTo>
                  <a:lnTo>
                    <a:pt x="152" y="1409"/>
                  </a:lnTo>
                  <a:lnTo>
                    <a:pt x="144" y="1409"/>
                  </a:lnTo>
                  <a:lnTo>
                    <a:pt x="96" y="1393"/>
                  </a:lnTo>
                  <a:lnTo>
                    <a:pt x="64" y="1353"/>
                  </a:lnTo>
                  <a:lnTo>
                    <a:pt x="48" y="1329"/>
                  </a:lnTo>
                  <a:lnTo>
                    <a:pt x="32" y="1305"/>
                  </a:lnTo>
                  <a:lnTo>
                    <a:pt x="16" y="1249"/>
                  </a:lnTo>
                  <a:lnTo>
                    <a:pt x="8" y="1201"/>
                  </a:lnTo>
                  <a:lnTo>
                    <a:pt x="0" y="1145"/>
                  </a:lnTo>
                  <a:lnTo>
                    <a:pt x="8" y="1097"/>
                  </a:lnTo>
                  <a:lnTo>
                    <a:pt x="16" y="1041"/>
                  </a:lnTo>
                  <a:lnTo>
                    <a:pt x="32" y="993"/>
                  </a:lnTo>
                  <a:lnTo>
                    <a:pt x="48" y="945"/>
                  </a:lnTo>
                  <a:lnTo>
                    <a:pt x="48" y="937"/>
                  </a:lnTo>
                  <a:lnTo>
                    <a:pt x="72" y="888"/>
                  </a:lnTo>
                  <a:lnTo>
                    <a:pt x="96" y="840"/>
                  </a:lnTo>
                  <a:lnTo>
                    <a:pt x="104" y="832"/>
                  </a:lnTo>
                  <a:lnTo>
                    <a:pt x="128" y="776"/>
                  </a:lnTo>
                  <a:lnTo>
                    <a:pt x="152" y="744"/>
                  </a:lnTo>
                  <a:lnTo>
                    <a:pt x="160" y="728"/>
                  </a:lnTo>
                  <a:lnTo>
                    <a:pt x="193" y="672"/>
                  </a:lnTo>
                  <a:lnTo>
                    <a:pt x="201" y="648"/>
                  </a:lnTo>
                  <a:lnTo>
                    <a:pt x="217" y="624"/>
                  </a:lnTo>
                  <a:lnTo>
                    <a:pt x="257" y="568"/>
                  </a:lnTo>
                  <a:lnTo>
                    <a:pt x="257" y="568"/>
                  </a:lnTo>
                  <a:lnTo>
                    <a:pt x="289" y="520"/>
                  </a:lnTo>
                  <a:lnTo>
                    <a:pt x="313" y="480"/>
                  </a:lnTo>
                  <a:lnTo>
                    <a:pt x="321" y="464"/>
                  </a:lnTo>
                  <a:lnTo>
                    <a:pt x="353" y="416"/>
                  </a:lnTo>
                  <a:lnTo>
                    <a:pt x="361" y="400"/>
                  </a:lnTo>
                  <a:lnTo>
                    <a:pt x="393" y="360"/>
                  </a:lnTo>
                  <a:lnTo>
                    <a:pt x="417" y="336"/>
                  </a:lnTo>
                  <a:lnTo>
                    <a:pt x="433" y="312"/>
                  </a:lnTo>
                  <a:lnTo>
                    <a:pt x="465" y="272"/>
                  </a:lnTo>
                  <a:lnTo>
                    <a:pt x="473" y="256"/>
                  </a:lnTo>
                  <a:lnTo>
                    <a:pt x="521" y="208"/>
                  </a:lnTo>
                  <a:lnTo>
                    <a:pt x="521" y="208"/>
                  </a:lnTo>
                  <a:lnTo>
                    <a:pt x="561" y="152"/>
                  </a:lnTo>
                  <a:lnTo>
                    <a:pt x="569" y="144"/>
                  </a:lnTo>
                  <a:lnTo>
                    <a:pt x="601" y="104"/>
                  </a:lnTo>
                  <a:lnTo>
                    <a:pt x="625" y="72"/>
                  </a:lnTo>
                  <a:lnTo>
                    <a:pt x="649" y="48"/>
                  </a:lnTo>
                  <a:lnTo>
                    <a:pt x="673" y="24"/>
                  </a:lnTo>
                  <a:lnTo>
                    <a:pt x="729" y="8"/>
                  </a:lnTo>
                  <a:lnTo>
                    <a:pt x="777" y="0"/>
                  </a:lnTo>
                  <a:lnTo>
                    <a:pt x="777" y="0"/>
                  </a:lnTo>
                  <a:lnTo>
                    <a:pt x="785" y="0"/>
                  </a:lnTo>
                  <a:lnTo>
                    <a:pt x="833" y="0"/>
                  </a:lnTo>
                  <a:lnTo>
                    <a:pt x="881" y="0"/>
                  </a:lnTo>
                  <a:lnTo>
                    <a:pt x="937" y="40"/>
                  </a:lnTo>
                  <a:lnTo>
                    <a:pt x="985" y="24"/>
                  </a:lnTo>
                  <a:lnTo>
                    <a:pt x="1041" y="8"/>
                  </a:lnTo>
                  <a:lnTo>
                    <a:pt x="1089" y="32"/>
                  </a:lnTo>
                  <a:lnTo>
                    <a:pt x="1145" y="24"/>
                  </a:lnTo>
                  <a:lnTo>
                    <a:pt x="1193" y="32"/>
                  </a:lnTo>
                  <a:lnTo>
                    <a:pt x="1249" y="16"/>
                  </a:lnTo>
                  <a:close/>
                </a:path>
              </a:pathLst>
            </a:custGeom>
            <a:solidFill>
              <a:srgbClr val="87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26120" y="1758960"/>
              <a:ext cx="2634120" cy="2662920"/>
            </a:xfrm>
            <a:custGeom>
              <a:avLst/>
              <a:gdLst/>
              <a:ahLst/>
              <a:rect l="l" t="t" r="r" b="b"/>
              <a:pathLst>
                <a:path w="1265" h="1417">
                  <a:moveTo>
                    <a:pt x="1249" y="16"/>
                  </a:moveTo>
                  <a:lnTo>
                    <a:pt x="1265" y="48"/>
                  </a:lnTo>
                  <a:lnTo>
                    <a:pt x="1265" y="104"/>
                  </a:lnTo>
                  <a:lnTo>
                    <a:pt x="1257" y="152"/>
                  </a:lnTo>
                  <a:lnTo>
                    <a:pt x="1249" y="200"/>
                  </a:lnTo>
                  <a:lnTo>
                    <a:pt x="1241" y="208"/>
                  </a:lnTo>
                  <a:lnTo>
                    <a:pt x="1217" y="256"/>
                  </a:lnTo>
                  <a:lnTo>
                    <a:pt x="1209" y="312"/>
                  </a:lnTo>
                  <a:lnTo>
                    <a:pt x="1193" y="344"/>
                  </a:lnTo>
                  <a:lnTo>
                    <a:pt x="1185" y="360"/>
                  </a:lnTo>
                  <a:lnTo>
                    <a:pt x="1161" y="416"/>
                  </a:lnTo>
                  <a:lnTo>
                    <a:pt x="1145" y="440"/>
                  </a:lnTo>
                  <a:lnTo>
                    <a:pt x="1129" y="464"/>
                  </a:lnTo>
                  <a:lnTo>
                    <a:pt x="1105" y="520"/>
                  </a:lnTo>
                  <a:lnTo>
                    <a:pt x="1089" y="544"/>
                  </a:lnTo>
                  <a:lnTo>
                    <a:pt x="1073" y="568"/>
                  </a:lnTo>
                  <a:lnTo>
                    <a:pt x="1041" y="624"/>
                  </a:lnTo>
                  <a:lnTo>
                    <a:pt x="1041" y="632"/>
                  </a:lnTo>
                  <a:lnTo>
                    <a:pt x="1001" y="672"/>
                  </a:lnTo>
                  <a:lnTo>
                    <a:pt x="985" y="696"/>
                  </a:lnTo>
                  <a:lnTo>
                    <a:pt x="969" y="728"/>
                  </a:lnTo>
                  <a:lnTo>
                    <a:pt x="937" y="776"/>
                  </a:lnTo>
                  <a:lnTo>
                    <a:pt x="929" y="776"/>
                  </a:lnTo>
                  <a:lnTo>
                    <a:pt x="905" y="832"/>
                  </a:lnTo>
                  <a:lnTo>
                    <a:pt x="881" y="872"/>
                  </a:lnTo>
                  <a:lnTo>
                    <a:pt x="873" y="888"/>
                  </a:lnTo>
                  <a:lnTo>
                    <a:pt x="841" y="937"/>
                  </a:lnTo>
                  <a:lnTo>
                    <a:pt x="833" y="961"/>
                  </a:lnTo>
                  <a:lnTo>
                    <a:pt x="809" y="993"/>
                  </a:lnTo>
                  <a:lnTo>
                    <a:pt x="785" y="1041"/>
                  </a:lnTo>
                  <a:lnTo>
                    <a:pt x="777" y="1049"/>
                  </a:lnTo>
                  <a:lnTo>
                    <a:pt x="753" y="1097"/>
                  </a:lnTo>
                  <a:lnTo>
                    <a:pt x="729" y="1129"/>
                  </a:lnTo>
                  <a:lnTo>
                    <a:pt x="705" y="1145"/>
                  </a:lnTo>
                  <a:lnTo>
                    <a:pt x="673" y="1185"/>
                  </a:lnTo>
                  <a:lnTo>
                    <a:pt x="649" y="1201"/>
                  </a:lnTo>
                  <a:lnTo>
                    <a:pt x="625" y="1217"/>
                  </a:lnTo>
                  <a:lnTo>
                    <a:pt x="569" y="1249"/>
                  </a:lnTo>
                  <a:lnTo>
                    <a:pt x="561" y="1249"/>
                  </a:lnTo>
                  <a:lnTo>
                    <a:pt x="521" y="1265"/>
                  </a:lnTo>
                  <a:lnTo>
                    <a:pt x="465" y="1305"/>
                  </a:lnTo>
                  <a:lnTo>
                    <a:pt x="465" y="1305"/>
                  </a:lnTo>
                  <a:lnTo>
                    <a:pt x="417" y="1337"/>
                  </a:lnTo>
                  <a:lnTo>
                    <a:pt x="377" y="1353"/>
                  </a:lnTo>
                  <a:lnTo>
                    <a:pt x="361" y="1361"/>
                  </a:lnTo>
                  <a:lnTo>
                    <a:pt x="313" y="1385"/>
                  </a:lnTo>
                  <a:lnTo>
                    <a:pt x="257" y="1401"/>
                  </a:lnTo>
                  <a:lnTo>
                    <a:pt x="225" y="1409"/>
                  </a:lnTo>
                  <a:lnTo>
                    <a:pt x="201" y="1417"/>
                  </a:lnTo>
                  <a:lnTo>
                    <a:pt x="152" y="1409"/>
                  </a:lnTo>
                  <a:lnTo>
                    <a:pt x="144" y="1409"/>
                  </a:lnTo>
                  <a:lnTo>
                    <a:pt x="96" y="1393"/>
                  </a:lnTo>
                  <a:lnTo>
                    <a:pt x="64" y="1353"/>
                  </a:lnTo>
                  <a:lnTo>
                    <a:pt x="48" y="1329"/>
                  </a:lnTo>
                  <a:lnTo>
                    <a:pt x="32" y="1305"/>
                  </a:lnTo>
                  <a:lnTo>
                    <a:pt x="16" y="1249"/>
                  </a:lnTo>
                  <a:lnTo>
                    <a:pt x="8" y="1201"/>
                  </a:lnTo>
                  <a:lnTo>
                    <a:pt x="0" y="1145"/>
                  </a:lnTo>
                  <a:lnTo>
                    <a:pt x="8" y="1097"/>
                  </a:lnTo>
                  <a:lnTo>
                    <a:pt x="16" y="1041"/>
                  </a:lnTo>
                  <a:lnTo>
                    <a:pt x="32" y="993"/>
                  </a:lnTo>
                  <a:lnTo>
                    <a:pt x="48" y="945"/>
                  </a:lnTo>
                  <a:lnTo>
                    <a:pt x="48" y="937"/>
                  </a:lnTo>
                  <a:lnTo>
                    <a:pt x="72" y="888"/>
                  </a:lnTo>
                  <a:lnTo>
                    <a:pt x="96" y="840"/>
                  </a:lnTo>
                  <a:lnTo>
                    <a:pt x="104" y="832"/>
                  </a:lnTo>
                  <a:lnTo>
                    <a:pt x="128" y="776"/>
                  </a:lnTo>
                  <a:lnTo>
                    <a:pt x="152" y="744"/>
                  </a:lnTo>
                  <a:lnTo>
                    <a:pt x="160" y="728"/>
                  </a:lnTo>
                  <a:lnTo>
                    <a:pt x="193" y="672"/>
                  </a:lnTo>
                  <a:lnTo>
                    <a:pt x="201" y="648"/>
                  </a:lnTo>
                  <a:lnTo>
                    <a:pt x="217" y="624"/>
                  </a:lnTo>
                  <a:lnTo>
                    <a:pt x="257" y="568"/>
                  </a:lnTo>
                  <a:lnTo>
                    <a:pt x="257" y="568"/>
                  </a:lnTo>
                  <a:lnTo>
                    <a:pt x="289" y="520"/>
                  </a:lnTo>
                  <a:lnTo>
                    <a:pt x="313" y="480"/>
                  </a:lnTo>
                  <a:lnTo>
                    <a:pt x="321" y="464"/>
                  </a:lnTo>
                  <a:lnTo>
                    <a:pt x="353" y="416"/>
                  </a:lnTo>
                  <a:lnTo>
                    <a:pt x="361" y="400"/>
                  </a:lnTo>
                  <a:lnTo>
                    <a:pt x="393" y="360"/>
                  </a:lnTo>
                  <a:lnTo>
                    <a:pt x="417" y="336"/>
                  </a:lnTo>
                  <a:lnTo>
                    <a:pt x="433" y="312"/>
                  </a:lnTo>
                  <a:lnTo>
                    <a:pt x="465" y="272"/>
                  </a:lnTo>
                  <a:lnTo>
                    <a:pt x="473" y="256"/>
                  </a:lnTo>
                  <a:lnTo>
                    <a:pt x="521" y="208"/>
                  </a:lnTo>
                  <a:lnTo>
                    <a:pt x="521" y="208"/>
                  </a:lnTo>
                  <a:lnTo>
                    <a:pt x="561" y="152"/>
                  </a:lnTo>
                  <a:lnTo>
                    <a:pt x="569" y="144"/>
                  </a:lnTo>
                  <a:lnTo>
                    <a:pt x="601" y="104"/>
                  </a:lnTo>
                  <a:lnTo>
                    <a:pt x="625" y="72"/>
                  </a:lnTo>
                  <a:lnTo>
                    <a:pt x="649" y="48"/>
                  </a:lnTo>
                  <a:lnTo>
                    <a:pt x="673" y="24"/>
                  </a:lnTo>
                  <a:lnTo>
                    <a:pt x="729" y="8"/>
                  </a:lnTo>
                  <a:lnTo>
                    <a:pt x="777" y="0"/>
                  </a:lnTo>
                  <a:lnTo>
                    <a:pt x="777" y="0"/>
                  </a:lnTo>
                  <a:lnTo>
                    <a:pt x="785" y="0"/>
                  </a:lnTo>
                  <a:lnTo>
                    <a:pt x="833" y="0"/>
                  </a:lnTo>
                  <a:lnTo>
                    <a:pt x="881" y="0"/>
                  </a:lnTo>
                  <a:lnTo>
                    <a:pt x="937" y="40"/>
                  </a:lnTo>
                  <a:lnTo>
                    <a:pt x="985" y="24"/>
                  </a:lnTo>
                  <a:lnTo>
                    <a:pt x="1041" y="8"/>
                  </a:lnTo>
                  <a:lnTo>
                    <a:pt x="1089" y="32"/>
                  </a:lnTo>
                  <a:lnTo>
                    <a:pt x="1145" y="24"/>
                  </a:lnTo>
                  <a:lnTo>
                    <a:pt x="1193" y="32"/>
                  </a:lnTo>
                  <a:lnTo>
                    <a:pt x="1249" y="16"/>
                  </a:lnTo>
                  <a:lnTo>
                    <a:pt x="1249" y="1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09640" y="1909440"/>
              <a:ext cx="2300400" cy="2437200"/>
            </a:xfrm>
            <a:custGeom>
              <a:avLst/>
              <a:gdLst/>
              <a:ahLst/>
              <a:rect l="l" t="t" r="r" b="b"/>
              <a:pathLst>
                <a:path w="1105" h="1297">
                  <a:moveTo>
                    <a:pt x="1105" y="144"/>
                  </a:moveTo>
                  <a:lnTo>
                    <a:pt x="1105" y="176"/>
                  </a:lnTo>
                  <a:lnTo>
                    <a:pt x="1105" y="192"/>
                  </a:lnTo>
                  <a:lnTo>
                    <a:pt x="1097" y="232"/>
                  </a:lnTo>
                  <a:lnTo>
                    <a:pt x="1089" y="280"/>
                  </a:lnTo>
                  <a:lnTo>
                    <a:pt x="1073" y="336"/>
                  </a:lnTo>
                  <a:lnTo>
                    <a:pt x="1049" y="384"/>
                  </a:lnTo>
                  <a:lnTo>
                    <a:pt x="1049" y="384"/>
                  </a:lnTo>
                  <a:lnTo>
                    <a:pt x="1017" y="440"/>
                  </a:lnTo>
                  <a:lnTo>
                    <a:pt x="1001" y="472"/>
                  </a:lnTo>
                  <a:lnTo>
                    <a:pt x="985" y="488"/>
                  </a:lnTo>
                  <a:lnTo>
                    <a:pt x="953" y="544"/>
                  </a:lnTo>
                  <a:lnTo>
                    <a:pt x="945" y="552"/>
                  </a:lnTo>
                  <a:lnTo>
                    <a:pt x="921" y="592"/>
                  </a:lnTo>
                  <a:lnTo>
                    <a:pt x="897" y="632"/>
                  </a:lnTo>
                  <a:lnTo>
                    <a:pt x="889" y="648"/>
                  </a:lnTo>
                  <a:lnTo>
                    <a:pt x="865" y="696"/>
                  </a:lnTo>
                  <a:lnTo>
                    <a:pt x="841" y="736"/>
                  </a:lnTo>
                  <a:lnTo>
                    <a:pt x="833" y="752"/>
                  </a:lnTo>
                  <a:lnTo>
                    <a:pt x="793" y="808"/>
                  </a:lnTo>
                  <a:lnTo>
                    <a:pt x="793" y="808"/>
                  </a:lnTo>
                  <a:lnTo>
                    <a:pt x="761" y="857"/>
                  </a:lnTo>
                  <a:lnTo>
                    <a:pt x="737" y="897"/>
                  </a:lnTo>
                  <a:lnTo>
                    <a:pt x="729" y="913"/>
                  </a:lnTo>
                  <a:lnTo>
                    <a:pt x="705" y="961"/>
                  </a:lnTo>
                  <a:lnTo>
                    <a:pt x="689" y="985"/>
                  </a:lnTo>
                  <a:lnTo>
                    <a:pt x="657" y="1017"/>
                  </a:lnTo>
                  <a:lnTo>
                    <a:pt x="633" y="1033"/>
                  </a:lnTo>
                  <a:lnTo>
                    <a:pt x="601" y="1065"/>
                  </a:lnTo>
                  <a:lnTo>
                    <a:pt x="585" y="1081"/>
                  </a:lnTo>
                  <a:lnTo>
                    <a:pt x="529" y="1105"/>
                  </a:lnTo>
                  <a:lnTo>
                    <a:pt x="513" y="1121"/>
                  </a:lnTo>
                  <a:lnTo>
                    <a:pt x="481" y="1137"/>
                  </a:lnTo>
                  <a:lnTo>
                    <a:pt x="433" y="1169"/>
                  </a:lnTo>
                  <a:lnTo>
                    <a:pt x="425" y="1177"/>
                  </a:lnTo>
                  <a:lnTo>
                    <a:pt x="377" y="1209"/>
                  </a:lnTo>
                  <a:lnTo>
                    <a:pt x="345" y="1225"/>
                  </a:lnTo>
                  <a:lnTo>
                    <a:pt x="321" y="1233"/>
                  </a:lnTo>
                  <a:lnTo>
                    <a:pt x="273" y="1265"/>
                  </a:lnTo>
                  <a:lnTo>
                    <a:pt x="241" y="1273"/>
                  </a:lnTo>
                  <a:lnTo>
                    <a:pt x="217" y="1281"/>
                  </a:lnTo>
                  <a:lnTo>
                    <a:pt x="161" y="1297"/>
                  </a:lnTo>
                  <a:lnTo>
                    <a:pt x="112" y="1281"/>
                  </a:lnTo>
                  <a:lnTo>
                    <a:pt x="88" y="1273"/>
                  </a:lnTo>
                  <a:lnTo>
                    <a:pt x="56" y="1257"/>
                  </a:lnTo>
                  <a:lnTo>
                    <a:pt x="40" y="1225"/>
                  </a:lnTo>
                  <a:lnTo>
                    <a:pt x="16" y="1169"/>
                  </a:lnTo>
                  <a:lnTo>
                    <a:pt x="8" y="1121"/>
                  </a:lnTo>
                  <a:lnTo>
                    <a:pt x="8" y="1105"/>
                  </a:lnTo>
                  <a:lnTo>
                    <a:pt x="0" y="1065"/>
                  </a:lnTo>
                  <a:lnTo>
                    <a:pt x="0" y="1017"/>
                  </a:lnTo>
                  <a:lnTo>
                    <a:pt x="8" y="977"/>
                  </a:lnTo>
                  <a:lnTo>
                    <a:pt x="8" y="961"/>
                  </a:lnTo>
                  <a:lnTo>
                    <a:pt x="24" y="913"/>
                  </a:lnTo>
                  <a:lnTo>
                    <a:pt x="48" y="857"/>
                  </a:lnTo>
                  <a:lnTo>
                    <a:pt x="56" y="833"/>
                  </a:lnTo>
                  <a:lnTo>
                    <a:pt x="72" y="808"/>
                  </a:lnTo>
                  <a:lnTo>
                    <a:pt x="96" y="752"/>
                  </a:lnTo>
                  <a:lnTo>
                    <a:pt x="112" y="728"/>
                  </a:lnTo>
                  <a:lnTo>
                    <a:pt x="128" y="696"/>
                  </a:lnTo>
                  <a:lnTo>
                    <a:pt x="161" y="648"/>
                  </a:lnTo>
                  <a:lnTo>
                    <a:pt x="161" y="640"/>
                  </a:lnTo>
                  <a:lnTo>
                    <a:pt x="201" y="592"/>
                  </a:lnTo>
                  <a:lnTo>
                    <a:pt x="217" y="568"/>
                  </a:lnTo>
                  <a:lnTo>
                    <a:pt x="233" y="544"/>
                  </a:lnTo>
                  <a:lnTo>
                    <a:pt x="257" y="488"/>
                  </a:lnTo>
                  <a:lnTo>
                    <a:pt x="273" y="472"/>
                  </a:lnTo>
                  <a:lnTo>
                    <a:pt x="289" y="440"/>
                  </a:lnTo>
                  <a:lnTo>
                    <a:pt x="321" y="392"/>
                  </a:lnTo>
                  <a:lnTo>
                    <a:pt x="321" y="384"/>
                  </a:lnTo>
                  <a:lnTo>
                    <a:pt x="361" y="336"/>
                  </a:lnTo>
                  <a:lnTo>
                    <a:pt x="377" y="320"/>
                  </a:lnTo>
                  <a:lnTo>
                    <a:pt x="401" y="280"/>
                  </a:lnTo>
                  <a:lnTo>
                    <a:pt x="425" y="248"/>
                  </a:lnTo>
                  <a:lnTo>
                    <a:pt x="441" y="232"/>
                  </a:lnTo>
                  <a:lnTo>
                    <a:pt x="481" y="184"/>
                  </a:lnTo>
                  <a:lnTo>
                    <a:pt x="481" y="176"/>
                  </a:lnTo>
                  <a:lnTo>
                    <a:pt x="529" y="128"/>
                  </a:lnTo>
                  <a:lnTo>
                    <a:pt x="529" y="128"/>
                  </a:lnTo>
                  <a:lnTo>
                    <a:pt x="577" y="72"/>
                  </a:lnTo>
                  <a:lnTo>
                    <a:pt x="585" y="64"/>
                  </a:lnTo>
                  <a:lnTo>
                    <a:pt x="633" y="32"/>
                  </a:lnTo>
                  <a:lnTo>
                    <a:pt x="657" y="24"/>
                  </a:lnTo>
                  <a:lnTo>
                    <a:pt x="689" y="8"/>
                  </a:lnTo>
                  <a:lnTo>
                    <a:pt x="737" y="0"/>
                  </a:lnTo>
                  <a:lnTo>
                    <a:pt x="793" y="8"/>
                  </a:lnTo>
                  <a:lnTo>
                    <a:pt x="841" y="16"/>
                  </a:lnTo>
                  <a:lnTo>
                    <a:pt x="849" y="24"/>
                  </a:lnTo>
                  <a:lnTo>
                    <a:pt x="897" y="40"/>
                  </a:lnTo>
                  <a:lnTo>
                    <a:pt x="945" y="48"/>
                  </a:lnTo>
                  <a:lnTo>
                    <a:pt x="1001" y="56"/>
                  </a:lnTo>
                  <a:lnTo>
                    <a:pt x="1049" y="56"/>
                  </a:lnTo>
                  <a:lnTo>
                    <a:pt x="1081" y="72"/>
                  </a:lnTo>
                  <a:lnTo>
                    <a:pt x="1105" y="128"/>
                  </a:lnTo>
                  <a:lnTo>
                    <a:pt x="1105" y="144"/>
                  </a:lnTo>
                  <a:close/>
                </a:path>
              </a:pathLst>
            </a:custGeom>
            <a:solidFill>
              <a:srgbClr val="bf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09640" y="1909440"/>
              <a:ext cx="2300400" cy="2437200"/>
            </a:xfrm>
            <a:custGeom>
              <a:avLst/>
              <a:gdLst/>
              <a:ahLst/>
              <a:rect l="l" t="t" r="r" b="b"/>
              <a:pathLst>
                <a:path w="1105" h="1297">
                  <a:moveTo>
                    <a:pt x="1105" y="144"/>
                  </a:moveTo>
                  <a:lnTo>
                    <a:pt x="1105" y="176"/>
                  </a:lnTo>
                  <a:lnTo>
                    <a:pt x="1105" y="192"/>
                  </a:lnTo>
                  <a:lnTo>
                    <a:pt x="1097" y="232"/>
                  </a:lnTo>
                  <a:lnTo>
                    <a:pt x="1089" y="280"/>
                  </a:lnTo>
                  <a:lnTo>
                    <a:pt x="1073" y="336"/>
                  </a:lnTo>
                  <a:lnTo>
                    <a:pt x="1049" y="384"/>
                  </a:lnTo>
                  <a:lnTo>
                    <a:pt x="1049" y="384"/>
                  </a:lnTo>
                  <a:lnTo>
                    <a:pt x="1017" y="440"/>
                  </a:lnTo>
                  <a:lnTo>
                    <a:pt x="1001" y="472"/>
                  </a:lnTo>
                  <a:lnTo>
                    <a:pt x="985" y="488"/>
                  </a:lnTo>
                  <a:lnTo>
                    <a:pt x="953" y="544"/>
                  </a:lnTo>
                  <a:lnTo>
                    <a:pt x="945" y="552"/>
                  </a:lnTo>
                  <a:lnTo>
                    <a:pt x="921" y="592"/>
                  </a:lnTo>
                  <a:lnTo>
                    <a:pt x="897" y="632"/>
                  </a:lnTo>
                  <a:lnTo>
                    <a:pt x="889" y="648"/>
                  </a:lnTo>
                  <a:lnTo>
                    <a:pt x="865" y="696"/>
                  </a:lnTo>
                  <a:lnTo>
                    <a:pt x="841" y="736"/>
                  </a:lnTo>
                  <a:lnTo>
                    <a:pt x="833" y="752"/>
                  </a:lnTo>
                  <a:lnTo>
                    <a:pt x="793" y="808"/>
                  </a:lnTo>
                  <a:lnTo>
                    <a:pt x="793" y="808"/>
                  </a:lnTo>
                  <a:lnTo>
                    <a:pt x="761" y="857"/>
                  </a:lnTo>
                  <a:lnTo>
                    <a:pt x="737" y="897"/>
                  </a:lnTo>
                  <a:lnTo>
                    <a:pt x="729" y="913"/>
                  </a:lnTo>
                  <a:lnTo>
                    <a:pt x="705" y="961"/>
                  </a:lnTo>
                  <a:lnTo>
                    <a:pt x="689" y="985"/>
                  </a:lnTo>
                  <a:lnTo>
                    <a:pt x="657" y="1017"/>
                  </a:lnTo>
                  <a:lnTo>
                    <a:pt x="633" y="1033"/>
                  </a:lnTo>
                  <a:lnTo>
                    <a:pt x="601" y="1065"/>
                  </a:lnTo>
                  <a:lnTo>
                    <a:pt x="585" y="1081"/>
                  </a:lnTo>
                  <a:lnTo>
                    <a:pt x="529" y="1105"/>
                  </a:lnTo>
                  <a:lnTo>
                    <a:pt x="513" y="1121"/>
                  </a:lnTo>
                  <a:lnTo>
                    <a:pt x="481" y="1137"/>
                  </a:lnTo>
                  <a:lnTo>
                    <a:pt x="433" y="1169"/>
                  </a:lnTo>
                  <a:lnTo>
                    <a:pt x="425" y="1177"/>
                  </a:lnTo>
                  <a:lnTo>
                    <a:pt x="377" y="1209"/>
                  </a:lnTo>
                  <a:lnTo>
                    <a:pt x="345" y="1225"/>
                  </a:lnTo>
                  <a:lnTo>
                    <a:pt x="321" y="1233"/>
                  </a:lnTo>
                  <a:lnTo>
                    <a:pt x="273" y="1265"/>
                  </a:lnTo>
                  <a:lnTo>
                    <a:pt x="241" y="1273"/>
                  </a:lnTo>
                  <a:lnTo>
                    <a:pt x="217" y="1281"/>
                  </a:lnTo>
                  <a:lnTo>
                    <a:pt x="161" y="1297"/>
                  </a:lnTo>
                  <a:lnTo>
                    <a:pt x="112" y="1281"/>
                  </a:lnTo>
                  <a:lnTo>
                    <a:pt x="88" y="1273"/>
                  </a:lnTo>
                  <a:lnTo>
                    <a:pt x="56" y="1257"/>
                  </a:lnTo>
                  <a:lnTo>
                    <a:pt x="40" y="1225"/>
                  </a:lnTo>
                  <a:lnTo>
                    <a:pt x="16" y="1169"/>
                  </a:lnTo>
                  <a:lnTo>
                    <a:pt x="8" y="1121"/>
                  </a:lnTo>
                  <a:lnTo>
                    <a:pt x="8" y="1105"/>
                  </a:lnTo>
                  <a:lnTo>
                    <a:pt x="0" y="1065"/>
                  </a:lnTo>
                  <a:lnTo>
                    <a:pt x="0" y="1017"/>
                  </a:lnTo>
                  <a:lnTo>
                    <a:pt x="8" y="977"/>
                  </a:lnTo>
                  <a:lnTo>
                    <a:pt x="8" y="961"/>
                  </a:lnTo>
                  <a:lnTo>
                    <a:pt x="24" y="913"/>
                  </a:lnTo>
                  <a:lnTo>
                    <a:pt x="48" y="857"/>
                  </a:lnTo>
                  <a:lnTo>
                    <a:pt x="56" y="833"/>
                  </a:lnTo>
                  <a:lnTo>
                    <a:pt x="72" y="808"/>
                  </a:lnTo>
                  <a:lnTo>
                    <a:pt x="96" y="752"/>
                  </a:lnTo>
                  <a:lnTo>
                    <a:pt x="112" y="728"/>
                  </a:lnTo>
                  <a:lnTo>
                    <a:pt x="128" y="696"/>
                  </a:lnTo>
                  <a:lnTo>
                    <a:pt x="161" y="648"/>
                  </a:lnTo>
                  <a:lnTo>
                    <a:pt x="161" y="640"/>
                  </a:lnTo>
                  <a:lnTo>
                    <a:pt x="201" y="592"/>
                  </a:lnTo>
                  <a:lnTo>
                    <a:pt x="217" y="568"/>
                  </a:lnTo>
                  <a:lnTo>
                    <a:pt x="233" y="544"/>
                  </a:lnTo>
                  <a:lnTo>
                    <a:pt x="257" y="488"/>
                  </a:lnTo>
                  <a:lnTo>
                    <a:pt x="273" y="472"/>
                  </a:lnTo>
                  <a:lnTo>
                    <a:pt x="289" y="440"/>
                  </a:lnTo>
                  <a:lnTo>
                    <a:pt x="321" y="392"/>
                  </a:lnTo>
                  <a:lnTo>
                    <a:pt x="321" y="384"/>
                  </a:lnTo>
                  <a:lnTo>
                    <a:pt x="361" y="336"/>
                  </a:lnTo>
                  <a:lnTo>
                    <a:pt x="377" y="320"/>
                  </a:lnTo>
                  <a:lnTo>
                    <a:pt x="401" y="280"/>
                  </a:lnTo>
                  <a:lnTo>
                    <a:pt x="425" y="248"/>
                  </a:lnTo>
                  <a:lnTo>
                    <a:pt x="441" y="232"/>
                  </a:lnTo>
                  <a:lnTo>
                    <a:pt x="481" y="184"/>
                  </a:lnTo>
                  <a:lnTo>
                    <a:pt x="481" y="176"/>
                  </a:lnTo>
                  <a:lnTo>
                    <a:pt x="529" y="128"/>
                  </a:lnTo>
                  <a:lnTo>
                    <a:pt x="529" y="128"/>
                  </a:lnTo>
                  <a:lnTo>
                    <a:pt x="577" y="72"/>
                  </a:lnTo>
                  <a:lnTo>
                    <a:pt x="585" y="64"/>
                  </a:lnTo>
                  <a:lnTo>
                    <a:pt x="633" y="32"/>
                  </a:lnTo>
                  <a:lnTo>
                    <a:pt x="657" y="24"/>
                  </a:lnTo>
                  <a:lnTo>
                    <a:pt x="689" y="8"/>
                  </a:lnTo>
                  <a:lnTo>
                    <a:pt x="737" y="0"/>
                  </a:lnTo>
                  <a:lnTo>
                    <a:pt x="793" y="8"/>
                  </a:lnTo>
                  <a:lnTo>
                    <a:pt x="841" y="16"/>
                  </a:lnTo>
                  <a:lnTo>
                    <a:pt x="849" y="24"/>
                  </a:lnTo>
                  <a:lnTo>
                    <a:pt x="897" y="40"/>
                  </a:lnTo>
                  <a:lnTo>
                    <a:pt x="945" y="48"/>
                  </a:lnTo>
                  <a:lnTo>
                    <a:pt x="1001" y="56"/>
                  </a:lnTo>
                  <a:lnTo>
                    <a:pt x="1049" y="56"/>
                  </a:lnTo>
                  <a:lnTo>
                    <a:pt x="1081" y="72"/>
                  </a:lnTo>
                  <a:lnTo>
                    <a:pt x="1105" y="128"/>
                  </a:lnTo>
                  <a:lnTo>
                    <a:pt x="1105" y="144"/>
                  </a:lnTo>
                  <a:lnTo>
                    <a:pt x="1105" y="1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76240" y="2029680"/>
              <a:ext cx="2100600" cy="2226960"/>
            </a:xfrm>
            <a:custGeom>
              <a:avLst/>
              <a:gdLst/>
              <a:ahLst/>
              <a:rect l="l" t="t" r="r" b="b"/>
              <a:pathLst>
                <a:path w="1009" h="1185">
                  <a:moveTo>
                    <a:pt x="969" y="80"/>
                  </a:moveTo>
                  <a:lnTo>
                    <a:pt x="993" y="112"/>
                  </a:lnTo>
                  <a:lnTo>
                    <a:pt x="1009" y="168"/>
                  </a:lnTo>
                  <a:lnTo>
                    <a:pt x="1001" y="216"/>
                  </a:lnTo>
                  <a:lnTo>
                    <a:pt x="993" y="272"/>
                  </a:lnTo>
                  <a:lnTo>
                    <a:pt x="969" y="320"/>
                  </a:lnTo>
                  <a:lnTo>
                    <a:pt x="969" y="336"/>
                  </a:lnTo>
                  <a:lnTo>
                    <a:pt x="945" y="376"/>
                  </a:lnTo>
                  <a:lnTo>
                    <a:pt x="913" y="424"/>
                  </a:lnTo>
                  <a:lnTo>
                    <a:pt x="913" y="424"/>
                  </a:lnTo>
                  <a:lnTo>
                    <a:pt x="889" y="480"/>
                  </a:lnTo>
                  <a:lnTo>
                    <a:pt x="865" y="520"/>
                  </a:lnTo>
                  <a:lnTo>
                    <a:pt x="857" y="528"/>
                  </a:lnTo>
                  <a:lnTo>
                    <a:pt x="825" y="584"/>
                  </a:lnTo>
                  <a:lnTo>
                    <a:pt x="809" y="616"/>
                  </a:lnTo>
                  <a:lnTo>
                    <a:pt x="801" y="632"/>
                  </a:lnTo>
                  <a:lnTo>
                    <a:pt x="761" y="688"/>
                  </a:lnTo>
                  <a:lnTo>
                    <a:pt x="761" y="688"/>
                  </a:lnTo>
                  <a:lnTo>
                    <a:pt x="721" y="744"/>
                  </a:lnTo>
                  <a:lnTo>
                    <a:pt x="705" y="769"/>
                  </a:lnTo>
                  <a:lnTo>
                    <a:pt x="689" y="793"/>
                  </a:lnTo>
                  <a:lnTo>
                    <a:pt x="657" y="841"/>
                  </a:lnTo>
                  <a:lnTo>
                    <a:pt x="649" y="849"/>
                  </a:lnTo>
                  <a:lnTo>
                    <a:pt x="609" y="897"/>
                  </a:lnTo>
                  <a:lnTo>
                    <a:pt x="601" y="905"/>
                  </a:lnTo>
                  <a:lnTo>
                    <a:pt x="553" y="945"/>
                  </a:lnTo>
                  <a:lnTo>
                    <a:pt x="545" y="953"/>
                  </a:lnTo>
                  <a:lnTo>
                    <a:pt x="497" y="985"/>
                  </a:lnTo>
                  <a:lnTo>
                    <a:pt x="473" y="1001"/>
                  </a:lnTo>
                  <a:lnTo>
                    <a:pt x="449" y="1017"/>
                  </a:lnTo>
                  <a:lnTo>
                    <a:pt x="401" y="1057"/>
                  </a:lnTo>
                  <a:lnTo>
                    <a:pt x="393" y="1065"/>
                  </a:lnTo>
                  <a:lnTo>
                    <a:pt x="345" y="1097"/>
                  </a:lnTo>
                  <a:lnTo>
                    <a:pt x="321" y="1105"/>
                  </a:lnTo>
                  <a:lnTo>
                    <a:pt x="289" y="1129"/>
                  </a:lnTo>
                  <a:lnTo>
                    <a:pt x="241" y="1153"/>
                  </a:lnTo>
                  <a:lnTo>
                    <a:pt x="233" y="1161"/>
                  </a:lnTo>
                  <a:lnTo>
                    <a:pt x="185" y="1177"/>
                  </a:lnTo>
                  <a:lnTo>
                    <a:pt x="129" y="1185"/>
                  </a:lnTo>
                  <a:lnTo>
                    <a:pt x="80" y="1169"/>
                  </a:lnTo>
                  <a:lnTo>
                    <a:pt x="64" y="1161"/>
                  </a:lnTo>
                  <a:lnTo>
                    <a:pt x="24" y="1105"/>
                  </a:lnTo>
                  <a:lnTo>
                    <a:pt x="24" y="1105"/>
                  </a:lnTo>
                  <a:lnTo>
                    <a:pt x="8" y="1057"/>
                  </a:lnTo>
                  <a:lnTo>
                    <a:pt x="0" y="1001"/>
                  </a:lnTo>
                  <a:lnTo>
                    <a:pt x="0" y="953"/>
                  </a:lnTo>
                  <a:lnTo>
                    <a:pt x="8" y="897"/>
                  </a:lnTo>
                  <a:lnTo>
                    <a:pt x="24" y="849"/>
                  </a:lnTo>
                  <a:lnTo>
                    <a:pt x="24" y="833"/>
                  </a:lnTo>
                  <a:lnTo>
                    <a:pt x="48" y="793"/>
                  </a:lnTo>
                  <a:lnTo>
                    <a:pt x="72" y="744"/>
                  </a:lnTo>
                  <a:lnTo>
                    <a:pt x="80" y="728"/>
                  </a:lnTo>
                  <a:lnTo>
                    <a:pt x="104" y="688"/>
                  </a:lnTo>
                  <a:lnTo>
                    <a:pt x="129" y="648"/>
                  </a:lnTo>
                  <a:lnTo>
                    <a:pt x="137" y="632"/>
                  </a:lnTo>
                  <a:lnTo>
                    <a:pt x="185" y="584"/>
                  </a:lnTo>
                  <a:lnTo>
                    <a:pt x="185" y="584"/>
                  </a:lnTo>
                  <a:lnTo>
                    <a:pt x="209" y="528"/>
                  </a:lnTo>
                  <a:lnTo>
                    <a:pt x="233" y="480"/>
                  </a:lnTo>
                  <a:lnTo>
                    <a:pt x="241" y="480"/>
                  </a:lnTo>
                  <a:lnTo>
                    <a:pt x="273" y="424"/>
                  </a:lnTo>
                  <a:lnTo>
                    <a:pt x="289" y="400"/>
                  </a:lnTo>
                  <a:lnTo>
                    <a:pt x="297" y="376"/>
                  </a:lnTo>
                  <a:lnTo>
                    <a:pt x="337" y="320"/>
                  </a:lnTo>
                  <a:lnTo>
                    <a:pt x="345" y="312"/>
                  </a:lnTo>
                  <a:lnTo>
                    <a:pt x="369" y="272"/>
                  </a:lnTo>
                  <a:lnTo>
                    <a:pt x="393" y="232"/>
                  </a:lnTo>
                  <a:lnTo>
                    <a:pt x="409" y="216"/>
                  </a:lnTo>
                  <a:lnTo>
                    <a:pt x="449" y="168"/>
                  </a:lnTo>
                  <a:lnTo>
                    <a:pt x="449" y="168"/>
                  </a:lnTo>
                  <a:lnTo>
                    <a:pt x="497" y="112"/>
                  </a:lnTo>
                  <a:lnTo>
                    <a:pt x="497" y="112"/>
                  </a:lnTo>
                  <a:lnTo>
                    <a:pt x="545" y="64"/>
                  </a:lnTo>
                  <a:lnTo>
                    <a:pt x="553" y="56"/>
                  </a:lnTo>
                  <a:lnTo>
                    <a:pt x="601" y="24"/>
                  </a:lnTo>
                  <a:lnTo>
                    <a:pt x="649" y="8"/>
                  </a:lnTo>
                  <a:lnTo>
                    <a:pt x="657" y="8"/>
                  </a:lnTo>
                  <a:lnTo>
                    <a:pt x="705" y="0"/>
                  </a:lnTo>
                  <a:lnTo>
                    <a:pt x="761" y="8"/>
                  </a:lnTo>
                  <a:lnTo>
                    <a:pt x="769" y="8"/>
                  </a:lnTo>
                  <a:lnTo>
                    <a:pt x="809" y="24"/>
                  </a:lnTo>
                  <a:lnTo>
                    <a:pt x="865" y="48"/>
                  </a:lnTo>
                  <a:lnTo>
                    <a:pt x="905" y="64"/>
                  </a:lnTo>
                  <a:lnTo>
                    <a:pt x="913" y="64"/>
                  </a:lnTo>
                  <a:lnTo>
                    <a:pt x="969" y="80"/>
                  </a:lnTo>
                  <a:close/>
                </a:path>
              </a:pathLst>
            </a:custGeom>
            <a:solidFill>
              <a:srgbClr val="f7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76240" y="2029680"/>
              <a:ext cx="2100600" cy="2226960"/>
            </a:xfrm>
            <a:custGeom>
              <a:avLst/>
              <a:gdLst/>
              <a:ahLst/>
              <a:rect l="l" t="t" r="r" b="b"/>
              <a:pathLst>
                <a:path w="1009" h="1185">
                  <a:moveTo>
                    <a:pt x="969" y="80"/>
                  </a:moveTo>
                  <a:lnTo>
                    <a:pt x="993" y="112"/>
                  </a:lnTo>
                  <a:lnTo>
                    <a:pt x="1009" y="168"/>
                  </a:lnTo>
                  <a:lnTo>
                    <a:pt x="1001" y="216"/>
                  </a:lnTo>
                  <a:lnTo>
                    <a:pt x="993" y="272"/>
                  </a:lnTo>
                  <a:lnTo>
                    <a:pt x="969" y="320"/>
                  </a:lnTo>
                  <a:lnTo>
                    <a:pt x="969" y="336"/>
                  </a:lnTo>
                  <a:lnTo>
                    <a:pt x="945" y="376"/>
                  </a:lnTo>
                  <a:lnTo>
                    <a:pt x="913" y="424"/>
                  </a:lnTo>
                  <a:lnTo>
                    <a:pt x="913" y="424"/>
                  </a:lnTo>
                  <a:lnTo>
                    <a:pt x="889" y="480"/>
                  </a:lnTo>
                  <a:lnTo>
                    <a:pt x="865" y="520"/>
                  </a:lnTo>
                  <a:lnTo>
                    <a:pt x="857" y="528"/>
                  </a:lnTo>
                  <a:lnTo>
                    <a:pt x="825" y="584"/>
                  </a:lnTo>
                  <a:lnTo>
                    <a:pt x="809" y="616"/>
                  </a:lnTo>
                  <a:lnTo>
                    <a:pt x="801" y="632"/>
                  </a:lnTo>
                  <a:lnTo>
                    <a:pt x="761" y="688"/>
                  </a:lnTo>
                  <a:lnTo>
                    <a:pt x="761" y="688"/>
                  </a:lnTo>
                  <a:lnTo>
                    <a:pt x="721" y="744"/>
                  </a:lnTo>
                  <a:lnTo>
                    <a:pt x="705" y="769"/>
                  </a:lnTo>
                  <a:lnTo>
                    <a:pt x="689" y="793"/>
                  </a:lnTo>
                  <a:lnTo>
                    <a:pt x="657" y="841"/>
                  </a:lnTo>
                  <a:lnTo>
                    <a:pt x="649" y="849"/>
                  </a:lnTo>
                  <a:lnTo>
                    <a:pt x="609" y="897"/>
                  </a:lnTo>
                  <a:lnTo>
                    <a:pt x="601" y="905"/>
                  </a:lnTo>
                  <a:lnTo>
                    <a:pt x="553" y="945"/>
                  </a:lnTo>
                  <a:lnTo>
                    <a:pt x="545" y="953"/>
                  </a:lnTo>
                  <a:lnTo>
                    <a:pt x="497" y="985"/>
                  </a:lnTo>
                  <a:lnTo>
                    <a:pt x="473" y="1001"/>
                  </a:lnTo>
                  <a:lnTo>
                    <a:pt x="449" y="1017"/>
                  </a:lnTo>
                  <a:lnTo>
                    <a:pt x="401" y="1057"/>
                  </a:lnTo>
                  <a:lnTo>
                    <a:pt x="393" y="1065"/>
                  </a:lnTo>
                  <a:lnTo>
                    <a:pt x="345" y="1097"/>
                  </a:lnTo>
                  <a:lnTo>
                    <a:pt x="321" y="1105"/>
                  </a:lnTo>
                  <a:lnTo>
                    <a:pt x="289" y="1129"/>
                  </a:lnTo>
                  <a:lnTo>
                    <a:pt x="241" y="1153"/>
                  </a:lnTo>
                  <a:lnTo>
                    <a:pt x="233" y="1161"/>
                  </a:lnTo>
                  <a:lnTo>
                    <a:pt x="185" y="1177"/>
                  </a:lnTo>
                  <a:lnTo>
                    <a:pt x="129" y="1185"/>
                  </a:lnTo>
                  <a:lnTo>
                    <a:pt x="80" y="1169"/>
                  </a:lnTo>
                  <a:lnTo>
                    <a:pt x="64" y="1161"/>
                  </a:lnTo>
                  <a:lnTo>
                    <a:pt x="24" y="1105"/>
                  </a:lnTo>
                  <a:lnTo>
                    <a:pt x="24" y="1105"/>
                  </a:lnTo>
                  <a:lnTo>
                    <a:pt x="8" y="1057"/>
                  </a:lnTo>
                  <a:lnTo>
                    <a:pt x="0" y="1001"/>
                  </a:lnTo>
                  <a:lnTo>
                    <a:pt x="0" y="953"/>
                  </a:lnTo>
                  <a:lnTo>
                    <a:pt x="8" y="897"/>
                  </a:lnTo>
                  <a:lnTo>
                    <a:pt x="24" y="849"/>
                  </a:lnTo>
                  <a:lnTo>
                    <a:pt x="24" y="833"/>
                  </a:lnTo>
                  <a:lnTo>
                    <a:pt x="48" y="793"/>
                  </a:lnTo>
                  <a:lnTo>
                    <a:pt x="72" y="744"/>
                  </a:lnTo>
                  <a:lnTo>
                    <a:pt x="80" y="728"/>
                  </a:lnTo>
                  <a:lnTo>
                    <a:pt x="104" y="688"/>
                  </a:lnTo>
                  <a:lnTo>
                    <a:pt x="129" y="648"/>
                  </a:lnTo>
                  <a:lnTo>
                    <a:pt x="137" y="632"/>
                  </a:lnTo>
                  <a:lnTo>
                    <a:pt x="185" y="584"/>
                  </a:lnTo>
                  <a:lnTo>
                    <a:pt x="185" y="584"/>
                  </a:lnTo>
                  <a:lnTo>
                    <a:pt x="209" y="528"/>
                  </a:lnTo>
                  <a:lnTo>
                    <a:pt x="233" y="480"/>
                  </a:lnTo>
                  <a:lnTo>
                    <a:pt x="241" y="480"/>
                  </a:lnTo>
                  <a:lnTo>
                    <a:pt x="273" y="424"/>
                  </a:lnTo>
                  <a:lnTo>
                    <a:pt x="289" y="400"/>
                  </a:lnTo>
                  <a:lnTo>
                    <a:pt x="297" y="376"/>
                  </a:lnTo>
                  <a:lnTo>
                    <a:pt x="337" y="320"/>
                  </a:lnTo>
                  <a:lnTo>
                    <a:pt x="345" y="312"/>
                  </a:lnTo>
                  <a:lnTo>
                    <a:pt x="369" y="272"/>
                  </a:lnTo>
                  <a:lnTo>
                    <a:pt x="393" y="232"/>
                  </a:lnTo>
                  <a:lnTo>
                    <a:pt x="409" y="216"/>
                  </a:lnTo>
                  <a:lnTo>
                    <a:pt x="449" y="168"/>
                  </a:lnTo>
                  <a:lnTo>
                    <a:pt x="449" y="168"/>
                  </a:lnTo>
                  <a:lnTo>
                    <a:pt x="497" y="112"/>
                  </a:lnTo>
                  <a:lnTo>
                    <a:pt x="497" y="112"/>
                  </a:lnTo>
                  <a:lnTo>
                    <a:pt x="545" y="64"/>
                  </a:lnTo>
                  <a:lnTo>
                    <a:pt x="553" y="56"/>
                  </a:lnTo>
                  <a:lnTo>
                    <a:pt x="601" y="24"/>
                  </a:lnTo>
                  <a:lnTo>
                    <a:pt x="649" y="8"/>
                  </a:lnTo>
                  <a:lnTo>
                    <a:pt x="657" y="8"/>
                  </a:lnTo>
                  <a:lnTo>
                    <a:pt x="705" y="0"/>
                  </a:lnTo>
                  <a:lnTo>
                    <a:pt x="761" y="8"/>
                  </a:lnTo>
                  <a:lnTo>
                    <a:pt x="769" y="8"/>
                  </a:lnTo>
                  <a:lnTo>
                    <a:pt x="809" y="24"/>
                  </a:lnTo>
                  <a:lnTo>
                    <a:pt x="865" y="48"/>
                  </a:lnTo>
                  <a:lnTo>
                    <a:pt x="905" y="64"/>
                  </a:lnTo>
                  <a:lnTo>
                    <a:pt x="913" y="64"/>
                  </a:lnTo>
                  <a:lnTo>
                    <a:pt x="969" y="80"/>
                  </a:lnTo>
                  <a:lnTo>
                    <a:pt x="969" y="8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2840" y="2134800"/>
              <a:ext cx="1917360" cy="2031120"/>
            </a:xfrm>
            <a:custGeom>
              <a:avLst/>
              <a:gdLst/>
              <a:ahLst/>
              <a:rect l="l" t="t" r="r" b="b"/>
              <a:pathLst>
                <a:path w="921" h="1081">
                  <a:moveTo>
                    <a:pt x="881" y="72"/>
                  </a:moveTo>
                  <a:lnTo>
                    <a:pt x="913" y="112"/>
                  </a:lnTo>
                  <a:lnTo>
                    <a:pt x="921" y="160"/>
                  </a:lnTo>
                  <a:lnTo>
                    <a:pt x="913" y="216"/>
                  </a:lnTo>
                  <a:lnTo>
                    <a:pt x="897" y="264"/>
                  </a:lnTo>
                  <a:lnTo>
                    <a:pt x="881" y="288"/>
                  </a:lnTo>
                  <a:lnTo>
                    <a:pt x="873" y="320"/>
                  </a:lnTo>
                  <a:lnTo>
                    <a:pt x="857" y="368"/>
                  </a:lnTo>
                  <a:lnTo>
                    <a:pt x="833" y="416"/>
                  </a:lnTo>
                  <a:lnTo>
                    <a:pt x="825" y="424"/>
                  </a:lnTo>
                  <a:lnTo>
                    <a:pt x="793" y="472"/>
                  </a:lnTo>
                  <a:lnTo>
                    <a:pt x="777" y="504"/>
                  </a:lnTo>
                  <a:lnTo>
                    <a:pt x="761" y="528"/>
                  </a:lnTo>
                  <a:lnTo>
                    <a:pt x="729" y="568"/>
                  </a:lnTo>
                  <a:lnTo>
                    <a:pt x="721" y="576"/>
                  </a:lnTo>
                  <a:lnTo>
                    <a:pt x="681" y="632"/>
                  </a:lnTo>
                  <a:lnTo>
                    <a:pt x="673" y="648"/>
                  </a:lnTo>
                  <a:lnTo>
                    <a:pt x="649" y="688"/>
                  </a:lnTo>
                  <a:lnTo>
                    <a:pt x="625" y="721"/>
                  </a:lnTo>
                  <a:lnTo>
                    <a:pt x="609" y="737"/>
                  </a:lnTo>
                  <a:lnTo>
                    <a:pt x="569" y="761"/>
                  </a:lnTo>
                  <a:lnTo>
                    <a:pt x="545" y="793"/>
                  </a:lnTo>
                  <a:lnTo>
                    <a:pt x="521" y="825"/>
                  </a:lnTo>
                  <a:lnTo>
                    <a:pt x="481" y="841"/>
                  </a:lnTo>
                  <a:lnTo>
                    <a:pt x="465" y="857"/>
                  </a:lnTo>
                  <a:lnTo>
                    <a:pt x="417" y="897"/>
                  </a:lnTo>
                  <a:lnTo>
                    <a:pt x="417" y="897"/>
                  </a:lnTo>
                  <a:lnTo>
                    <a:pt x="361" y="929"/>
                  </a:lnTo>
                  <a:lnTo>
                    <a:pt x="345" y="945"/>
                  </a:lnTo>
                  <a:lnTo>
                    <a:pt x="313" y="985"/>
                  </a:lnTo>
                  <a:lnTo>
                    <a:pt x="297" y="1001"/>
                  </a:lnTo>
                  <a:lnTo>
                    <a:pt x="257" y="1017"/>
                  </a:lnTo>
                  <a:lnTo>
                    <a:pt x="209" y="1049"/>
                  </a:lnTo>
                  <a:lnTo>
                    <a:pt x="209" y="1049"/>
                  </a:lnTo>
                  <a:lnTo>
                    <a:pt x="153" y="1073"/>
                  </a:lnTo>
                  <a:lnTo>
                    <a:pt x="97" y="1081"/>
                  </a:lnTo>
                  <a:lnTo>
                    <a:pt x="48" y="1065"/>
                  </a:lnTo>
                  <a:lnTo>
                    <a:pt x="40" y="1049"/>
                  </a:lnTo>
                  <a:lnTo>
                    <a:pt x="16" y="1001"/>
                  </a:lnTo>
                  <a:lnTo>
                    <a:pt x="0" y="945"/>
                  </a:lnTo>
                  <a:lnTo>
                    <a:pt x="0" y="897"/>
                  </a:lnTo>
                  <a:lnTo>
                    <a:pt x="8" y="841"/>
                  </a:lnTo>
                  <a:lnTo>
                    <a:pt x="32" y="793"/>
                  </a:lnTo>
                  <a:lnTo>
                    <a:pt x="48" y="745"/>
                  </a:lnTo>
                  <a:lnTo>
                    <a:pt x="56" y="737"/>
                  </a:lnTo>
                  <a:lnTo>
                    <a:pt x="81" y="688"/>
                  </a:lnTo>
                  <a:lnTo>
                    <a:pt x="97" y="656"/>
                  </a:lnTo>
                  <a:lnTo>
                    <a:pt x="129" y="632"/>
                  </a:lnTo>
                  <a:lnTo>
                    <a:pt x="153" y="600"/>
                  </a:lnTo>
                  <a:lnTo>
                    <a:pt x="169" y="576"/>
                  </a:lnTo>
                  <a:lnTo>
                    <a:pt x="185" y="528"/>
                  </a:lnTo>
                  <a:lnTo>
                    <a:pt x="209" y="488"/>
                  </a:lnTo>
                  <a:lnTo>
                    <a:pt x="217" y="472"/>
                  </a:lnTo>
                  <a:lnTo>
                    <a:pt x="249" y="424"/>
                  </a:lnTo>
                  <a:lnTo>
                    <a:pt x="257" y="408"/>
                  </a:lnTo>
                  <a:lnTo>
                    <a:pt x="273" y="368"/>
                  </a:lnTo>
                  <a:lnTo>
                    <a:pt x="305" y="320"/>
                  </a:lnTo>
                  <a:lnTo>
                    <a:pt x="313" y="312"/>
                  </a:lnTo>
                  <a:lnTo>
                    <a:pt x="329" y="264"/>
                  </a:lnTo>
                  <a:lnTo>
                    <a:pt x="361" y="216"/>
                  </a:lnTo>
                  <a:lnTo>
                    <a:pt x="361" y="216"/>
                  </a:lnTo>
                  <a:lnTo>
                    <a:pt x="409" y="160"/>
                  </a:lnTo>
                  <a:lnTo>
                    <a:pt x="417" y="152"/>
                  </a:lnTo>
                  <a:lnTo>
                    <a:pt x="457" y="112"/>
                  </a:lnTo>
                  <a:lnTo>
                    <a:pt x="465" y="104"/>
                  </a:lnTo>
                  <a:lnTo>
                    <a:pt x="513" y="56"/>
                  </a:lnTo>
                  <a:lnTo>
                    <a:pt x="521" y="48"/>
                  </a:lnTo>
                  <a:lnTo>
                    <a:pt x="569" y="24"/>
                  </a:lnTo>
                  <a:lnTo>
                    <a:pt x="625" y="8"/>
                  </a:lnTo>
                  <a:lnTo>
                    <a:pt x="641" y="8"/>
                  </a:lnTo>
                  <a:lnTo>
                    <a:pt x="673" y="0"/>
                  </a:lnTo>
                  <a:lnTo>
                    <a:pt x="729" y="0"/>
                  </a:lnTo>
                  <a:lnTo>
                    <a:pt x="729" y="8"/>
                  </a:lnTo>
                  <a:lnTo>
                    <a:pt x="777" y="32"/>
                  </a:lnTo>
                  <a:lnTo>
                    <a:pt x="825" y="56"/>
                  </a:lnTo>
                  <a:lnTo>
                    <a:pt x="833" y="64"/>
                  </a:lnTo>
                  <a:lnTo>
                    <a:pt x="881" y="72"/>
                  </a:lnTo>
                  <a:close/>
                </a:path>
              </a:pathLst>
            </a:custGeom>
            <a:solidFill>
              <a:srgbClr val="ff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2840" y="2134800"/>
              <a:ext cx="1917360" cy="2031120"/>
            </a:xfrm>
            <a:custGeom>
              <a:avLst/>
              <a:gdLst/>
              <a:ahLst/>
              <a:rect l="l" t="t" r="r" b="b"/>
              <a:pathLst>
                <a:path w="921" h="1081">
                  <a:moveTo>
                    <a:pt x="881" y="72"/>
                  </a:moveTo>
                  <a:lnTo>
                    <a:pt x="913" y="112"/>
                  </a:lnTo>
                  <a:lnTo>
                    <a:pt x="921" y="160"/>
                  </a:lnTo>
                  <a:lnTo>
                    <a:pt x="913" y="216"/>
                  </a:lnTo>
                  <a:lnTo>
                    <a:pt x="897" y="264"/>
                  </a:lnTo>
                  <a:lnTo>
                    <a:pt x="881" y="288"/>
                  </a:lnTo>
                  <a:lnTo>
                    <a:pt x="873" y="320"/>
                  </a:lnTo>
                  <a:lnTo>
                    <a:pt x="857" y="368"/>
                  </a:lnTo>
                  <a:lnTo>
                    <a:pt x="833" y="416"/>
                  </a:lnTo>
                  <a:lnTo>
                    <a:pt x="825" y="424"/>
                  </a:lnTo>
                  <a:lnTo>
                    <a:pt x="793" y="472"/>
                  </a:lnTo>
                  <a:lnTo>
                    <a:pt x="777" y="504"/>
                  </a:lnTo>
                  <a:lnTo>
                    <a:pt x="761" y="528"/>
                  </a:lnTo>
                  <a:lnTo>
                    <a:pt x="729" y="568"/>
                  </a:lnTo>
                  <a:lnTo>
                    <a:pt x="721" y="576"/>
                  </a:lnTo>
                  <a:lnTo>
                    <a:pt x="681" y="632"/>
                  </a:lnTo>
                  <a:lnTo>
                    <a:pt x="673" y="648"/>
                  </a:lnTo>
                  <a:lnTo>
                    <a:pt x="649" y="688"/>
                  </a:lnTo>
                  <a:lnTo>
                    <a:pt x="625" y="721"/>
                  </a:lnTo>
                  <a:lnTo>
                    <a:pt x="609" y="737"/>
                  </a:lnTo>
                  <a:lnTo>
                    <a:pt x="569" y="761"/>
                  </a:lnTo>
                  <a:lnTo>
                    <a:pt x="545" y="793"/>
                  </a:lnTo>
                  <a:lnTo>
                    <a:pt x="521" y="825"/>
                  </a:lnTo>
                  <a:lnTo>
                    <a:pt x="481" y="841"/>
                  </a:lnTo>
                  <a:lnTo>
                    <a:pt x="465" y="857"/>
                  </a:lnTo>
                  <a:lnTo>
                    <a:pt x="417" y="897"/>
                  </a:lnTo>
                  <a:lnTo>
                    <a:pt x="417" y="897"/>
                  </a:lnTo>
                  <a:lnTo>
                    <a:pt x="361" y="929"/>
                  </a:lnTo>
                  <a:lnTo>
                    <a:pt x="345" y="945"/>
                  </a:lnTo>
                  <a:lnTo>
                    <a:pt x="313" y="985"/>
                  </a:lnTo>
                  <a:lnTo>
                    <a:pt x="297" y="1001"/>
                  </a:lnTo>
                  <a:lnTo>
                    <a:pt x="257" y="1017"/>
                  </a:lnTo>
                  <a:lnTo>
                    <a:pt x="209" y="1049"/>
                  </a:lnTo>
                  <a:lnTo>
                    <a:pt x="209" y="1049"/>
                  </a:lnTo>
                  <a:lnTo>
                    <a:pt x="153" y="1073"/>
                  </a:lnTo>
                  <a:lnTo>
                    <a:pt x="97" y="1081"/>
                  </a:lnTo>
                  <a:lnTo>
                    <a:pt x="48" y="1065"/>
                  </a:lnTo>
                  <a:lnTo>
                    <a:pt x="40" y="1049"/>
                  </a:lnTo>
                  <a:lnTo>
                    <a:pt x="16" y="1001"/>
                  </a:lnTo>
                  <a:lnTo>
                    <a:pt x="0" y="945"/>
                  </a:lnTo>
                  <a:lnTo>
                    <a:pt x="0" y="897"/>
                  </a:lnTo>
                  <a:lnTo>
                    <a:pt x="8" y="841"/>
                  </a:lnTo>
                  <a:lnTo>
                    <a:pt x="32" y="793"/>
                  </a:lnTo>
                  <a:lnTo>
                    <a:pt x="48" y="745"/>
                  </a:lnTo>
                  <a:lnTo>
                    <a:pt x="56" y="737"/>
                  </a:lnTo>
                  <a:lnTo>
                    <a:pt x="81" y="688"/>
                  </a:lnTo>
                  <a:lnTo>
                    <a:pt x="97" y="656"/>
                  </a:lnTo>
                  <a:lnTo>
                    <a:pt x="129" y="632"/>
                  </a:lnTo>
                  <a:lnTo>
                    <a:pt x="153" y="600"/>
                  </a:lnTo>
                  <a:lnTo>
                    <a:pt x="169" y="576"/>
                  </a:lnTo>
                  <a:lnTo>
                    <a:pt x="185" y="528"/>
                  </a:lnTo>
                  <a:lnTo>
                    <a:pt x="209" y="488"/>
                  </a:lnTo>
                  <a:lnTo>
                    <a:pt x="217" y="472"/>
                  </a:lnTo>
                  <a:lnTo>
                    <a:pt x="249" y="424"/>
                  </a:lnTo>
                  <a:lnTo>
                    <a:pt x="257" y="408"/>
                  </a:lnTo>
                  <a:lnTo>
                    <a:pt x="273" y="368"/>
                  </a:lnTo>
                  <a:lnTo>
                    <a:pt x="305" y="320"/>
                  </a:lnTo>
                  <a:lnTo>
                    <a:pt x="313" y="312"/>
                  </a:lnTo>
                  <a:lnTo>
                    <a:pt x="329" y="264"/>
                  </a:lnTo>
                  <a:lnTo>
                    <a:pt x="361" y="216"/>
                  </a:lnTo>
                  <a:lnTo>
                    <a:pt x="361" y="216"/>
                  </a:lnTo>
                  <a:lnTo>
                    <a:pt x="409" y="160"/>
                  </a:lnTo>
                  <a:lnTo>
                    <a:pt x="417" y="152"/>
                  </a:lnTo>
                  <a:lnTo>
                    <a:pt x="457" y="112"/>
                  </a:lnTo>
                  <a:lnTo>
                    <a:pt x="465" y="104"/>
                  </a:lnTo>
                  <a:lnTo>
                    <a:pt x="513" y="56"/>
                  </a:lnTo>
                  <a:lnTo>
                    <a:pt x="521" y="48"/>
                  </a:lnTo>
                  <a:lnTo>
                    <a:pt x="569" y="24"/>
                  </a:lnTo>
                  <a:lnTo>
                    <a:pt x="625" y="8"/>
                  </a:lnTo>
                  <a:lnTo>
                    <a:pt x="641" y="8"/>
                  </a:lnTo>
                  <a:lnTo>
                    <a:pt x="673" y="0"/>
                  </a:lnTo>
                  <a:lnTo>
                    <a:pt x="729" y="0"/>
                  </a:lnTo>
                  <a:lnTo>
                    <a:pt x="729" y="8"/>
                  </a:lnTo>
                  <a:lnTo>
                    <a:pt x="777" y="32"/>
                  </a:lnTo>
                  <a:lnTo>
                    <a:pt x="825" y="56"/>
                  </a:lnTo>
                  <a:lnTo>
                    <a:pt x="833" y="64"/>
                  </a:lnTo>
                  <a:lnTo>
                    <a:pt x="881" y="72"/>
                  </a:lnTo>
                  <a:lnTo>
                    <a:pt x="881" y="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26000" y="2225160"/>
              <a:ext cx="1717560" cy="1820880"/>
            </a:xfrm>
            <a:custGeom>
              <a:avLst/>
              <a:gdLst/>
              <a:ahLst/>
              <a:rect l="l" t="t" r="r" b="b"/>
              <a:pathLst>
                <a:path w="825" h="969">
                  <a:moveTo>
                    <a:pt x="793" y="96"/>
                  </a:moveTo>
                  <a:lnTo>
                    <a:pt x="809" y="112"/>
                  </a:lnTo>
                  <a:lnTo>
                    <a:pt x="825" y="168"/>
                  </a:lnTo>
                  <a:lnTo>
                    <a:pt x="817" y="216"/>
                  </a:lnTo>
                  <a:lnTo>
                    <a:pt x="809" y="272"/>
                  </a:lnTo>
                  <a:lnTo>
                    <a:pt x="793" y="312"/>
                  </a:lnTo>
                  <a:lnTo>
                    <a:pt x="785" y="320"/>
                  </a:lnTo>
                  <a:lnTo>
                    <a:pt x="753" y="376"/>
                  </a:lnTo>
                  <a:lnTo>
                    <a:pt x="737" y="400"/>
                  </a:lnTo>
                  <a:lnTo>
                    <a:pt x="721" y="424"/>
                  </a:lnTo>
                  <a:lnTo>
                    <a:pt x="689" y="480"/>
                  </a:lnTo>
                  <a:lnTo>
                    <a:pt x="681" y="480"/>
                  </a:lnTo>
                  <a:lnTo>
                    <a:pt x="649" y="528"/>
                  </a:lnTo>
                  <a:lnTo>
                    <a:pt x="633" y="544"/>
                  </a:lnTo>
                  <a:lnTo>
                    <a:pt x="601" y="584"/>
                  </a:lnTo>
                  <a:lnTo>
                    <a:pt x="585" y="608"/>
                  </a:lnTo>
                  <a:lnTo>
                    <a:pt x="553" y="640"/>
                  </a:lnTo>
                  <a:lnTo>
                    <a:pt x="529" y="657"/>
                  </a:lnTo>
                  <a:lnTo>
                    <a:pt x="497" y="689"/>
                  </a:lnTo>
                  <a:lnTo>
                    <a:pt x="481" y="705"/>
                  </a:lnTo>
                  <a:lnTo>
                    <a:pt x="425" y="721"/>
                  </a:lnTo>
                  <a:lnTo>
                    <a:pt x="393" y="745"/>
                  </a:lnTo>
                  <a:lnTo>
                    <a:pt x="377" y="753"/>
                  </a:lnTo>
                  <a:lnTo>
                    <a:pt x="321" y="777"/>
                  </a:lnTo>
                  <a:lnTo>
                    <a:pt x="305" y="793"/>
                  </a:lnTo>
                  <a:lnTo>
                    <a:pt x="273" y="833"/>
                  </a:lnTo>
                  <a:lnTo>
                    <a:pt x="265" y="849"/>
                  </a:lnTo>
                  <a:lnTo>
                    <a:pt x="225" y="897"/>
                  </a:lnTo>
                  <a:lnTo>
                    <a:pt x="217" y="905"/>
                  </a:lnTo>
                  <a:lnTo>
                    <a:pt x="169" y="937"/>
                  </a:lnTo>
                  <a:lnTo>
                    <a:pt x="137" y="953"/>
                  </a:lnTo>
                  <a:lnTo>
                    <a:pt x="113" y="961"/>
                  </a:lnTo>
                  <a:lnTo>
                    <a:pt x="57" y="969"/>
                  </a:lnTo>
                  <a:lnTo>
                    <a:pt x="24" y="953"/>
                  </a:lnTo>
                  <a:lnTo>
                    <a:pt x="8" y="929"/>
                  </a:lnTo>
                  <a:lnTo>
                    <a:pt x="0" y="897"/>
                  </a:lnTo>
                  <a:lnTo>
                    <a:pt x="0" y="849"/>
                  </a:lnTo>
                  <a:lnTo>
                    <a:pt x="8" y="817"/>
                  </a:lnTo>
                  <a:lnTo>
                    <a:pt x="16" y="793"/>
                  </a:lnTo>
                  <a:lnTo>
                    <a:pt x="41" y="745"/>
                  </a:lnTo>
                  <a:lnTo>
                    <a:pt x="57" y="697"/>
                  </a:lnTo>
                  <a:lnTo>
                    <a:pt x="65" y="689"/>
                  </a:lnTo>
                  <a:lnTo>
                    <a:pt x="113" y="640"/>
                  </a:lnTo>
                  <a:lnTo>
                    <a:pt x="113" y="632"/>
                  </a:lnTo>
                  <a:lnTo>
                    <a:pt x="145" y="584"/>
                  </a:lnTo>
                  <a:lnTo>
                    <a:pt x="161" y="528"/>
                  </a:lnTo>
                  <a:lnTo>
                    <a:pt x="169" y="520"/>
                  </a:lnTo>
                  <a:lnTo>
                    <a:pt x="185" y="480"/>
                  </a:lnTo>
                  <a:lnTo>
                    <a:pt x="217" y="432"/>
                  </a:lnTo>
                  <a:lnTo>
                    <a:pt x="217" y="424"/>
                  </a:lnTo>
                  <a:lnTo>
                    <a:pt x="241" y="376"/>
                  </a:lnTo>
                  <a:lnTo>
                    <a:pt x="265" y="320"/>
                  </a:lnTo>
                  <a:lnTo>
                    <a:pt x="273" y="320"/>
                  </a:lnTo>
                  <a:lnTo>
                    <a:pt x="289" y="272"/>
                  </a:lnTo>
                  <a:lnTo>
                    <a:pt x="313" y="216"/>
                  </a:lnTo>
                  <a:lnTo>
                    <a:pt x="321" y="208"/>
                  </a:lnTo>
                  <a:lnTo>
                    <a:pt x="361" y="168"/>
                  </a:lnTo>
                  <a:lnTo>
                    <a:pt x="377" y="152"/>
                  </a:lnTo>
                  <a:lnTo>
                    <a:pt x="409" y="112"/>
                  </a:lnTo>
                  <a:lnTo>
                    <a:pt x="425" y="96"/>
                  </a:lnTo>
                  <a:lnTo>
                    <a:pt x="457" y="64"/>
                  </a:lnTo>
                  <a:lnTo>
                    <a:pt x="481" y="48"/>
                  </a:lnTo>
                  <a:lnTo>
                    <a:pt x="529" y="24"/>
                  </a:lnTo>
                  <a:lnTo>
                    <a:pt x="569" y="8"/>
                  </a:lnTo>
                  <a:lnTo>
                    <a:pt x="585" y="8"/>
                  </a:lnTo>
                  <a:lnTo>
                    <a:pt x="633" y="0"/>
                  </a:lnTo>
                  <a:lnTo>
                    <a:pt x="689" y="0"/>
                  </a:lnTo>
                  <a:lnTo>
                    <a:pt x="697" y="8"/>
                  </a:lnTo>
                  <a:lnTo>
                    <a:pt x="737" y="48"/>
                  </a:lnTo>
                  <a:lnTo>
                    <a:pt x="761" y="64"/>
                  </a:lnTo>
                  <a:lnTo>
                    <a:pt x="793" y="96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26000" y="2225160"/>
              <a:ext cx="1717560" cy="1820880"/>
            </a:xfrm>
            <a:custGeom>
              <a:avLst/>
              <a:gdLst/>
              <a:ahLst/>
              <a:rect l="l" t="t" r="r" b="b"/>
              <a:pathLst>
                <a:path w="825" h="969">
                  <a:moveTo>
                    <a:pt x="793" y="96"/>
                  </a:moveTo>
                  <a:lnTo>
                    <a:pt x="809" y="112"/>
                  </a:lnTo>
                  <a:lnTo>
                    <a:pt x="825" y="168"/>
                  </a:lnTo>
                  <a:lnTo>
                    <a:pt x="817" y="216"/>
                  </a:lnTo>
                  <a:lnTo>
                    <a:pt x="809" y="272"/>
                  </a:lnTo>
                  <a:lnTo>
                    <a:pt x="793" y="312"/>
                  </a:lnTo>
                  <a:lnTo>
                    <a:pt x="785" y="320"/>
                  </a:lnTo>
                  <a:lnTo>
                    <a:pt x="753" y="376"/>
                  </a:lnTo>
                  <a:lnTo>
                    <a:pt x="737" y="400"/>
                  </a:lnTo>
                  <a:lnTo>
                    <a:pt x="721" y="424"/>
                  </a:lnTo>
                  <a:lnTo>
                    <a:pt x="689" y="480"/>
                  </a:lnTo>
                  <a:lnTo>
                    <a:pt x="681" y="480"/>
                  </a:lnTo>
                  <a:lnTo>
                    <a:pt x="649" y="528"/>
                  </a:lnTo>
                  <a:lnTo>
                    <a:pt x="633" y="544"/>
                  </a:lnTo>
                  <a:lnTo>
                    <a:pt x="601" y="584"/>
                  </a:lnTo>
                  <a:lnTo>
                    <a:pt x="585" y="608"/>
                  </a:lnTo>
                  <a:lnTo>
                    <a:pt x="553" y="640"/>
                  </a:lnTo>
                  <a:lnTo>
                    <a:pt x="529" y="657"/>
                  </a:lnTo>
                  <a:lnTo>
                    <a:pt x="497" y="689"/>
                  </a:lnTo>
                  <a:lnTo>
                    <a:pt x="481" y="705"/>
                  </a:lnTo>
                  <a:lnTo>
                    <a:pt x="425" y="721"/>
                  </a:lnTo>
                  <a:lnTo>
                    <a:pt x="393" y="745"/>
                  </a:lnTo>
                  <a:lnTo>
                    <a:pt x="377" y="753"/>
                  </a:lnTo>
                  <a:lnTo>
                    <a:pt x="321" y="777"/>
                  </a:lnTo>
                  <a:lnTo>
                    <a:pt x="305" y="793"/>
                  </a:lnTo>
                  <a:lnTo>
                    <a:pt x="273" y="833"/>
                  </a:lnTo>
                  <a:lnTo>
                    <a:pt x="265" y="849"/>
                  </a:lnTo>
                  <a:lnTo>
                    <a:pt x="225" y="897"/>
                  </a:lnTo>
                  <a:lnTo>
                    <a:pt x="217" y="905"/>
                  </a:lnTo>
                  <a:lnTo>
                    <a:pt x="169" y="937"/>
                  </a:lnTo>
                  <a:lnTo>
                    <a:pt x="137" y="953"/>
                  </a:lnTo>
                  <a:lnTo>
                    <a:pt x="113" y="961"/>
                  </a:lnTo>
                  <a:lnTo>
                    <a:pt x="57" y="969"/>
                  </a:lnTo>
                  <a:lnTo>
                    <a:pt x="24" y="953"/>
                  </a:lnTo>
                  <a:lnTo>
                    <a:pt x="8" y="929"/>
                  </a:lnTo>
                  <a:lnTo>
                    <a:pt x="0" y="897"/>
                  </a:lnTo>
                  <a:lnTo>
                    <a:pt x="0" y="849"/>
                  </a:lnTo>
                  <a:lnTo>
                    <a:pt x="8" y="817"/>
                  </a:lnTo>
                  <a:lnTo>
                    <a:pt x="16" y="793"/>
                  </a:lnTo>
                  <a:lnTo>
                    <a:pt x="41" y="745"/>
                  </a:lnTo>
                  <a:lnTo>
                    <a:pt x="57" y="697"/>
                  </a:lnTo>
                  <a:lnTo>
                    <a:pt x="65" y="689"/>
                  </a:lnTo>
                  <a:lnTo>
                    <a:pt x="113" y="640"/>
                  </a:lnTo>
                  <a:lnTo>
                    <a:pt x="113" y="632"/>
                  </a:lnTo>
                  <a:lnTo>
                    <a:pt x="145" y="584"/>
                  </a:lnTo>
                  <a:lnTo>
                    <a:pt x="161" y="528"/>
                  </a:lnTo>
                  <a:lnTo>
                    <a:pt x="169" y="520"/>
                  </a:lnTo>
                  <a:lnTo>
                    <a:pt x="185" y="480"/>
                  </a:lnTo>
                  <a:lnTo>
                    <a:pt x="217" y="432"/>
                  </a:lnTo>
                  <a:lnTo>
                    <a:pt x="217" y="424"/>
                  </a:lnTo>
                  <a:lnTo>
                    <a:pt x="241" y="376"/>
                  </a:lnTo>
                  <a:lnTo>
                    <a:pt x="265" y="320"/>
                  </a:lnTo>
                  <a:lnTo>
                    <a:pt x="273" y="320"/>
                  </a:lnTo>
                  <a:lnTo>
                    <a:pt x="289" y="272"/>
                  </a:lnTo>
                  <a:lnTo>
                    <a:pt x="313" y="216"/>
                  </a:lnTo>
                  <a:lnTo>
                    <a:pt x="321" y="208"/>
                  </a:lnTo>
                  <a:lnTo>
                    <a:pt x="361" y="168"/>
                  </a:lnTo>
                  <a:lnTo>
                    <a:pt x="377" y="152"/>
                  </a:lnTo>
                  <a:lnTo>
                    <a:pt x="409" y="112"/>
                  </a:lnTo>
                  <a:lnTo>
                    <a:pt x="425" y="96"/>
                  </a:lnTo>
                  <a:lnTo>
                    <a:pt x="457" y="64"/>
                  </a:lnTo>
                  <a:lnTo>
                    <a:pt x="481" y="48"/>
                  </a:lnTo>
                  <a:lnTo>
                    <a:pt x="529" y="24"/>
                  </a:lnTo>
                  <a:lnTo>
                    <a:pt x="569" y="8"/>
                  </a:lnTo>
                  <a:lnTo>
                    <a:pt x="585" y="8"/>
                  </a:lnTo>
                  <a:lnTo>
                    <a:pt x="633" y="0"/>
                  </a:lnTo>
                  <a:lnTo>
                    <a:pt x="689" y="0"/>
                  </a:lnTo>
                  <a:lnTo>
                    <a:pt x="697" y="8"/>
                  </a:lnTo>
                  <a:lnTo>
                    <a:pt x="737" y="48"/>
                  </a:lnTo>
                  <a:lnTo>
                    <a:pt x="761" y="64"/>
                  </a:lnTo>
                  <a:lnTo>
                    <a:pt x="793" y="96"/>
                  </a:lnTo>
                  <a:lnTo>
                    <a:pt x="793" y="9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94480" y="2315520"/>
              <a:ext cx="1449360" cy="1564920"/>
            </a:xfrm>
            <a:custGeom>
              <a:avLst/>
              <a:gdLst/>
              <a:ahLst/>
              <a:rect l="l" t="t" r="r" b="b"/>
              <a:pathLst>
                <a:path w="696" h="833">
                  <a:moveTo>
                    <a:pt x="656" y="64"/>
                  </a:moveTo>
                  <a:lnTo>
                    <a:pt x="664" y="64"/>
                  </a:lnTo>
                  <a:lnTo>
                    <a:pt x="688" y="120"/>
                  </a:lnTo>
                  <a:lnTo>
                    <a:pt x="696" y="168"/>
                  </a:lnTo>
                  <a:lnTo>
                    <a:pt x="696" y="224"/>
                  </a:lnTo>
                  <a:lnTo>
                    <a:pt x="672" y="272"/>
                  </a:lnTo>
                  <a:lnTo>
                    <a:pt x="656" y="296"/>
                  </a:lnTo>
                  <a:lnTo>
                    <a:pt x="648" y="328"/>
                  </a:lnTo>
                  <a:lnTo>
                    <a:pt x="616" y="376"/>
                  </a:lnTo>
                  <a:lnTo>
                    <a:pt x="608" y="392"/>
                  </a:lnTo>
                  <a:lnTo>
                    <a:pt x="568" y="432"/>
                  </a:lnTo>
                  <a:lnTo>
                    <a:pt x="552" y="456"/>
                  </a:lnTo>
                  <a:lnTo>
                    <a:pt x="528" y="480"/>
                  </a:lnTo>
                  <a:lnTo>
                    <a:pt x="504" y="512"/>
                  </a:lnTo>
                  <a:lnTo>
                    <a:pt x="472" y="536"/>
                  </a:lnTo>
                  <a:lnTo>
                    <a:pt x="448" y="560"/>
                  </a:lnTo>
                  <a:lnTo>
                    <a:pt x="408" y="592"/>
                  </a:lnTo>
                  <a:lnTo>
                    <a:pt x="400" y="601"/>
                  </a:lnTo>
                  <a:lnTo>
                    <a:pt x="344" y="601"/>
                  </a:lnTo>
                  <a:lnTo>
                    <a:pt x="296" y="633"/>
                  </a:lnTo>
                  <a:lnTo>
                    <a:pt x="256" y="641"/>
                  </a:lnTo>
                  <a:lnTo>
                    <a:pt x="240" y="641"/>
                  </a:lnTo>
                  <a:lnTo>
                    <a:pt x="192" y="657"/>
                  </a:lnTo>
                  <a:lnTo>
                    <a:pt x="144" y="697"/>
                  </a:lnTo>
                  <a:lnTo>
                    <a:pt x="136" y="737"/>
                  </a:lnTo>
                  <a:lnTo>
                    <a:pt x="136" y="745"/>
                  </a:lnTo>
                  <a:lnTo>
                    <a:pt x="88" y="793"/>
                  </a:lnTo>
                  <a:lnTo>
                    <a:pt x="80" y="801"/>
                  </a:lnTo>
                  <a:lnTo>
                    <a:pt x="32" y="833"/>
                  </a:lnTo>
                  <a:lnTo>
                    <a:pt x="0" y="801"/>
                  </a:lnTo>
                  <a:lnTo>
                    <a:pt x="0" y="745"/>
                  </a:lnTo>
                  <a:lnTo>
                    <a:pt x="16" y="697"/>
                  </a:lnTo>
                  <a:lnTo>
                    <a:pt x="32" y="673"/>
                  </a:lnTo>
                  <a:lnTo>
                    <a:pt x="88" y="657"/>
                  </a:lnTo>
                  <a:lnTo>
                    <a:pt x="104" y="641"/>
                  </a:lnTo>
                  <a:lnTo>
                    <a:pt x="120" y="592"/>
                  </a:lnTo>
                  <a:lnTo>
                    <a:pt x="128" y="536"/>
                  </a:lnTo>
                  <a:lnTo>
                    <a:pt x="136" y="512"/>
                  </a:lnTo>
                  <a:lnTo>
                    <a:pt x="144" y="480"/>
                  </a:lnTo>
                  <a:lnTo>
                    <a:pt x="160" y="432"/>
                  </a:lnTo>
                  <a:lnTo>
                    <a:pt x="184" y="376"/>
                  </a:lnTo>
                  <a:lnTo>
                    <a:pt x="192" y="360"/>
                  </a:lnTo>
                  <a:lnTo>
                    <a:pt x="192" y="328"/>
                  </a:lnTo>
                  <a:lnTo>
                    <a:pt x="208" y="272"/>
                  </a:lnTo>
                  <a:lnTo>
                    <a:pt x="232" y="224"/>
                  </a:lnTo>
                  <a:lnTo>
                    <a:pt x="240" y="200"/>
                  </a:lnTo>
                  <a:lnTo>
                    <a:pt x="272" y="168"/>
                  </a:lnTo>
                  <a:lnTo>
                    <a:pt x="296" y="144"/>
                  </a:lnTo>
                  <a:lnTo>
                    <a:pt x="320" y="120"/>
                  </a:lnTo>
                  <a:lnTo>
                    <a:pt x="344" y="96"/>
                  </a:lnTo>
                  <a:lnTo>
                    <a:pt x="368" y="64"/>
                  </a:lnTo>
                  <a:lnTo>
                    <a:pt x="400" y="40"/>
                  </a:lnTo>
                  <a:lnTo>
                    <a:pt x="448" y="16"/>
                  </a:lnTo>
                  <a:lnTo>
                    <a:pt x="448" y="16"/>
                  </a:lnTo>
                  <a:lnTo>
                    <a:pt x="504" y="0"/>
                  </a:lnTo>
                  <a:lnTo>
                    <a:pt x="552" y="0"/>
                  </a:lnTo>
                  <a:lnTo>
                    <a:pt x="608" y="0"/>
                  </a:lnTo>
                  <a:lnTo>
                    <a:pt x="624" y="16"/>
                  </a:lnTo>
                  <a:lnTo>
                    <a:pt x="656" y="64"/>
                  </a:lnTo>
                  <a:close/>
                </a:path>
              </a:pathLst>
            </a:custGeom>
            <a:solidFill>
              <a:srgbClr val="ff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94480" y="2315520"/>
              <a:ext cx="1449360" cy="1564920"/>
            </a:xfrm>
            <a:custGeom>
              <a:avLst/>
              <a:gdLst/>
              <a:ahLst/>
              <a:rect l="l" t="t" r="r" b="b"/>
              <a:pathLst>
                <a:path w="696" h="833">
                  <a:moveTo>
                    <a:pt x="656" y="64"/>
                  </a:moveTo>
                  <a:lnTo>
                    <a:pt x="664" y="64"/>
                  </a:lnTo>
                  <a:lnTo>
                    <a:pt x="688" y="120"/>
                  </a:lnTo>
                  <a:lnTo>
                    <a:pt x="696" y="168"/>
                  </a:lnTo>
                  <a:lnTo>
                    <a:pt x="696" y="224"/>
                  </a:lnTo>
                  <a:lnTo>
                    <a:pt x="672" y="272"/>
                  </a:lnTo>
                  <a:lnTo>
                    <a:pt x="656" y="296"/>
                  </a:lnTo>
                  <a:lnTo>
                    <a:pt x="648" y="328"/>
                  </a:lnTo>
                  <a:lnTo>
                    <a:pt x="616" y="376"/>
                  </a:lnTo>
                  <a:lnTo>
                    <a:pt x="608" y="392"/>
                  </a:lnTo>
                  <a:lnTo>
                    <a:pt x="568" y="432"/>
                  </a:lnTo>
                  <a:lnTo>
                    <a:pt x="552" y="456"/>
                  </a:lnTo>
                  <a:lnTo>
                    <a:pt x="528" y="480"/>
                  </a:lnTo>
                  <a:lnTo>
                    <a:pt x="504" y="512"/>
                  </a:lnTo>
                  <a:lnTo>
                    <a:pt x="472" y="536"/>
                  </a:lnTo>
                  <a:lnTo>
                    <a:pt x="448" y="560"/>
                  </a:lnTo>
                  <a:lnTo>
                    <a:pt x="408" y="592"/>
                  </a:lnTo>
                  <a:lnTo>
                    <a:pt x="400" y="601"/>
                  </a:lnTo>
                  <a:lnTo>
                    <a:pt x="344" y="601"/>
                  </a:lnTo>
                  <a:lnTo>
                    <a:pt x="296" y="633"/>
                  </a:lnTo>
                  <a:lnTo>
                    <a:pt x="256" y="641"/>
                  </a:lnTo>
                  <a:lnTo>
                    <a:pt x="240" y="641"/>
                  </a:lnTo>
                  <a:lnTo>
                    <a:pt x="192" y="657"/>
                  </a:lnTo>
                  <a:lnTo>
                    <a:pt x="144" y="697"/>
                  </a:lnTo>
                  <a:lnTo>
                    <a:pt x="136" y="737"/>
                  </a:lnTo>
                  <a:lnTo>
                    <a:pt x="136" y="745"/>
                  </a:lnTo>
                  <a:lnTo>
                    <a:pt x="88" y="793"/>
                  </a:lnTo>
                  <a:lnTo>
                    <a:pt x="80" y="801"/>
                  </a:lnTo>
                  <a:lnTo>
                    <a:pt x="32" y="833"/>
                  </a:lnTo>
                  <a:lnTo>
                    <a:pt x="0" y="801"/>
                  </a:lnTo>
                  <a:lnTo>
                    <a:pt x="0" y="745"/>
                  </a:lnTo>
                  <a:lnTo>
                    <a:pt x="16" y="697"/>
                  </a:lnTo>
                  <a:lnTo>
                    <a:pt x="32" y="673"/>
                  </a:lnTo>
                  <a:lnTo>
                    <a:pt x="88" y="657"/>
                  </a:lnTo>
                  <a:lnTo>
                    <a:pt x="104" y="641"/>
                  </a:lnTo>
                  <a:lnTo>
                    <a:pt x="120" y="592"/>
                  </a:lnTo>
                  <a:lnTo>
                    <a:pt x="128" y="536"/>
                  </a:lnTo>
                  <a:lnTo>
                    <a:pt x="136" y="512"/>
                  </a:lnTo>
                  <a:lnTo>
                    <a:pt x="144" y="480"/>
                  </a:lnTo>
                  <a:lnTo>
                    <a:pt x="160" y="432"/>
                  </a:lnTo>
                  <a:lnTo>
                    <a:pt x="184" y="376"/>
                  </a:lnTo>
                  <a:lnTo>
                    <a:pt x="192" y="360"/>
                  </a:lnTo>
                  <a:lnTo>
                    <a:pt x="192" y="328"/>
                  </a:lnTo>
                  <a:lnTo>
                    <a:pt x="208" y="272"/>
                  </a:lnTo>
                  <a:lnTo>
                    <a:pt x="232" y="224"/>
                  </a:lnTo>
                  <a:lnTo>
                    <a:pt x="240" y="200"/>
                  </a:lnTo>
                  <a:lnTo>
                    <a:pt x="272" y="168"/>
                  </a:lnTo>
                  <a:lnTo>
                    <a:pt x="296" y="144"/>
                  </a:lnTo>
                  <a:lnTo>
                    <a:pt x="320" y="120"/>
                  </a:lnTo>
                  <a:lnTo>
                    <a:pt x="344" y="96"/>
                  </a:lnTo>
                  <a:lnTo>
                    <a:pt x="368" y="64"/>
                  </a:lnTo>
                  <a:lnTo>
                    <a:pt x="400" y="40"/>
                  </a:lnTo>
                  <a:lnTo>
                    <a:pt x="448" y="16"/>
                  </a:lnTo>
                  <a:lnTo>
                    <a:pt x="448" y="16"/>
                  </a:lnTo>
                  <a:lnTo>
                    <a:pt x="504" y="0"/>
                  </a:lnTo>
                  <a:lnTo>
                    <a:pt x="552" y="0"/>
                  </a:lnTo>
                  <a:lnTo>
                    <a:pt x="608" y="0"/>
                  </a:lnTo>
                  <a:lnTo>
                    <a:pt x="624" y="16"/>
                  </a:lnTo>
                  <a:lnTo>
                    <a:pt x="656" y="64"/>
                  </a:lnTo>
                  <a:lnTo>
                    <a:pt x="656" y="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7920" y="2390400"/>
              <a:ext cx="948960" cy="99180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48" y="112"/>
                  </a:moveTo>
                  <a:lnTo>
                    <a:pt x="456" y="128"/>
                  </a:lnTo>
                  <a:lnTo>
                    <a:pt x="448" y="184"/>
                  </a:lnTo>
                  <a:lnTo>
                    <a:pt x="448" y="184"/>
                  </a:lnTo>
                  <a:lnTo>
                    <a:pt x="432" y="232"/>
                  </a:lnTo>
                  <a:lnTo>
                    <a:pt x="408" y="288"/>
                  </a:lnTo>
                  <a:lnTo>
                    <a:pt x="400" y="304"/>
                  </a:lnTo>
                  <a:lnTo>
                    <a:pt x="376" y="336"/>
                  </a:lnTo>
                  <a:lnTo>
                    <a:pt x="344" y="376"/>
                  </a:lnTo>
                  <a:lnTo>
                    <a:pt x="328" y="392"/>
                  </a:lnTo>
                  <a:lnTo>
                    <a:pt x="296" y="440"/>
                  </a:lnTo>
                  <a:lnTo>
                    <a:pt x="288" y="440"/>
                  </a:lnTo>
                  <a:lnTo>
                    <a:pt x="240" y="480"/>
                  </a:lnTo>
                  <a:lnTo>
                    <a:pt x="208" y="496"/>
                  </a:lnTo>
                  <a:lnTo>
                    <a:pt x="192" y="504"/>
                  </a:lnTo>
                  <a:lnTo>
                    <a:pt x="136" y="504"/>
                  </a:lnTo>
                  <a:lnTo>
                    <a:pt x="88" y="528"/>
                  </a:lnTo>
                  <a:lnTo>
                    <a:pt x="32" y="512"/>
                  </a:lnTo>
                  <a:lnTo>
                    <a:pt x="16" y="496"/>
                  </a:lnTo>
                  <a:lnTo>
                    <a:pt x="8" y="440"/>
                  </a:lnTo>
                  <a:lnTo>
                    <a:pt x="0" y="392"/>
                  </a:lnTo>
                  <a:lnTo>
                    <a:pt x="0" y="336"/>
                  </a:lnTo>
                  <a:lnTo>
                    <a:pt x="8" y="288"/>
                  </a:lnTo>
                  <a:lnTo>
                    <a:pt x="24" y="232"/>
                  </a:lnTo>
                  <a:lnTo>
                    <a:pt x="32" y="216"/>
                  </a:lnTo>
                  <a:lnTo>
                    <a:pt x="56" y="184"/>
                  </a:lnTo>
                  <a:lnTo>
                    <a:pt x="88" y="152"/>
                  </a:lnTo>
                  <a:lnTo>
                    <a:pt x="104" y="128"/>
                  </a:lnTo>
                  <a:lnTo>
                    <a:pt x="136" y="96"/>
                  </a:lnTo>
                  <a:lnTo>
                    <a:pt x="152" y="80"/>
                  </a:lnTo>
                  <a:lnTo>
                    <a:pt x="192" y="40"/>
                  </a:lnTo>
                  <a:lnTo>
                    <a:pt x="216" y="24"/>
                  </a:lnTo>
                  <a:lnTo>
                    <a:pt x="240" y="16"/>
                  </a:lnTo>
                  <a:lnTo>
                    <a:pt x="296" y="0"/>
                  </a:lnTo>
                  <a:lnTo>
                    <a:pt x="344" y="0"/>
                  </a:lnTo>
                  <a:lnTo>
                    <a:pt x="400" y="8"/>
                  </a:lnTo>
                  <a:lnTo>
                    <a:pt x="408" y="24"/>
                  </a:lnTo>
                  <a:lnTo>
                    <a:pt x="440" y="80"/>
                  </a:lnTo>
                  <a:lnTo>
                    <a:pt x="448" y="112"/>
                  </a:lnTo>
                  <a:close/>
                </a:path>
              </a:pathLst>
            </a:custGeom>
            <a:solidFill>
              <a:srgbClr val="ff2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27920" y="2390400"/>
              <a:ext cx="948960" cy="99180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48" y="112"/>
                  </a:moveTo>
                  <a:lnTo>
                    <a:pt x="456" y="128"/>
                  </a:lnTo>
                  <a:lnTo>
                    <a:pt x="448" y="184"/>
                  </a:lnTo>
                  <a:lnTo>
                    <a:pt x="448" y="184"/>
                  </a:lnTo>
                  <a:lnTo>
                    <a:pt x="432" y="232"/>
                  </a:lnTo>
                  <a:lnTo>
                    <a:pt x="408" y="288"/>
                  </a:lnTo>
                  <a:lnTo>
                    <a:pt x="400" y="304"/>
                  </a:lnTo>
                  <a:lnTo>
                    <a:pt x="376" y="336"/>
                  </a:lnTo>
                  <a:lnTo>
                    <a:pt x="344" y="376"/>
                  </a:lnTo>
                  <a:lnTo>
                    <a:pt x="328" y="392"/>
                  </a:lnTo>
                  <a:lnTo>
                    <a:pt x="296" y="440"/>
                  </a:lnTo>
                  <a:lnTo>
                    <a:pt x="288" y="440"/>
                  </a:lnTo>
                  <a:lnTo>
                    <a:pt x="240" y="480"/>
                  </a:lnTo>
                  <a:lnTo>
                    <a:pt x="208" y="496"/>
                  </a:lnTo>
                  <a:lnTo>
                    <a:pt x="192" y="504"/>
                  </a:lnTo>
                  <a:lnTo>
                    <a:pt x="136" y="504"/>
                  </a:lnTo>
                  <a:lnTo>
                    <a:pt x="88" y="528"/>
                  </a:lnTo>
                  <a:lnTo>
                    <a:pt x="32" y="512"/>
                  </a:lnTo>
                  <a:lnTo>
                    <a:pt x="16" y="496"/>
                  </a:lnTo>
                  <a:lnTo>
                    <a:pt x="8" y="440"/>
                  </a:lnTo>
                  <a:lnTo>
                    <a:pt x="0" y="392"/>
                  </a:lnTo>
                  <a:lnTo>
                    <a:pt x="0" y="336"/>
                  </a:lnTo>
                  <a:lnTo>
                    <a:pt x="8" y="288"/>
                  </a:lnTo>
                  <a:lnTo>
                    <a:pt x="24" y="232"/>
                  </a:lnTo>
                  <a:lnTo>
                    <a:pt x="32" y="216"/>
                  </a:lnTo>
                  <a:lnTo>
                    <a:pt x="56" y="184"/>
                  </a:lnTo>
                  <a:lnTo>
                    <a:pt x="88" y="152"/>
                  </a:lnTo>
                  <a:lnTo>
                    <a:pt x="104" y="128"/>
                  </a:lnTo>
                  <a:lnTo>
                    <a:pt x="136" y="96"/>
                  </a:lnTo>
                  <a:lnTo>
                    <a:pt x="152" y="80"/>
                  </a:lnTo>
                  <a:lnTo>
                    <a:pt x="192" y="40"/>
                  </a:lnTo>
                  <a:lnTo>
                    <a:pt x="216" y="24"/>
                  </a:lnTo>
                  <a:lnTo>
                    <a:pt x="240" y="16"/>
                  </a:lnTo>
                  <a:lnTo>
                    <a:pt x="296" y="0"/>
                  </a:lnTo>
                  <a:lnTo>
                    <a:pt x="344" y="0"/>
                  </a:lnTo>
                  <a:lnTo>
                    <a:pt x="400" y="8"/>
                  </a:lnTo>
                  <a:lnTo>
                    <a:pt x="408" y="24"/>
                  </a:lnTo>
                  <a:lnTo>
                    <a:pt x="440" y="80"/>
                  </a:lnTo>
                  <a:lnTo>
                    <a:pt x="448" y="112"/>
                  </a:lnTo>
                  <a:lnTo>
                    <a:pt x="448" y="11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94520" y="2450520"/>
              <a:ext cx="815760" cy="796680"/>
            </a:xfrm>
            <a:custGeom>
              <a:avLst/>
              <a:gdLst/>
              <a:ahLst/>
              <a:rect l="l" t="t" r="r" b="b"/>
              <a:pathLst>
                <a:path w="392" h="424">
                  <a:moveTo>
                    <a:pt x="368" y="40"/>
                  </a:moveTo>
                  <a:lnTo>
                    <a:pt x="376" y="48"/>
                  </a:lnTo>
                  <a:lnTo>
                    <a:pt x="392" y="96"/>
                  </a:lnTo>
                  <a:lnTo>
                    <a:pt x="384" y="152"/>
                  </a:lnTo>
                  <a:lnTo>
                    <a:pt x="376" y="200"/>
                  </a:lnTo>
                  <a:lnTo>
                    <a:pt x="368" y="224"/>
                  </a:lnTo>
                  <a:lnTo>
                    <a:pt x="344" y="256"/>
                  </a:lnTo>
                  <a:lnTo>
                    <a:pt x="312" y="304"/>
                  </a:lnTo>
                  <a:lnTo>
                    <a:pt x="304" y="304"/>
                  </a:lnTo>
                  <a:lnTo>
                    <a:pt x="264" y="360"/>
                  </a:lnTo>
                  <a:lnTo>
                    <a:pt x="264" y="368"/>
                  </a:lnTo>
                  <a:lnTo>
                    <a:pt x="208" y="408"/>
                  </a:lnTo>
                  <a:lnTo>
                    <a:pt x="200" y="408"/>
                  </a:lnTo>
                  <a:lnTo>
                    <a:pt x="160" y="424"/>
                  </a:lnTo>
                  <a:lnTo>
                    <a:pt x="104" y="416"/>
                  </a:lnTo>
                  <a:lnTo>
                    <a:pt x="56" y="416"/>
                  </a:lnTo>
                  <a:lnTo>
                    <a:pt x="48" y="408"/>
                  </a:lnTo>
                  <a:lnTo>
                    <a:pt x="16" y="360"/>
                  </a:lnTo>
                  <a:lnTo>
                    <a:pt x="0" y="304"/>
                  </a:lnTo>
                  <a:lnTo>
                    <a:pt x="8" y="256"/>
                  </a:lnTo>
                  <a:lnTo>
                    <a:pt x="32" y="200"/>
                  </a:lnTo>
                  <a:lnTo>
                    <a:pt x="56" y="184"/>
                  </a:lnTo>
                  <a:lnTo>
                    <a:pt x="64" y="152"/>
                  </a:lnTo>
                  <a:lnTo>
                    <a:pt x="104" y="104"/>
                  </a:lnTo>
                  <a:lnTo>
                    <a:pt x="104" y="96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208" y="16"/>
                  </a:lnTo>
                  <a:lnTo>
                    <a:pt x="264" y="0"/>
                  </a:lnTo>
                  <a:lnTo>
                    <a:pt x="312" y="8"/>
                  </a:lnTo>
                  <a:lnTo>
                    <a:pt x="368" y="40"/>
                  </a:lnTo>
                  <a:close/>
                </a:path>
              </a:pathLst>
            </a:custGeom>
            <a:solidFill>
              <a:srgbClr val="f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94520" y="2450520"/>
              <a:ext cx="815760" cy="796680"/>
            </a:xfrm>
            <a:custGeom>
              <a:avLst/>
              <a:gdLst/>
              <a:ahLst/>
              <a:rect l="l" t="t" r="r" b="b"/>
              <a:pathLst>
                <a:path w="392" h="424">
                  <a:moveTo>
                    <a:pt x="368" y="40"/>
                  </a:moveTo>
                  <a:lnTo>
                    <a:pt x="376" y="48"/>
                  </a:lnTo>
                  <a:lnTo>
                    <a:pt x="392" y="96"/>
                  </a:lnTo>
                  <a:lnTo>
                    <a:pt x="384" y="152"/>
                  </a:lnTo>
                  <a:lnTo>
                    <a:pt x="376" y="200"/>
                  </a:lnTo>
                  <a:lnTo>
                    <a:pt x="368" y="224"/>
                  </a:lnTo>
                  <a:lnTo>
                    <a:pt x="344" y="256"/>
                  </a:lnTo>
                  <a:lnTo>
                    <a:pt x="312" y="304"/>
                  </a:lnTo>
                  <a:lnTo>
                    <a:pt x="304" y="304"/>
                  </a:lnTo>
                  <a:lnTo>
                    <a:pt x="264" y="360"/>
                  </a:lnTo>
                  <a:lnTo>
                    <a:pt x="264" y="368"/>
                  </a:lnTo>
                  <a:lnTo>
                    <a:pt x="208" y="408"/>
                  </a:lnTo>
                  <a:lnTo>
                    <a:pt x="200" y="408"/>
                  </a:lnTo>
                  <a:lnTo>
                    <a:pt x="160" y="424"/>
                  </a:lnTo>
                  <a:lnTo>
                    <a:pt x="104" y="416"/>
                  </a:lnTo>
                  <a:lnTo>
                    <a:pt x="56" y="416"/>
                  </a:lnTo>
                  <a:lnTo>
                    <a:pt x="48" y="408"/>
                  </a:lnTo>
                  <a:lnTo>
                    <a:pt x="16" y="360"/>
                  </a:lnTo>
                  <a:lnTo>
                    <a:pt x="0" y="304"/>
                  </a:lnTo>
                  <a:lnTo>
                    <a:pt x="8" y="256"/>
                  </a:lnTo>
                  <a:lnTo>
                    <a:pt x="32" y="200"/>
                  </a:lnTo>
                  <a:lnTo>
                    <a:pt x="56" y="184"/>
                  </a:lnTo>
                  <a:lnTo>
                    <a:pt x="64" y="152"/>
                  </a:lnTo>
                  <a:lnTo>
                    <a:pt x="104" y="104"/>
                  </a:lnTo>
                  <a:lnTo>
                    <a:pt x="104" y="96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208" y="16"/>
                  </a:lnTo>
                  <a:lnTo>
                    <a:pt x="264" y="0"/>
                  </a:lnTo>
                  <a:lnTo>
                    <a:pt x="312" y="8"/>
                  </a:lnTo>
                  <a:lnTo>
                    <a:pt x="368" y="40"/>
                  </a:lnTo>
                  <a:lnTo>
                    <a:pt x="368" y="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27720" y="2526120"/>
              <a:ext cx="599400" cy="615960"/>
            </a:xfrm>
            <a:custGeom>
              <a:avLst/>
              <a:gdLst/>
              <a:ahLst/>
              <a:rect l="l" t="t" r="r" b="b"/>
              <a:pathLst>
                <a:path w="288" h="328">
                  <a:moveTo>
                    <a:pt x="248" y="24"/>
                  </a:moveTo>
                  <a:lnTo>
                    <a:pt x="288" y="56"/>
                  </a:lnTo>
                  <a:lnTo>
                    <a:pt x="288" y="112"/>
                  </a:lnTo>
                  <a:lnTo>
                    <a:pt x="280" y="160"/>
                  </a:lnTo>
                  <a:lnTo>
                    <a:pt x="248" y="216"/>
                  </a:lnTo>
                  <a:lnTo>
                    <a:pt x="248" y="216"/>
                  </a:lnTo>
                  <a:lnTo>
                    <a:pt x="208" y="264"/>
                  </a:lnTo>
                  <a:lnTo>
                    <a:pt x="200" y="280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96" y="328"/>
                  </a:lnTo>
                  <a:lnTo>
                    <a:pt x="40" y="320"/>
                  </a:lnTo>
                  <a:lnTo>
                    <a:pt x="40" y="320"/>
                  </a:lnTo>
                  <a:lnTo>
                    <a:pt x="8" y="264"/>
                  </a:lnTo>
                  <a:lnTo>
                    <a:pt x="0" y="216"/>
                  </a:lnTo>
                  <a:lnTo>
                    <a:pt x="8" y="160"/>
                  </a:lnTo>
                  <a:lnTo>
                    <a:pt x="40" y="112"/>
                  </a:lnTo>
                  <a:lnTo>
                    <a:pt x="40" y="104"/>
                  </a:lnTo>
                  <a:lnTo>
                    <a:pt x="88" y="56"/>
                  </a:lnTo>
                  <a:lnTo>
                    <a:pt x="96" y="48"/>
                  </a:lnTo>
                  <a:lnTo>
                    <a:pt x="144" y="16"/>
                  </a:lnTo>
                  <a:lnTo>
                    <a:pt x="176" y="8"/>
                  </a:lnTo>
                  <a:lnTo>
                    <a:pt x="200" y="0"/>
                  </a:lnTo>
                  <a:lnTo>
                    <a:pt x="224" y="8"/>
                  </a:lnTo>
                  <a:lnTo>
                    <a:pt x="248" y="2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27720" y="2526120"/>
              <a:ext cx="599400" cy="615960"/>
            </a:xfrm>
            <a:custGeom>
              <a:avLst/>
              <a:gdLst/>
              <a:ahLst/>
              <a:rect l="l" t="t" r="r" b="b"/>
              <a:pathLst>
                <a:path w="288" h="328">
                  <a:moveTo>
                    <a:pt x="248" y="24"/>
                  </a:moveTo>
                  <a:lnTo>
                    <a:pt x="288" y="56"/>
                  </a:lnTo>
                  <a:lnTo>
                    <a:pt x="288" y="112"/>
                  </a:lnTo>
                  <a:lnTo>
                    <a:pt x="280" y="160"/>
                  </a:lnTo>
                  <a:lnTo>
                    <a:pt x="248" y="216"/>
                  </a:lnTo>
                  <a:lnTo>
                    <a:pt x="248" y="216"/>
                  </a:lnTo>
                  <a:lnTo>
                    <a:pt x="208" y="264"/>
                  </a:lnTo>
                  <a:lnTo>
                    <a:pt x="200" y="280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96" y="328"/>
                  </a:lnTo>
                  <a:lnTo>
                    <a:pt x="40" y="320"/>
                  </a:lnTo>
                  <a:lnTo>
                    <a:pt x="40" y="320"/>
                  </a:lnTo>
                  <a:lnTo>
                    <a:pt x="8" y="264"/>
                  </a:lnTo>
                  <a:lnTo>
                    <a:pt x="0" y="216"/>
                  </a:lnTo>
                  <a:lnTo>
                    <a:pt x="8" y="160"/>
                  </a:lnTo>
                  <a:lnTo>
                    <a:pt x="40" y="112"/>
                  </a:lnTo>
                  <a:lnTo>
                    <a:pt x="40" y="104"/>
                  </a:lnTo>
                  <a:lnTo>
                    <a:pt x="88" y="56"/>
                  </a:lnTo>
                  <a:lnTo>
                    <a:pt x="96" y="48"/>
                  </a:lnTo>
                  <a:lnTo>
                    <a:pt x="144" y="16"/>
                  </a:lnTo>
                  <a:lnTo>
                    <a:pt x="176" y="8"/>
                  </a:lnTo>
                  <a:lnTo>
                    <a:pt x="200" y="0"/>
                  </a:lnTo>
                  <a:lnTo>
                    <a:pt x="224" y="8"/>
                  </a:lnTo>
                  <a:lnTo>
                    <a:pt x="248" y="24"/>
                  </a:lnTo>
                  <a:lnTo>
                    <a:pt x="248" y="2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94320" y="2616120"/>
              <a:ext cx="432720" cy="406080"/>
            </a:xfrm>
            <a:custGeom>
              <a:avLst/>
              <a:gdLst/>
              <a:ahLst/>
              <a:rect l="l" t="t" r="r" b="b"/>
              <a:pathLst>
                <a:path w="208" h="216">
                  <a:moveTo>
                    <a:pt x="168" y="0"/>
                  </a:moveTo>
                  <a:lnTo>
                    <a:pt x="176" y="8"/>
                  </a:lnTo>
                  <a:lnTo>
                    <a:pt x="208" y="64"/>
                  </a:lnTo>
                  <a:lnTo>
                    <a:pt x="192" y="112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12" y="216"/>
                  </a:lnTo>
                  <a:lnTo>
                    <a:pt x="64" y="216"/>
                  </a:lnTo>
                  <a:lnTo>
                    <a:pt x="8" y="200"/>
                  </a:lnTo>
                  <a:lnTo>
                    <a:pt x="0" y="168"/>
                  </a:lnTo>
                  <a:lnTo>
                    <a:pt x="8" y="128"/>
                  </a:lnTo>
                  <a:lnTo>
                    <a:pt x="16" y="112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112" y="16"/>
                  </a:lnTo>
                  <a:lnTo>
                    <a:pt x="120" y="8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8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94320" y="2616120"/>
              <a:ext cx="432720" cy="406080"/>
            </a:xfrm>
            <a:custGeom>
              <a:avLst/>
              <a:gdLst/>
              <a:ahLst/>
              <a:rect l="l" t="t" r="r" b="b"/>
              <a:pathLst>
                <a:path w="208" h="216">
                  <a:moveTo>
                    <a:pt x="168" y="0"/>
                  </a:moveTo>
                  <a:lnTo>
                    <a:pt x="176" y="8"/>
                  </a:lnTo>
                  <a:lnTo>
                    <a:pt x="208" y="64"/>
                  </a:lnTo>
                  <a:lnTo>
                    <a:pt x="192" y="112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12" y="216"/>
                  </a:lnTo>
                  <a:lnTo>
                    <a:pt x="64" y="216"/>
                  </a:lnTo>
                  <a:lnTo>
                    <a:pt x="8" y="200"/>
                  </a:lnTo>
                  <a:lnTo>
                    <a:pt x="0" y="168"/>
                  </a:lnTo>
                  <a:lnTo>
                    <a:pt x="8" y="128"/>
                  </a:lnTo>
                  <a:lnTo>
                    <a:pt x="16" y="112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112" y="16"/>
                  </a:lnTo>
                  <a:lnTo>
                    <a:pt x="120" y="8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27600" y="2826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01960" y="6216480"/>
              <a:ext cx="182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ident Energy [eV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-809280" y="3237480"/>
              <a:ext cx="187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y Transfer [eV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fe2q.r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676520"/>
            <a:ext cx="1280160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2 -9    2   10  1.0    5.E-06    1.E-09-2   130   1.0  0.65  0.0 0.50 0.0  0.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6     Fe2+ 1S02 3D06         1S02 3D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6     Fe2+ 1S01 3D07         1S01 3D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fe2q.r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676520"/>
            <a:ext cx="12801600" cy="28382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14    2    4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    2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SHELL0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00000 SPIN00000000 INTER8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1 8065.4790 .00       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 2  D 6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S 1  D 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e2+ 1S02 3D06     4    0.0000   10.9661    6.8151    0.0002    0.0000HR9999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e2+ 1S01 3D07     5    0.0000   11.6801    7.2581    0.0002    0.0584HR9999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fe2q.rac (matrix e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676520"/>
            <a:ext cx="12801600" cy="1923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2+ plan2       transi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PRINTTRANS 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+ &gt; 0 2+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^1+ plan1       transi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PRINTTRANS 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anch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+ &gt; 0 ^1+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.0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6484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V="1">
            <a:off x="3200400" y="2514240"/>
            <a:ext cx="685800" cy="342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 Fluorescence Lin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7880400" y="300132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610480" y="12949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6095880"/>
            <a:ext cx="914400" cy="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438280"/>
            <a:ext cx="4267080" cy="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14840" y="245736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2457360"/>
            <a:ext cx="0" cy="1981440"/>
          </a:xfrm>
          <a:prstGeom prst="line">
            <a:avLst/>
          </a:prstGeom>
          <a:ln w="28440">
            <a:solidFill>
              <a:srgbClr val="fa4e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2457360"/>
            <a:ext cx="0" cy="32004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733920"/>
            <a:ext cx="1295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4572000"/>
            <a:ext cx="1295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1895400"/>
            <a:ext cx="1295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334120"/>
            <a:ext cx="1981080" cy="459720"/>
          </a:xfrm>
          <a:prstGeom prst="rect">
            <a:avLst/>
          </a:prstGeom>
          <a:solidFill>
            <a:srgbClr val="ffff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H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5715000"/>
            <a:ext cx="1981080" cy="459720"/>
          </a:xfrm>
          <a:prstGeom prst="rect">
            <a:avLst/>
          </a:prstGeom>
          <a:solidFill>
            <a:srgbClr val="ffff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ence h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71880" y="4329000"/>
            <a:ext cx="216828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18288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i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3581280" cy="270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351680" y="2711520"/>
            <a:ext cx="510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26200" y="2724120"/>
            <a:ext cx="1412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59880" y="2712960"/>
            <a:ext cx="12124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5943600"/>
            <a:ext cx="1295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3720" y="54086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22800" y="5041800"/>
            <a:ext cx="0" cy="2890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18080" y="4195800"/>
            <a:ext cx="0" cy="11350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2716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Copy of Fe_Kpredges_IIa" descr=""/>
          <p:cNvPicPr/>
          <p:nvPr/>
        </p:nvPicPr>
        <p:blipFill>
          <a:blip r:embed="rId1"/>
          <a:srcRect l="0" t="0" r="2295" b="75430"/>
          <a:stretch/>
        </p:blipFill>
        <p:spPr>
          <a:xfrm>
            <a:off x="0" y="1828800"/>
            <a:ext cx="9144000" cy="43736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rcRect l="49422" t="0" r="0" b="53974"/>
          <a:stretch/>
        </p:blipFill>
        <p:spPr>
          <a:xfrm>
            <a:off x="5181480" y="533520"/>
            <a:ext cx="3962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7160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Copy of Fe_Kpredges_IIa" descr=""/>
          <p:cNvPicPr/>
          <p:nvPr/>
        </p:nvPicPr>
        <p:blipFill>
          <a:blip r:embed="rId1"/>
          <a:srcRect l="0" t="0" r="2295" b="75430"/>
          <a:stretch/>
        </p:blipFill>
        <p:spPr>
          <a:xfrm>
            <a:off x="0" y="1828800"/>
            <a:ext cx="9144000" cy="43736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, K pre-e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rcRect l="0" t="0" r="13548" b="0"/>
          <a:stretch/>
        </p:blipFill>
        <p:spPr>
          <a:xfrm>
            <a:off x="0" y="1695600"/>
            <a:ext cx="540216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rcRect l="19710" t="0" r="19710" b="0"/>
          <a:stretch/>
        </p:blipFill>
        <p:spPr>
          <a:xfrm>
            <a:off x="685800" y="457200"/>
            <a:ext cx="7386480" cy="59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rcRect l="22174" t="0" r="24638" b="0"/>
          <a:stretch/>
        </p:blipFill>
        <p:spPr>
          <a:xfrm>
            <a:off x="1066680" y="304920"/>
            <a:ext cx="6629400" cy="60847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2p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5956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0" y="762120"/>
                <a:ext cx="91440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ω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894120" y="-2286000"/>
            <a:ext cx="5249880" cy="88390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4952880" cy="2143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52280" y="5562720"/>
            <a:ext cx="441972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Buto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 110, 213 (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1a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696080" cy="56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ioxx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Sec9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7238880" cy="51544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6575040" y="5486400"/>
            <a:ext cx="23324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3, 7099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Resonant Inelastic X-ray Scat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880" y="1260720"/>
            <a:ext cx="3586680" cy="64872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p3s RIXS of CaF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04920" y="2362320"/>
            <a:ext cx="1526400" cy="3886200"/>
            <a:chOff x="304920" y="2362320"/>
            <a:chExt cx="1526400" cy="3886200"/>
          </a:xfrm>
        </p:grpSpPr>
        <p:sp>
          <p:nvSpPr>
            <p:cNvPr id="404" name=""/>
            <p:cNvSpPr/>
            <p:nvPr/>
          </p:nvSpPr>
          <p:spPr>
            <a:xfrm>
              <a:off x="457200" y="2514600"/>
              <a:ext cx="914400" cy="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32840" y="2514600"/>
              <a:ext cx="63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8080" y="2666880"/>
              <a:ext cx="0" cy="533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0880" y="41148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0880" y="419112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8000" y="297180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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8080" y="4267080"/>
              <a:ext cx="0" cy="914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98560" y="4156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18720" y="45720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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533412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7200" y="56386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9240" y="5689440"/>
              <a:ext cx="10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3s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3d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040" y="3657600"/>
              <a:ext cx="108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2p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5</a:t>
              </a: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3d</a:t>
              </a:r>
              <a:r>
                <a:rPr b="1" lang="en-US" sz="2400" spc="-1" strike="noStrike" baseline="30000">
                  <a:solidFill>
                    <a:srgbClr val="66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2362320"/>
              <a:ext cx="1523880" cy="3886200"/>
            </a:xfrm>
            <a:prstGeom prst="rect">
              <a:avLst/>
            </a:prstGeom>
            <a:noFill/>
            <a:ln cap="sq" w="38160">
              <a:solidFill>
                <a:srgbClr val="571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880" y="36576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880" y="35812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0880" y="350532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33526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880" y="34290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" y="541008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7200" y="5715000"/>
              <a:ext cx="914400" cy="0"/>
            </a:xfrm>
            <a:prstGeom prst="line">
              <a:avLst/>
            </a:prstGeom>
            <a:ln cap="sq"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85800"/>
            <a:ext cx="914400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= &lt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niox2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510160"/>
          </a:xfrm>
          <a:prstGeom prst="rect">
            <a:avLst/>
          </a:prstGeom>
          <a:ln w="0">
            <a:noFill/>
          </a:ln>
        </p:spPr>
      </p:pic>
      <p:pic>
        <p:nvPicPr>
          <p:cNvPr id="426" name="niox3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508720"/>
          </a:xfrm>
          <a:prstGeom prst="rect">
            <a:avLst/>
          </a:prstGeom>
          <a:ln w="0">
            <a:noFill/>
          </a:ln>
        </p:spPr>
      </p:pic>
      <p:pic>
        <p:nvPicPr>
          <p:cNvPr id="427" name="niox4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5508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0066cc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[</a:t>
            </a:r>
            <a:r>
              <a:rPr b="0" lang="en-US" sz="3600" spc="-1" strike="noStrike">
                <a:solidFill>
                  <a:srgbClr val="0066cc"/>
                </a:solidFill>
                <a:latin typeface="Symbol"/>
                <a:ea typeface="Symbol"/>
              </a:rPr>
              <a:t>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]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p</a:t>
            </a:r>
            <a:r>
              <a:rPr b="0" lang="en-US" sz="3600" spc="-1" strike="noStrike" baseline="30000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33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[jj]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[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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 and magne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85800"/>
            <a:ext cx="8305920" cy="54039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423120" y="533412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7, 14584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02560" y="83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9144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pin-f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153280" y="3886200"/>
            <a:ext cx="0" cy="609480"/>
          </a:xfrm>
          <a:prstGeom prst="line">
            <a:avLst/>
          </a:prstGeom>
          <a:ln cap="sq"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381880" y="3886200"/>
            <a:ext cx="0" cy="609480"/>
          </a:xfrm>
          <a:prstGeom prst="line">
            <a:avLst/>
          </a:prstGeom>
          <a:ln cap="sq"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53280" y="2362320"/>
            <a:ext cx="0" cy="609480"/>
          </a:xfrm>
          <a:prstGeom prst="line">
            <a:avLst/>
          </a:prstGeom>
          <a:ln cap="sq" w="572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381880" y="2438280"/>
            <a:ext cx="0" cy="60984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91440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in-fli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31120" y="533520"/>
            <a:ext cx="64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97440" y="5335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20" y="5942880"/>
            <a:ext cx="3409920" cy="581400"/>
          </a:xfrm>
          <a:prstGeom prst="rect">
            <a:avLst/>
          </a:prstGeom>
          <a:solidFill>
            <a:srgbClr val="9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p3d RIXS of 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46320" y="927000"/>
            <a:ext cx="3078360" cy="4322880"/>
          </a:xfrm>
          <a:custGeom>
            <a:avLst/>
            <a:gdLst/>
            <a:ahLst/>
            <a:rect l="l" t="t" r="r" b="b"/>
            <a:pathLst>
              <a:path w="1939" h="2723">
                <a:moveTo>
                  <a:pt x="1921" y="0"/>
                </a:moveTo>
                <a:cubicBezTo>
                  <a:pt x="1939" y="73"/>
                  <a:pt x="1930" y="24"/>
                  <a:pt x="1921" y="160"/>
                </a:cubicBezTo>
                <a:cubicBezTo>
                  <a:pt x="1914" y="264"/>
                  <a:pt x="1903" y="379"/>
                  <a:pt x="1873" y="480"/>
                </a:cubicBezTo>
                <a:cubicBezTo>
                  <a:pt x="1860" y="524"/>
                  <a:pt x="1843" y="560"/>
                  <a:pt x="1825" y="600"/>
                </a:cubicBezTo>
                <a:cubicBezTo>
                  <a:pt x="1797" y="663"/>
                  <a:pt x="1783" y="735"/>
                  <a:pt x="1761" y="800"/>
                </a:cubicBezTo>
                <a:cubicBezTo>
                  <a:pt x="1736" y="874"/>
                  <a:pt x="1696" y="901"/>
                  <a:pt x="1633" y="936"/>
                </a:cubicBezTo>
                <a:cubicBezTo>
                  <a:pt x="1616" y="945"/>
                  <a:pt x="1601" y="957"/>
                  <a:pt x="1585" y="968"/>
                </a:cubicBezTo>
                <a:cubicBezTo>
                  <a:pt x="1577" y="973"/>
                  <a:pt x="1561" y="984"/>
                  <a:pt x="1561" y="984"/>
                </a:cubicBezTo>
                <a:cubicBezTo>
                  <a:pt x="1556" y="992"/>
                  <a:pt x="1552" y="1001"/>
                  <a:pt x="1545" y="1008"/>
                </a:cubicBezTo>
                <a:cubicBezTo>
                  <a:pt x="1538" y="1015"/>
                  <a:pt x="1527" y="1016"/>
                  <a:pt x="1521" y="1024"/>
                </a:cubicBezTo>
                <a:cubicBezTo>
                  <a:pt x="1512" y="1036"/>
                  <a:pt x="1494" y="1080"/>
                  <a:pt x="1489" y="1096"/>
                </a:cubicBezTo>
                <a:cubicBezTo>
                  <a:pt x="1502" y="1135"/>
                  <a:pt x="1520" y="1162"/>
                  <a:pt x="1553" y="1184"/>
                </a:cubicBezTo>
                <a:cubicBezTo>
                  <a:pt x="1596" y="1248"/>
                  <a:pt x="1540" y="1171"/>
                  <a:pt x="1593" y="1224"/>
                </a:cubicBezTo>
                <a:cubicBezTo>
                  <a:pt x="1618" y="1249"/>
                  <a:pt x="1622" y="1288"/>
                  <a:pt x="1633" y="1320"/>
                </a:cubicBezTo>
                <a:cubicBezTo>
                  <a:pt x="1641" y="1344"/>
                  <a:pt x="1649" y="1368"/>
                  <a:pt x="1657" y="1392"/>
                </a:cubicBezTo>
                <a:cubicBezTo>
                  <a:pt x="1660" y="1400"/>
                  <a:pt x="1665" y="1416"/>
                  <a:pt x="1665" y="1416"/>
                </a:cubicBezTo>
                <a:cubicBezTo>
                  <a:pt x="1650" y="1518"/>
                  <a:pt x="1641" y="1656"/>
                  <a:pt x="1545" y="1720"/>
                </a:cubicBezTo>
                <a:cubicBezTo>
                  <a:pt x="1512" y="1769"/>
                  <a:pt x="1462" y="1790"/>
                  <a:pt x="1409" y="1808"/>
                </a:cubicBezTo>
                <a:cubicBezTo>
                  <a:pt x="1393" y="1813"/>
                  <a:pt x="1375" y="1815"/>
                  <a:pt x="1361" y="1824"/>
                </a:cubicBezTo>
                <a:cubicBezTo>
                  <a:pt x="1300" y="1865"/>
                  <a:pt x="1217" y="1881"/>
                  <a:pt x="1145" y="1896"/>
                </a:cubicBezTo>
                <a:cubicBezTo>
                  <a:pt x="1086" y="1909"/>
                  <a:pt x="1027" y="1925"/>
                  <a:pt x="969" y="1944"/>
                </a:cubicBezTo>
                <a:cubicBezTo>
                  <a:pt x="962" y="1946"/>
                  <a:pt x="851" y="1960"/>
                  <a:pt x="849" y="1960"/>
                </a:cubicBezTo>
                <a:cubicBezTo>
                  <a:pt x="756" y="1973"/>
                  <a:pt x="662" y="1982"/>
                  <a:pt x="569" y="1992"/>
                </a:cubicBezTo>
                <a:cubicBezTo>
                  <a:pt x="449" y="2032"/>
                  <a:pt x="324" y="2047"/>
                  <a:pt x="201" y="2072"/>
                </a:cubicBezTo>
                <a:cubicBezTo>
                  <a:pt x="151" y="2082"/>
                  <a:pt x="135" y="2089"/>
                  <a:pt x="89" y="2104"/>
                </a:cubicBezTo>
                <a:cubicBezTo>
                  <a:pt x="73" y="2109"/>
                  <a:pt x="41" y="2120"/>
                  <a:pt x="41" y="2120"/>
                </a:cubicBezTo>
                <a:cubicBezTo>
                  <a:pt x="32" y="2134"/>
                  <a:pt x="0" y="2174"/>
                  <a:pt x="25" y="2192"/>
                </a:cubicBezTo>
                <a:cubicBezTo>
                  <a:pt x="25" y="2192"/>
                  <a:pt x="85" y="2212"/>
                  <a:pt x="97" y="2216"/>
                </a:cubicBezTo>
                <a:cubicBezTo>
                  <a:pt x="140" y="2230"/>
                  <a:pt x="196" y="2261"/>
                  <a:pt x="241" y="2264"/>
                </a:cubicBezTo>
                <a:cubicBezTo>
                  <a:pt x="281" y="2267"/>
                  <a:pt x="321" y="2269"/>
                  <a:pt x="361" y="2272"/>
                </a:cubicBezTo>
                <a:cubicBezTo>
                  <a:pt x="492" y="2294"/>
                  <a:pt x="609" y="2299"/>
                  <a:pt x="745" y="2304"/>
                </a:cubicBezTo>
                <a:cubicBezTo>
                  <a:pt x="840" y="2315"/>
                  <a:pt x="931" y="2350"/>
                  <a:pt x="1025" y="2360"/>
                </a:cubicBezTo>
                <a:cubicBezTo>
                  <a:pt x="1129" y="2372"/>
                  <a:pt x="1073" y="2366"/>
                  <a:pt x="1193" y="2376"/>
                </a:cubicBezTo>
                <a:cubicBezTo>
                  <a:pt x="1304" y="2413"/>
                  <a:pt x="1418" y="2443"/>
                  <a:pt x="1529" y="2480"/>
                </a:cubicBezTo>
                <a:cubicBezTo>
                  <a:pt x="1561" y="2491"/>
                  <a:pt x="1593" y="2501"/>
                  <a:pt x="1625" y="2512"/>
                </a:cubicBezTo>
                <a:cubicBezTo>
                  <a:pt x="1643" y="2518"/>
                  <a:pt x="1673" y="2544"/>
                  <a:pt x="1673" y="2544"/>
                </a:cubicBezTo>
                <a:cubicBezTo>
                  <a:pt x="1698" y="2582"/>
                  <a:pt x="1709" y="2608"/>
                  <a:pt x="1745" y="2632"/>
                </a:cubicBezTo>
                <a:cubicBezTo>
                  <a:pt x="1762" y="2658"/>
                  <a:pt x="1787" y="2668"/>
                  <a:pt x="1801" y="2696"/>
                </a:cubicBezTo>
                <a:cubicBezTo>
                  <a:pt x="1814" y="2723"/>
                  <a:pt x="1799" y="2720"/>
                  <a:pt x="1817" y="2720"/>
                </a:cubicBezTo>
              </a:path>
            </a:pathLst>
          </a:custGeom>
          <a:noFill/>
          <a:ln cap="sq" w="507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54fe"/>
                </a:solidFill>
                <a:latin typeface="Arial"/>
              </a:rPr>
              <a:t>Soft x-ray RIXS and magne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r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676520"/>
            <a:ext cx="11430000" cy="11912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2 -9    2   10  1.0    5.E-06    1.E-09-2   130   1.0  0.65 99.0 0.50 0.0  0.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28     Ni2+ 1S01 3D08         1S01 3D0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28     Ni2+ 3P05 3D08         3P05 3D08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r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11430000" cy="3111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14    4    4    1    1 SHELL00300000 SPIN00000000 INTER8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1  P 6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2  P 5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5     .0000   13.9531    8.7121     .0002     .0804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Ni2+ 3P05 3D08     8 8275.0040   13.3171    8.3201    1.3972     .0922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14.3333   17.7164   10.7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 Ni2+ 3P05 3D08          .01256( 3P//R1// 1S)  .955HR  14 -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r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2286000" y="1676520"/>
            <a:ext cx="11430000" cy="3202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14    4    4    1    1 SHELL00300000 SPIN00000000 INTER8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1  P 6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 2  P 5  D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5     .0000   13.9531    8.7121     .0002  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.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Courier New"/>
                <a:ea typeface="MS Mincho"/>
              </a:rPr>
              <a:t>0804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Ni2+ 3P05 3D08     8 8275.0040   13.3171    8.3201    1.3972     .0922HR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3300"/>
                </a:solidFill>
                <a:latin typeface="Courier New"/>
                <a:ea typeface="MS Mincho"/>
              </a:rPr>
              <a:t>14.3333   17.7164   10.7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1S01 3D08      Ni2+ 3P05 3D08          .01256( 3P//R1// 1S)  .955HR  14 -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676520"/>
            <a:ext cx="11430000" cy="10087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IGVAL -1.601465 -0.895388 -0.856988  0.906233  0.922287  0.96068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EIGVAL -2.599537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-1.601465 -1.601465 -1.563065 -0.895388 -0.89538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EIGVAL -2.561137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-1.601465 -1.563065 -0.895388  0.510307  0.922287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ni2kb.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676520"/>
            <a:ext cx="11430000" cy="3448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 energy -2.56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SPIN-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energy -2.56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addlines energy -2.56114 scale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  <a:ea typeface="MS Mincho"/>
              </a:rPr>
              <a:t>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1s3p X-ray e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1:44:53Z</dcterms:created>
  <dc:creator>F.M.F. de Groot</dc:creator>
  <dc:description/>
  <dc:language>en-US</dc:language>
  <cp:lastModifiedBy>Inorganic Chemistry</cp:lastModifiedBy>
  <cp:lastPrinted>2002-05-19T12:46:17Z</cp:lastPrinted>
  <dcterms:modified xsi:type="dcterms:W3CDTF">2007-02-14T13:53:23Z</dcterms:modified>
  <cp:revision>312</cp:revision>
  <dc:subject/>
  <dc:title>The Local Electronic Structure  of Transition Metal Ions  in Solid Catalys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